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4636D-9939-42AB-B0C0-825E8EF90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8360" y="402948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AC5AA-C32B-469E-8A93-97472211B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78548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D57EF-DC33-4C99-97FA-C98C6D788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704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572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836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704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572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3CDA9-6398-4246-B6F2-5B23FF6A0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EB6CC-CA7A-42EA-A93A-AFBD325BA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1C6CA-A471-4485-B802-03B154619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88206-C95E-475D-A61F-1431EC109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A3D86-0A69-46D2-A8B6-0EDAE6E5F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58A12-6F50-4E75-BD6E-6EB16840E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394920" y="493200"/>
            <a:ext cx="849780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71B94-A8AE-4486-B314-441A6D664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B03AA-3BBC-4817-B3B8-C6132CC2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A8FD1-CD6A-472E-8A59-3AEF285E6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78548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51D97-59D3-43AF-8ED4-601A8154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A8105-690B-4D39-93B2-094E4AAE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8360" y="402948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4825D-6CF4-453D-92E2-C254EBA48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78548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B2207-16F3-40A7-87E0-BE0A2A085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31704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16572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836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31704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16572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2416A-0A23-407D-B44C-DAD35B808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82762-D17A-416E-9C73-8318652E5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F85D9-71F7-4CC1-BB41-0317B0CC2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DE581-D4C6-4009-BD67-305E9789D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114AB-0612-4A89-9DE6-EC039C412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EB55D-2017-406A-BB73-688C79865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573BA-B22F-46D1-9E7C-5AE2A0254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394920" y="493200"/>
            <a:ext cx="849780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C4335-6C3F-4A54-B0EB-35092933D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B8938-95CC-4DE0-B306-312E470D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78548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FE2E3-21C2-4C02-B92E-2A684F51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107DE-A532-4963-8415-5E1E89D3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360" y="402948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C023C-E53C-4DF7-94EC-0B7554AE2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78548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5FDEE-F977-4675-8A9C-0728C6FAF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31704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16572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836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31704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16572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BA0DD-12F8-4421-B545-95C48AC05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8FA66-B28F-484A-930D-2775D31E5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64927-8543-4A15-A7B7-614FEAF92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394920" y="493200"/>
            <a:ext cx="849780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51159-42D6-41E2-BB8C-8B41A06B6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78D17-2270-4757-8FA5-B7D4402C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78548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1FCA9-4121-43F1-BB26-3C7C19E4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6E8C9-C15D-4BC0-89DA-3094E669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88000" y="6237360"/>
            <a:ext cx="234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BC27E-195A-4A39-899A-40E41B7D6F73}" type="slidenum">
              <a:rPr b="0" lang="en-US" sz="1200" spc="-1" strike="noStrike">
                <a:solidFill>
                  <a:srgbClr val="000066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rot="5400000">
            <a:off x="-2815560" y="3291480"/>
            <a:ext cx="5905440" cy="27468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32000" y="6237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6F023-741A-4840-AF83-5EA4D4FAFCA6}" type="slidenum"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PlaceHolder 3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body"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dt" idx="3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 txBox="1"/>
          <p:nvPr/>
        </p:nvSpPr>
        <p:spPr>
          <a:xfrm>
            <a:off x="6837480" y="189000"/>
            <a:ext cx="204768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gradFill rotWithShape="0">
                  <a:gsLst>
                    <a:gs pos="0">
                      <a:srgbClr val="666699"/>
                    </a:gs>
                    <a:gs pos="100000">
                      <a:srgbClr val="000066"/>
                    </a:gs>
                  </a:gsLst>
                  <a:lin ang="10800000"/>
                </a:gradFill>
                <a:latin typeface="Arial"/>
              </a:rPr>
              <a:t>Communauté ACube</a:t>
            </a:r>
            <a:endParaRPr b="0" lang="en-US" sz="1000" spc="1" strike="noStrike">
              <a:ln w="0">
                <a:noFill/>
              </a:ln>
              <a:gradFill rotWithShape="0">
                <a:gsLst>
                  <a:gs pos="0">
                    <a:srgbClr val="666699"/>
                  </a:gs>
                  <a:gs pos="100000">
                    <a:srgbClr val="000066"/>
                  </a:gs>
                </a:gsLst>
                <a:lin ang="10800000"/>
              </a:gradFill>
              <a:latin typeface="Arial"/>
              <a:ea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395280" y="1413000"/>
            <a:ext cx="8497800" cy="0"/>
          </a:xfrm>
          <a:prstGeom prst="line">
            <a:avLst/>
          </a:prstGeom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" name="LogoSimple" descr=""/>
          <p:cNvPicPr/>
          <p:nvPr/>
        </p:nvPicPr>
        <p:blipFill>
          <a:blip r:embed="rId2"/>
          <a:stretch/>
        </p:blipFill>
        <p:spPr>
          <a:xfrm>
            <a:off x="8458200" y="6248520"/>
            <a:ext cx="485640" cy="47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6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9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86D39-DCCD-466E-B263-7A8851FBDE42}" type="slidenum">
              <a:rPr b="0" lang="en-US" sz="1200" spc="-1" strike="noStrike">
                <a:solidFill>
                  <a:srgbClr val="000066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63086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666699"/>
                </a:solidFill>
                <a:latin typeface="Arial"/>
              </a:rPr>
              <a:t>Cette création est mise à disposition selon le Contrat Paternité - Pas d'Utilisation Commerciale - Partage des Conditions Initiales à l'Identique disponible en ligne http://creativecommons.org/licenses/by-nc-sa/2.0/fr/ ou par courrier postal à Creative Commons, 559 Nathan Abbott Way, Stanford, California 94305, US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LogoSimple" descr=""/>
          <p:cNvPicPr/>
          <p:nvPr/>
        </p:nvPicPr>
        <p:blipFill>
          <a:blip r:embed="rId2"/>
          <a:stretch/>
        </p:blipFill>
        <p:spPr>
          <a:xfrm>
            <a:off x="7467480" y="117360"/>
            <a:ext cx="1519200" cy="14828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15296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CC_SomeRightsReserved" descr=""/>
          <p:cNvPicPr/>
          <p:nvPr/>
        </p:nvPicPr>
        <p:blipFill>
          <a:blip r:embed="rId3"/>
          <a:stretch/>
        </p:blipFill>
        <p:spPr>
          <a:xfrm>
            <a:off x="1066680" y="5029200"/>
            <a:ext cx="838440" cy="2952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7d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CCE5A-EDE0-4E61-9AA9-124021BFE3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Intitulé de la présent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3187440" y="448308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ous-titres de la présentation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Lieu de la présentation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Date de la présentation – version x.y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Présentateur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Titre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iveau 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iveau 2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Niveau 3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iveau 4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Niveau 5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ésentation du 8 février 2005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14:20:04Z</dcterms:created>
  <dc:creator/>
  <dc:description/>
  <dc:language>en-US</dc:language>
  <cp:lastModifiedBy>Pasquereau Gilles</cp:lastModifiedBy>
  <dcterms:modified xsi:type="dcterms:W3CDTF">2010-03-08T08:57:59Z</dcterms:modified>
  <cp:revision>13</cp:revision>
  <dc:subject/>
  <dc:title>Modèle de présentation PowerPoint</dc:title>
</cp:coreProperties>
</file>