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E464-9A45-49F6-AD7F-D7318172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8A6-9FB8-4C8F-89E8-80C95675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AEF7-AF7E-415C-8DED-2341E802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A03-EAC9-44B0-8BC7-EEB3D26A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CE38-6988-4F51-AF4D-779CBE93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7BC-5CFA-4106-A8E8-90571CEF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9434-D5E7-44FD-8E12-6BCF11EF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AAF-90EB-4C05-B121-42598C72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ADDE-086C-4FED-80E3-9EB9EF6A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91D-F3CF-4369-9E91-75B4F831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B24D-169C-4BA8-A3CB-CC7F5125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D0A8-76B7-41DD-A65D-51996E3A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91DF-F089-4879-8A4A-0FB271085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90720" y="6114960"/>
            <a:ext cx="7200720" cy="743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843560" y="6172200"/>
            <a:ext cx="39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ude et mise en place d’une plateforme de travail collaborat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-logo" descr=""/>
          <p:cNvPicPr/>
          <p:nvPr/>
        </p:nvPicPr>
        <p:blipFill>
          <a:blip r:embed="rId3"/>
          <a:stretch/>
        </p:blipFill>
        <p:spPr>
          <a:xfrm>
            <a:off x="5486400" y="152280"/>
            <a:ext cx="3657600" cy="99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ogo" descr=""/>
          <p:cNvPicPr/>
          <p:nvPr/>
        </p:nvPicPr>
        <p:blipFill>
          <a:blip r:embed="rId1"/>
          <a:stretch/>
        </p:blipFill>
        <p:spPr>
          <a:xfrm>
            <a:off x="762120" y="4495680"/>
            <a:ext cx="3809880" cy="1150920"/>
          </a:xfrm>
          <a:prstGeom prst="rect">
            <a:avLst/>
          </a:prstGeom>
          <a:ln w="0">
            <a:noFill/>
          </a:ln>
        </p:spPr>
      </p:pic>
      <p:pic>
        <p:nvPicPr>
          <p:cNvPr id="45" name="phpcollab_logo" descr=""/>
          <p:cNvPicPr/>
          <p:nvPr/>
        </p:nvPicPr>
        <p:blipFill>
          <a:blip r:embed="rId2"/>
          <a:stretch/>
        </p:blipFill>
        <p:spPr>
          <a:xfrm>
            <a:off x="4876920" y="4572000"/>
            <a:ext cx="4000320" cy="1028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152280"/>
            <a:ext cx="474048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NCHI Antho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GOUZO Isab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GHOUCHE Abdelkrim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INA Jonatha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5238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895480"/>
            <a:ext cx="533376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ude et mise en place d’une plateforme de travail collabora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971640" y="1773360"/>
            <a:ext cx="720072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3581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liv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é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buClr>
                <a:srgbClr val="000000"/>
              </a:buClr>
              <a:buFont typeface="Times New Roman"/>
              <a:buAutoNum type="romanUcPeriod" startAt="2"/>
              <a:tabLst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hase de con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e de l’exi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herche de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buNone/>
              <a:tabLst>
                <a:tab algn="l" pos="0"/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5640" y="1660680"/>
            <a:ext cx="3219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hase de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é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mon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pCol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mon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440" y="4267080"/>
            <a:ext cx="20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Times New Roman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4479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1676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08:48:39Z</dcterms:created>
  <dc:creator>default</dc:creator>
  <dc:description/>
  <dc:language>en-US</dc:language>
  <cp:lastModifiedBy>default</cp:lastModifiedBy>
  <dcterms:modified xsi:type="dcterms:W3CDTF">2005-04-06T09:39:34Z</dcterms:modified>
  <cp:revision>10</cp:revision>
  <dc:subject/>
  <dc:title>Présentation PowerPoint</dc:title>
</cp:coreProperties>
</file>