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2BC-9755-4E48-89AC-CEC530B5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6D8-1BC2-43C3-88DE-DE49990B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CC9-AD39-4D50-B852-296268BB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25F-129A-418C-B375-038B69EF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A9EA-B5ED-41B4-AA59-9C8ADE10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D4FB-8CC1-4995-8B73-1FAEF7BA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9820-9F23-458B-A77E-6ACC101D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48DA-5137-4115-A136-CE2D7F79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B9E0-A1C7-4F80-B13E-449CAB66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AF84-51F9-442E-87C8-D7C03D47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1623-1076-46B2-BF50-1EF01550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B35-A9A9-4907-A7B4-E97CAB6C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146E-BC11-4128-A198-51737D84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7E3C-E18C-4F44-9A38-DADC1C70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5D6E-DDAD-4B18-8018-6247BDA3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B6E6-9C88-458C-A99C-2B8B5540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BCCA-E0D7-4A87-96C1-754F8C3E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294-19E9-49A3-B139-005257C6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4F5-A5EB-4447-B4A0-0B5A1DBD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5CA3-2B47-4B50-95EA-D9339D68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49F-9377-4BDC-B477-101A2FE8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E1C-08D7-49A5-A7CA-396C7428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D9B-CEF4-42C8-8F96-CC93BB7D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AAB-31C5-48A7-AE5C-72FB5715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BCB1-E9A6-4B5E-A2C0-0165ABD622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53720" cy="6858000"/>
            <a:chOff x="1440" y="0"/>
            <a:chExt cx="9153720" cy="6858000"/>
          </a:xfrm>
        </p:grpSpPr>
        <p:sp>
          <p:nvSpPr>
            <p:cNvPr id="42" name=""/>
            <p:cNvSpPr/>
            <p:nvPr/>
          </p:nvSpPr>
          <p:spPr>
            <a:xfrm>
              <a:off x="1440" y="0"/>
              <a:ext cx="1673280" cy="6858000"/>
            </a:xfrm>
            <a:prstGeom prst="rect">
              <a:avLst/>
            </a:prstGeom>
            <a:solidFill>
              <a:srgbClr val="556c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" name=""/>
            <p:cNvGraphicFramePr/>
            <p:nvPr/>
          </p:nvGraphicFramePr>
          <p:xfrm>
            <a:off x="304920" y="2820960"/>
            <a:ext cx="1116000" cy="15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2820960"/>
                      <a:ext cx="111600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1677960" y="3789360"/>
              <a:ext cx="7466040" cy="3068640"/>
            </a:xfrm>
            <a:prstGeom prst="rect">
              <a:avLst/>
            </a:prstGeom>
            <a:solidFill>
              <a:srgbClr val="fac46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9280" y="5661000"/>
              <a:ext cx="122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Optima Bold"/>
                </a:rPr>
                <a:t>Direction du Système d’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1687680" y="3240"/>
              <a:ext cx="7467480" cy="378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5F67-CA9E-40A4-AE9C-742E5B4441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ocole d’échang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 les MDPH et les CA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7640" y="4317480"/>
            <a:ext cx="65516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contre du 23 mars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’offre de service RMI actuel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sultation de la Base Allocatai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CAFPRO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nsfert de données de gestion mens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Flux XML Mensue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ableau de bord sur les Droits R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Tableau HTM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71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uverture de la consultation de la base allocataire à de nouveaux profils mét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volution du transfert de données de gestion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égration de nouvelles donn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tilisation du format xml standard du w3c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un transfert de données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fra-mensuel événement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’un tableau de bord financ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à disposition d’une téléprocédure : @IR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ématérialisation des échanges par transfert électronique réciproque d’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d’un travail partenarial au sein de groupes mixtes composés de représentant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nseils génér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aisses d’Allocation famil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 M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 l ’égid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’Association des Départements de 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s Allocations Famil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re proposition pour les MDP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e profils de consultation de la Base Allocataires adaptés aux métiers des MD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échanges de données entre les MDPH et les CAF (dans les deux se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flexion sur la dématérialisation complète du processus de traitement entre les MDPH et les C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7:47:41Z</dcterms:created>
  <dc:creator>Régis Pont</dc:creator>
  <dc:description/>
  <dc:language>en-US</dc:language>
  <cp:lastModifiedBy>caf de l'ain</cp:lastModifiedBy>
  <dcterms:modified xsi:type="dcterms:W3CDTF">2007-03-23T10:58:23Z</dcterms:modified>
  <cp:revision>10</cp:revision>
  <dc:subject/>
  <dc:title>Protocole d’échange  les MDPH et les CAF</dc:title>
</cp:coreProperties>
</file>