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EB8-023F-45EE-8B24-8858BE58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321-1667-4331-AF1D-57FCB10B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7D49-6B9E-4F3C-8493-C9AEF88B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5FC-4552-4EB6-8E3D-F17F5CB7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5DF-4F6F-4250-906B-03F8D86D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F46-C155-4983-8F42-2D3B480E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C96-EBE5-436D-92AF-958C4F7F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5EAB-F559-4AB3-894E-D8F632C4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944280"/>
            <a:ext cx="1360152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E2D-6872-4CDF-8A32-78E070B1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69E-EE6F-447D-9C10-27BBD1F8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E5D-C124-4E3B-B477-4B627953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202-40B0-4B03-A193-48BBF31E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 fontScale="93000"/>
          </a:bodyPr>
          <a:p>
            <a:pPr marL="529920" indent="-52992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9840" indent="-4428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768680" indent="-35280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7752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9685440"/>
            <a:ext cx="506736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fld id="{877CC6AB-7F1C-462D-9A9A-B03166F7F673}" type="slidenum"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28640" y="58680"/>
          <a:ext cx="14617800" cy="1035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8680"/>
                    <a:ext cx="14617800" cy="1035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39:38Z</dcterms:created>
  <dc:creator>thierry.becco</dc:creator>
  <dc:description/>
  <dc:language>en-US</dc:language>
  <cp:lastModifiedBy>ATaconnet</cp:lastModifiedBy>
  <dcterms:modified xsi:type="dcterms:W3CDTF">2007-02-23T11:13:56Z</dcterms:modified>
  <cp:revision>20</cp:revision>
  <dc:subject/>
  <dc:title>Présentation PowerPoint</dc:title>
</cp:coreProperties>
</file>