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905-BB90-4DCC-BE91-FA26AD8C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1F7-5D28-4E14-BDBB-F3C6A0E6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451-C7B1-48AA-B6AE-FE49A45F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F76-3B41-41DF-8298-65067C9E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F19-245F-4AD5-A850-0B00CD6C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04D-24C3-42D4-A63A-56738343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4FA-C0F0-4057-9DFC-9B108157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EB7-CC62-42A4-BA00-8CFD15ED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B11-4F47-4CF8-8302-7B19FC84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215-2DB8-4406-9228-323069E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BE3-E5E1-4BBF-8111-92F8CC6D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E93-4ED4-402A-8793-1DBF4E44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ECC18F7A-8B9E-42AC-BA81-E7B5B8CDEA92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7800" y="112680"/>
          <a:ext cx="14847840" cy="104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12680"/>
                    <a:ext cx="14847840" cy="104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thierry.becco</cp:lastModifiedBy>
  <dcterms:modified xsi:type="dcterms:W3CDTF">2007-01-23T15:50:33Z</dcterms:modified>
  <cp:revision>14</cp:revision>
  <dc:subject/>
  <dc:title>Présentation PowerPoint</dc:title>
</cp:coreProperties>
</file>