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008-343F-40D6-A030-D93981E8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7F8-0CA5-4CD3-88BB-64587423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730-9AF0-4CA5-92C6-8AA3CB80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BFD-252A-4306-A270-DC15DB47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81F-4CA8-499B-8779-2A3953F1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5E7-BF81-4CD4-A071-D84B9B14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1DA-5FCA-4322-9766-42E38580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9F4-B462-41A5-AD23-78A0361F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C82-713A-4910-81A2-7DC3F565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E79-D6D7-421B-A9AC-B6E5B67C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945-C30A-4483-9B7C-790B434A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50A-9E75-4DA6-8836-0A14FE0A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FC34-9931-4CB9-9C7E-D31172FB7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831" t="0" r="-18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8:29:17Z</dcterms:created>
  <dc:creator>ANTHONY SCHLEMER</dc:creator>
  <dc:description/>
  <dc:language>en-US</dc:language>
  <cp:lastModifiedBy>ANTHONY SCHLEMER</cp:lastModifiedBy>
  <dcterms:modified xsi:type="dcterms:W3CDTF">2008-01-08T08:29:42Z</dcterms:modified>
  <cp:revision>1</cp:revision>
  <dc:subject/>
  <dc:title>Diapositive 1</dc:title>
</cp:coreProperties>
</file>