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F12-ECC7-4FCA-82A2-FC1033B4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976-912D-4E3A-AB26-A49021BC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F50-BA31-4700-AA37-A3448921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721-3556-43E7-95CF-6DE06A76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31B-895F-47AC-A423-922B8827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868-BC8F-4A01-8541-6627F80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09C-6EBB-4B45-89C0-3B48D055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F42-2624-43E8-BE04-1F02B401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2A9-8F77-4AFB-85D1-ECCAE0CB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6A0-54ED-48D7-ABB8-EC21C04A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495-B7E5-43E8-A7AB-2F7C9B8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C5F-0216-4DF2-A48F-9BB1526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21C6-252F-4E87-95C1-0814C03D6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739" t="0" r="-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0:17Z</dcterms:created>
  <dc:creator>ANTHONY SCHLEMER</dc:creator>
  <dc:description/>
  <dc:language>en-US</dc:language>
  <cp:lastModifiedBy>ANTHONY SCHLEMER</cp:lastModifiedBy>
  <dcterms:modified xsi:type="dcterms:W3CDTF">2008-01-08T09:00:29Z</dcterms:modified>
  <cp:revision>1</cp:revision>
  <dc:subject/>
  <dc:title>Diapositive 1</dc:title>
</cp:coreProperties>
</file>