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8983-EBA4-47D5-B33E-36EF9037A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EFEE-D51D-4295-A21D-A5E38EB1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30D7-972E-4676-B4D8-46B5BF02A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C687-806B-4519-8AA4-31612226E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9D68-5D08-4678-A813-CBF2B8D4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A9D5-D5B5-4D59-A988-796FF04B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BE75-0492-454C-B75A-1FF722DB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FDE5-2C94-499B-A029-61F281DB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1E68-49C0-4268-B952-E90D5F79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EED1-5E18-4B55-9FE3-D9E972BB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513F-B0D5-4C15-9C81-1CEB8598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5A72-A06B-4B2A-8D1B-158EAB33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3D84-9556-438C-985F-AE09593F8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-2739" t="0" r="-273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09:00:17Z</dcterms:created>
  <dc:creator>ANTHONY SCHLEMER</dc:creator>
  <dc:description/>
  <dc:language>en-US</dc:language>
  <cp:lastModifiedBy>ANTHONY SCHLEMER</cp:lastModifiedBy>
  <dcterms:modified xsi:type="dcterms:W3CDTF">2008-01-08T09:00:29Z</dcterms:modified>
  <cp:revision>1</cp:revision>
  <dc:subject/>
  <dc:title>Diapositive 1</dc:title>
</cp:coreProperties>
</file>