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77B4-C6AA-4E7B-809C-2B84C3BE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0088-6392-4810-B719-0FDB178E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047A-78AF-487E-B866-CF9AD616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325C-2CF9-42B9-8CE1-F190427C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698A-EA51-40B8-80DD-9B2B5719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D3FE-3482-4095-8666-F260BF8D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61FD-DE74-4039-8CFC-6B4327FF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2F66-3F1F-477C-8CAC-4835BEB6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ECCE-4C20-455A-AB25-75C553E2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2C2F-3676-4D65-962C-1DDD2EAD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A1DD-3949-4AE0-A933-66EB721F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3A73-6F77-4B9F-BDDB-A9F962D0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4393-4089-4D4C-B8B7-B8BF561BAB3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8901" t="0" r="-313" b="0"/>
          <a:stretch/>
        </p:blipFill>
        <p:spPr>
          <a:xfrm>
            <a:off x="179280" y="187200"/>
            <a:ext cx="8785440" cy="661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03000" y="6165720"/>
            <a:ext cx="156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CD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-480" t="40994" r="81352" b="6000"/>
          <a:stretch/>
        </p:blipFill>
        <p:spPr>
          <a:xfrm>
            <a:off x="900000" y="333360"/>
            <a:ext cx="7417080" cy="626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1360" y="260280"/>
            <a:ext cx="481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a table paramètres englobera toutes les tables de paramét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-753" t="0" r="-3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00760" y="4302000"/>
            <a:ext cx="18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PD_CakePHP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08:18:05Z</dcterms:created>
  <dc:creator>ANTHONY SCHLEMER</dc:creator>
  <dc:description/>
  <dc:language>en-US</dc:language>
  <cp:lastModifiedBy>ANTHONY SCHLEMER</cp:lastModifiedBy>
  <dcterms:modified xsi:type="dcterms:W3CDTF">2007-07-03T09:22:53Z</dcterms:modified>
  <cp:revision>10</cp:revision>
  <dc:subject/>
  <dc:title>Diapositive 1</dc:title>
</cp:coreProperties>
</file>