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C1C8-8727-4E87-A914-A14769D3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4BDB-370C-4B17-9536-455A9641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EF7D-62A7-4F39-9FCD-E32EA43F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B41D-EECA-4408-BE27-4BB282C5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270B-2D5C-4895-B82B-8D45FD5F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3CD-7FCD-4336-A816-53DB0B27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BDAF-2B0B-4930-B44F-24459B32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2B46-8524-4E68-9FA9-761B494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40BD-1296-497A-AEE3-0AF9C1DC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F168-61E6-4C6B-8623-8EDF1A7F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947C-88CA-4B20-9EC0-EC1BD0C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9AC7-5D68-4B3A-A768-4653B2DE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9D4E-F330-40D3-BB63-A6F05E17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3BAE-7F59-461B-81D2-882CA63F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B2A4-6D33-4154-97BE-E5AE258D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E396-CE6E-4BCB-A734-4737E796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D41F-F7E6-4927-B325-950195F5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8373-D293-4907-8AEB-DE2C00F4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14FA-7E6E-465D-98FD-78904270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C795-9893-4DEC-897D-85479F35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EFEA-8EB0-43B3-B59A-F9FBE71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E865-2DAF-4A7C-98CA-ED5D5867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B4C8-E068-41F2-90DE-323429FD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99E9-7942-426B-98EE-136495F5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9BBA9-950D-456F-9991-3CC393B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E3846-4641-4506-B868-1CCC328F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2B27-B7AE-4F38-AA5D-6A3EF3EC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526F-CB14-4338-B4AD-E882C11D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7E13-75A6-47D7-A51C-479EA0B9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338B-933B-4B05-BC5F-3728629A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115B-C754-40C0-9D15-2E72D966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FD56-3EB9-4023-8061-4EA45765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CF31-4153-4C0C-B233-736E02FF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3671-8847-4731-80A4-2244574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810C-24F7-451F-B9BB-B5977D3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E72B-FAE1-4295-8617-B0B186D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4807-8141-49D5-9AD1-2AB0A14789AD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13FC-8D59-4369-AC4E-466073F1B702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837480" y="189000"/>
            <a:ext cx="2047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Communauté ACube</a:t>
            </a:r>
            <a:endParaRPr b="0" lang="en-US" sz="10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Simple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485640" cy="47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80D3-09CE-434B-962B-915962813231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8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66699"/>
                </a:solidFill>
                <a:latin typeface="Arial"/>
              </a:rPr>
              <a:t>Cette création est mise à disposition selon le Contrat Paternité - Pas d'Utilisation Commerciale - Partage des Conditions Initiales à l'Identique disponible en ligne http://creativecommons.org/licenses/by-nc-sa/2.0/fr/ ou par courrier postal à Creative Commons, 559 Nathan Abbott Way, Stanford, California 94305, U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ogoSimple" descr=""/>
          <p:cNvPicPr/>
          <p:nvPr/>
        </p:nvPicPr>
        <p:blipFill>
          <a:blip r:embed="rId2"/>
          <a:stretch/>
        </p:blipFill>
        <p:spPr>
          <a:xfrm>
            <a:off x="7467480" y="117360"/>
            <a:ext cx="1519200" cy="148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529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C_SomeRightsReserved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5022-71C0-4872-8AFD-84B040EF3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dc:language>en-US</dc:language>
  <cp:lastModifiedBy>Pasquereau Gilles</cp:lastModifiedBy>
  <dcterms:modified xsi:type="dcterms:W3CDTF">2010-03-08T08:57:59Z</dcterms:modified>
  <cp:revision>13</cp:revision>
  <dc:subject/>
  <dc:title>Modèle de présentation PowerPoint</dc:title>
</cp:coreProperties>
</file>