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02A2-7E3A-439D-8767-87629F12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B7C7-883D-41E9-9948-6D360832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8FDF-CC03-4003-A99B-5FBC1BE2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0BFA-2D34-40FA-A744-E5D6FBAE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5B16-921F-43C9-B440-6B979669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6528-1149-41B4-912B-04763394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D5D5-9A96-4414-AB30-CAA769AF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8B58-4AED-4664-9AF6-8D077009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2F2A-E217-41FB-940F-81F3A727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9D9C-31E0-4C70-8294-D3B675BB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8DF4-2DA9-4589-9B6E-8FD39650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4205-AD47-4F4B-9AB2-2B82F7AE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D39B-A78F-4990-9B9A-F0EC5A30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C183-709B-4DCA-8CC9-DE564643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2B4E-39FC-4280-994A-992141D0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8059-7B30-4921-9556-4865BAE1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483C-432B-4A55-97F8-8AC8C2EB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ABAD-C758-4744-BCBC-5FAE9269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C0F4-7285-4B03-A4E8-C3207112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4F99-2624-4D44-AE3A-12D86010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03CA-0364-4946-BA6C-19E6AFAD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454F-A612-4D87-9181-B749B8BA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C727-846F-43FE-B14E-0EE72E6C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4F5A6-4D9E-44F3-BF13-BB5E789A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011B8-C786-408D-9718-DB230E68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0E523-7379-4D0A-8AFF-CECEB217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B558-2994-4E56-B871-D31A0796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C13F-588A-435C-A2FB-9B1159A4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68798-0DD9-42DD-AB31-16F53DBD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FC69-5FDA-456A-9035-C28358A2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C0F0-0B5F-41ED-8B10-841AB92F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9A2A-B300-4624-AEC4-5486A454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F37C-63CE-4EDC-9950-090E44EF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8B45-5314-4398-AFD6-0F0C812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1CB4-E130-40B4-9DCB-02F8B4CD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C59E-CEB4-4A22-A34A-B0DEFE8A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60A1-2AB9-4FD7-AF56-CF83F5384982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F3FC-3101-467E-9AB0-2330B45E54D6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837480" y="189000"/>
            <a:ext cx="2047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Communauté ACube</a:t>
            </a:r>
            <a:endParaRPr b="0" lang="en-US" sz="10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Simple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485640" cy="47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799D-3DF9-4CBB-96BA-B63E34DD017A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8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666699"/>
                </a:solidFill>
                <a:latin typeface="Arial"/>
              </a:rPr>
              <a:t>Cette création est mise à disposition selon le Contrat Paternité - Pas d'Utilisation Commerciale - Partage des Conditions Initiales à l'Identique disponible en ligne http://creativecommons.org/licenses/by-nc-sa/2.0/fr/ ou par courrier postal à Creative Commons, 559 Nathan Abbott Way, Stanford, California 94305, U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LogoSimple" descr=""/>
          <p:cNvPicPr/>
          <p:nvPr/>
        </p:nvPicPr>
        <p:blipFill>
          <a:blip r:embed="rId2"/>
          <a:stretch/>
        </p:blipFill>
        <p:spPr>
          <a:xfrm>
            <a:off x="7467480" y="117360"/>
            <a:ext cx="1519200" cy="1482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529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C_SomeRightsReserved" descr=""/>
          <p:cNvPicPr/>
          <p:nvPr/>
        </p:nvPicPr>
        <p:blipFill>
          <a:blip r:embed="rId3"/>
          <a:stretch/>
        </p:blipFill>
        <p:spPr>
          <a:xfrm>
            <a:off x="1066680" y="5029200"/>
            <a:ext cx="83844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7F58-45DA-46E7-AD44-5D6F199E2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dc:language>en-US</dc:language>
  <cp:lastModifiedBy>Pasquereau Gilles</cp:lastModifiedBy>
  <dcterms:modified xsi:type="dcterms:W3CDTF">2010-03-08T08:57:59Z</dcterms:modified>
  <cp:revision>13</cp:revision>
  <dc:subject/>
  <dc:title>Modèle de présentation PowerPoint</dc:title>
</cp:coreProperties>
</file>