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Click to move the slide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88018-7A17-41F2-ADCB-EB1DF6722B9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sue de la CNV du MA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NV = commission nationale de vali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érieure au Cadre de Cohérence Prodige 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 domaines définis dans la plate-forme Prodige RA sont ceux de la COVAD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utes les données des thèmes COVADIS sont censées entrer dans le cadre de cohérence rég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entaire sur les SIG ministères : Principe de subsidiarité :  pas d’ingérence de Prodige dans les organisations verticales qui fonction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s un travail en bonne intelligence : les données sont reversées au patrimoine Prodi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ige peut être « incitateur » si les SIG des ministères ne sont pas organisé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l est possible dans Prodige d’affecter des droits particuliers au lots de données pour que seuls certains profils y accèdent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 exemple : les captages et leurs périmètres de prot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 service métier (ici SDAP) travaille en amont dans son domaine de compé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 service régional consolide les données puis les verse dans Prodige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se retrouve dans la « bulle » Prodi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 autre service métier (ici DDT) vient chercher les données pour ses propres mis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+ cartes stat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spect des normes d’interopérabilité pour les métadonné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Wms wfs w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cartes stat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jourd’hui, essaimage de Prodige sur 6 régions qui explique le financement tourn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dispositif fédérateur auquel il faut adhér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(pour mettre en place l’interopérabilité nécessaire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 jaune les visites simples – pointe au moment de la Lettre n°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es de juin et juillet : une formation interministérielle de 2 fois 1 jour en Isè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ellement partenaires = établissements publ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ajouter les login et mots de passe de sa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services de l’État, établissements publics et organismes associé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’animation nationale est passée de la DGME au commissariat général au développement durable (CGDD- Mission pour l'Information Géographique) au sein du MEEDDM. L’un de ses objectifs majeurs est la définition d’une gouvernance de PRODIGE, avec deux niveaux 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e pilotage : coordination des maîtrises d'ouvrage de plateformes d'échange d'information géographiqu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’outil PRODIGE : coordination des maîtrises d'ouvrage pour les développements techn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Niveau départemental : il peut exister des structures locales (cf Isè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À mettre à jour en configuration 01/01/2010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4 unités territoriales Dreal (ex subdivisions des DRIRE), culture (ex SDAP), travail emploi, CCR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gence de l’eau Rhône Méditerranée  Co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RGM = Bureau de recherches géologiques et miniè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PANI = établissement public d’aménagement du Nord Isère (ex EPID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PORA = établissement public foncier de l’ouest Rhône Al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NF = office national des forê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nées difficiles à agréger à l’échelon régional - Données mal ou pas défi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nées répondant aux normes de qualit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monisées aux divers échel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t la pérennité est assuré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9CB0-CB89-474C-A371-6B0F8EDFD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4057200"/>
            <a:ext cx="8763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492A-7E03-4809-92CF-9DF24E655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8880" y="182844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405720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8880" y="405720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5162-AD76-4626-A0D8-32FB4A67D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2821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1400" y="1828440"/>
            <a:ext cx="2821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54200" y="1828440"/>
            <a:ext cx="2821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4057200"/>
            <a:ext cx="2821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1400" y="4057200"/>
            <a:ext cx="2821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54200" y="4057200"/>
            <a:ext cx="2821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1341-A219-48EC-B2B0-8695D82C5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87E8-5BB8-4E2D-9F54-AEE527B9F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1E78-AE08-4876-97B1-2F9196747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427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8880" y="1828440"/>
            <a:ext cx="427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444C-65B4-41A7-A03A-ADC034E16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52C3-5634-4C6E-9B37-BF635C198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C0B0-C24D-4765-9D43-890690BEE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8880" y="1828440"/>
            <a:ext cx="427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405720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B6FE-FA60-4D16-BFAB-94F38253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427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8880" y="182844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8880" y="405720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E4B6-4438-4F8B-9D1B-B1200A19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8880" y="182844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4057200"/>
            <a:ext cx="8763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A673-C807-4C07-9C6A-BB967DAC8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1b8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fr-FR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3619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fr-FR" sz="1400" spc="-1" strike="noStrike">
                <a:solidFill>
                  <a:srgbClr val="87a5c3"/>
                </a:solidFill>
                <a:latin typeface="Berlin Sans FB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87a5c3"/>
                </a:solidFill>
                <a:latin typeface="Berlin Sans FB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467480" y="6400440"/>
            <a:ext cx="990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6C3DF-633B-4A55-8522-5DF282EB7240}" type="slidenum">
              <a:rPr b="0" lang="fr-FR" sz="1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bandoseul" descr=""/>
          <p:cNvPicPr/>
          <p:nvPr/>
        </p:nvPicPr>
        <p:blipFill>
          <a:blip r:embed="rId2"/>
          <a:stretch/>
        </p:blipFill>
        <p:spPr>
          <a:xfrm>
            <a:off x="0" y="838080"/>
            <a:ext cx="9144000" cy="9208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Click to edit the title text format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prodige.rhone-alpes.gouv.fr/PRRA/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2285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1b814"/>
                </a:solidFill>
                <a:latin typeface="Berlin Sans FB"/>
              </a:rPr>
              <a:t>Plateforme Régionale pour Organiser et Diffuser l’Information Géographique de l’État </a:t>
            </a:r>
            <a:br>
              <a:rPr sz="2800"/>
            </a:br>
            <a:r>
              <a:rPr b="0" lang="en-US" sz="2800" spc="-1" strike="noStrike">
                <a:solidFill>
                  <a:srgbClr val="f1b814"/>
                </a:solidFill>
                <a:latin typeface="Berlin Sans FB"/>
              </a:rPr>
              <a:t>en Rhône-Alpes</a:t>
            </a:r>
            <a:br>
              <a:rPr sz="2800"/>
            </a:br>
            <a:endParaRPr b="0" lang="en-US" sz="28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ieu et dat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25640" y="533520"/>
            <a:ext cx="250560" cy="487080"/>
          </a:xfrm>
          <a:custGeom>
            <a:avLst/>
            <a:gdLst/>
            <a:ahLst/>
            <a:rect l="l" t="t" r="r" b="b"/>
            <a:pathLst>
              <a:path w="1739" h="3377">
                <a:moveTo>
                  <a:pt x="292" y="332"/>
                </a:moveTo>
                <a:lnTo>
                  <a:pt x="292" y="1619"/>
                </a:lnTo>
                <a:lnTo>
                  <a:pt x="721" y="1619"/>
                </a:lnTo>
                <a:lnTo>
                  <a:pt x="765" y="1618"/>
                </a:lnTo>
                <a:lnTo>
                  <a:pt x="808" y="1617"/>
                </a:lnTo>
                <a:lnTo>
                  <a:pt x="848" y="1614"/>
                </a:lnTo>
                <a:lnTo>
                  <a:pt x="889" y="1609"/>
                </a:lnTo>
                <a:lnTo>
                  <a:pt x="926" y="1604"/>
                </a:lnTo>
                <a:lnTo>
                  <a:pt x="963" y="1597"/>
                </a:lnTo>
                <a:lnTo>
                  <a:pt x="999" y="1589"/>
                </a:lnTo>
                <a:lnTo>
                  <a:pt x="1033" y="1581"/>
                </a:lnTo>
                <a:lnTo>
                  <a:pt x="1065" y="1570"/>
                </a:lnTo>
                <a:lnTo>
                  <a:pt x="1096" y="1558"/>
                </a:lnTo>
                <a:lnTo>
                  <a:pt x="1125" y="1545"/>
                </a:lnTo>
                <a:lnTo>
                  <a:pt x="1153" y="1532"/>
                </a:lnTo>
                <a:lnTo>
                  <a:pt x="1179" y="1517"/>
                </a:lnTo>
                <a:lnTo>
                  <a:pt x="1205" y="1501"/>
                </a:lnTo>
                <a:lnTo>
                  <a:pt x="1228" y="1482"/>
                </a:lnTo>
                <a:lnTo>
                  <a:pt x="1251" y="1463"/>
                </a:lnTo>
                <a:lnTo>
                  <a:pt x="1271" y="1444"/>
                </a:lnTo>
                <a:lnTo>
                  <a:pt x="1290" y="1423"/>
                </a:lnTo>
                <a:lnTo>
                  <a:pt x="1308" y="1399"/>
                </a:lnTo>
                <a:lnTo>
                  <a:pt x="1325" y="1376"/>
                </a:lnTo>
                <a:lnTo>
                  <a:pt x="1340" y="1350"/>
                </a:lnTo>
                <a:lnTo>
                  <a:pt x="1354" y="1323"/>
                </a:lnTo>
                <a:lnTo>
                  <a:pt x="1367" y="1296"/>
                </a:lnTo>
                <a:lnTo>
                  <a:pt x="1379" y="1266"/>
                </a:lnTo>
                <a:lnTo>
                  <a:pt x="1388" y="1235"/>
                </a:lnTo>
                <a:lnTo>
                  <a:pt x="1397" y="1203"/>
                </a:lnTo>
                <a:lnTo>
                  <a:pt x="1404" y="1170"/>
                </a:lnTo>
                <a:lnTo>
                  <a:pt x="1411" y="1136"/>
                </a:lnTo>
                <a:lnTo>
                  <a:pt x="1415" y="1099"/>
                </a:lnTo>
                <a:lnTo>
                  <a:pt x="1418" y="1062"/>
                </a:lnTo>
                <a:lnTo>
                  <a:pt x="1420" y="1024"/>
                </a:lnTo>
                <a:lnTo>
                  <a:pt x="1421" y="983"/>
                </a:lnTo>
                <a:lnTo>
                  <a:pt x="1420" y="941"/>
                </a:lnTo>
                <a:lnTo>
                  <a:pt x="1418" y="902"/>
                </a:lnTo>
                <a:lnTo>
                  <a:pt x="1415" y="862"/>
                </a:lnTo>
                <a:lnTo>
                  <a:pt x="1410" y="825"/>
                </a:lnTo>
                <a:lnTo>
                  <a:pt x="1404" y="790"/>
                </a:lnTo>
                <a:lnTo>
                  <a:pt x="1397" y="756"/>
                </a:lnTo>
                <a:lnTo>
                  <a:pt x="1388" y="723"/>
                </a:lnTo>
                <a:lnTo>
                  <a:pt x="1378" y="691"/>
                </a:lnTo>
                <a:lnTo>
                  <a:pt x="1366" y="661"/>
                </a:lnTo>
                <a:lnTo>
                  <a:pt x="1353" y="632"/>
                </a:lnTo>
                <a:lnTo>
                  <a:pt x="1339" y="604"/>
                </a:lnTo>
                <a:lnTo>
                  <a:pt x="1324" y="578"/>
                </a:lnTo>
                <a:lnTo>
                  <a:pt x="1307" y="554"/>
                </a:lnTo>
                <a:lnTo>
                  <a:pt x="1289" y="530"/>
                </a:lnTo>
                <a:lnTo>
                  <a:pt x="1270" y="509"/>
                </a:lnTo>
                <a:lnTo>
                  <a:pt x="1248" y="489"/>
                </a:lnTo>
                <a:lnTo>
                  <a:pt x="1226" y="470"/>
                </a:lnTo>
                <a:lnTo>
                  <a:pt x="1203" y="451"/>
                </a:lnTo>
                <a:lnTo>
                  <a:pt x="1177" y="435"/>
                </a:lnTo>
                <a:lnTo>
                  <a:pt x="1150" y="419"/>
                </a:lnTo>
                <a:lnTo>
                  <a:pt x="1121" y="406"/>
                </a:lnTo>
                <a:lnTo>
                  <a:pt x="1090" y="393"/>
                </a:lnTo>
                <a:lnTo>
                  <a:pt x="1058" y="381"/>
                </a:lnTo>
                <a:lnTo>
                  <a:pt x="1024" y="371"/>
                </a:lnTo>
                <a:lnTo>
                  <a:pt x="989" y="362"/>
                </a:lnTo>
                <a:lnTo>
                  <a:pt x="953" y="353"/>
                </a:lnTo>
                <a:lnTo>
                  <a:pt x="914" y="347"/>
                </a:lnTo>
                <a:lnTo>
                  <a:pt x="874" y="342"/>
                </a:lnTo>
                <a:lnTo>
                  <a:pt x="832" y="337"/>
                </a:lnTo>
                <a:lnTo>
                  <a:pt x="788" y="334"/>
                </a:lnTo>
                <a:lnTo>
                  <a:pt x="743" y="332"/>
                </a:lnTo>
                <a:lnTo>
                  <a:pt x="696" y="332"/>
                </a:lnTo>
                <a:lnTo>
                  <a:pt x="292" y="332"/>
                </a:lnTo>
                <a:close/>
                <a:moveTo>
                  <a:pt x="0" y="0"/>
                </a:moveTo>
                <a:lnTo>
                  <a:pt x="629" y="0"/>
                </a:lnTo>
                <a:lnTo>
                  <a:pt x="695" y="0"/>
                </a:lnTo>
                <a:lnTo>
                  <a:pt x="757" y="2"/>
                </a:lnTo>
                <a:lnTo>
                  <a:pt x="817" y="4"/>
                </a:lnTo>
                <a:lnTo>
                  <a:pt x="873" y="9"/>
                </a:lnTo>
                <a:lnTo>
                  <a:pt x="925" y="13"/>
                </a:lnTo>
                <a:lnTo>
                  <a:pt x="974" y="18"/>
                </a:lnTo>
                <a:lnTo>
                  <a:pt x="1020" y="25"/>
                </a:lnTo>
                <a:lnTo>
                  <a:pt x="1063" y="32"/>
                </a:lnTo>
                <a:lnTo>
                  <a:pt x="1102" y="42"/>
                </a:lnTo>
                <a:lnTo>
                  <a:pt x="1141" y="51"/>
                </a:lnTo>
                <a:lnTo>
                  <a:pt x="1177" y="62"/>
                </a:lnTo>
                <a:lnTo>
                  <a:pt x="1212" y="75"/>
                </a:lnTo>
                <a:lnTo>
                  <a:pt x="1244" y="89"/>
                </a:lnTo>
                <a:lnTo>
                  <a:pt x="1276" y="104"/>
                </a:lnTo>
                <a:lnTo>
                  <a:pt x="1305" y="120"/>
                </a:lnTo>
                <a:lnTo>
                  <a:pt x="1334" y="137"/>
                </a:lnTo>
                <a:lnTo>
                  <a:pt x="1357" y="154"/>
                </a:lnTo>
                <a:lnTo>
                  <a:pt x="1381" y="172"/>
                </a:lnTo>
                <a:lnTo>
                  <a:pt x="1403" y="190"/>
                </a:lnTo>
                <a:lnTo>
                  <a:pt x="1426" y="209"/>
                </a:lnTo>
                <a:lnTo>
                  <a:pt x="1447" y="228"/>
                </a:lnTo>
                <a:lnTo>
                  <a:pt x="1467" y="249"/>
                </a:lnTo>
                <a:lnTo>
                  <a:pt x="1488" y="270"/>
                </a:lnTo>
                <a:lnTo>
                  <a:pt x="1507" y="291"/>
                </a:lnTo>
                <a:lnTo>
                  <a:pt x="1525" y="314"/>
                </a:lnTo>
                <a:lnTo>
                  <a:pt x="1542" y="336"/>
                </a:lnTo>
                <a:lnTo>
                  <a:pt x="1559" y="360"/>
                </a:lnTo>
                <a:lnTo>
                  <a:pt x="1576" y="384"/>
                </a:lnTo>
                <a:lnTo>
                  <a:pt x="1591" y="409"/>
                </a:lnTo>
                <a:lnTo>
                  <a:pt x="1606" y="433"/>
                </a:lnTo>
                <a:lnTo>
                  <a:pt x="1620" y="460"/>
                </a:lnTo>
                <a:lnTo>
                  <a:pt x="1634" y="486"/>
                </a:lnTo>
                <a:lnTo>
                  <a:pt x="1647" y="513"/>
                </a:lnTo>
                <a:lnTo>
                  <a:pt x="1658" y="541"/>
                </a:lnTo>
                <a:lnTo>
                  <a:pt x="1669" y="569"/>
                </a:lnTo>
                <a:lnTo>
                  <a:pt x="1680" y="597"/>
                </a:lnTo>
                <a:lnTo>
                  <a:pt x="1689" y="625"/>
                </a:lnTo>
                <a:lnTo>
                  <a:pt x="1698" y="654"/>
                </a:lnTo>
                <a:lnTo>
                  <a:pt x="1705" y="684"/>
                </a:lnTo>
                <a:lnTo>
                  <a:pt x="1712" y="714"/>
                </a:lnTo>
                <a:lnTo>
                  <a:pt x="1718" y="745"/>
                </a:lnTo>
                <a:lnTo>
                  <a:pt x="1724" y="776"/>
                </a:lnTo>
                <a:lnTo>
                  <a:pt x="1728" y="807"/>
                </a:lnTo>
                <a:lnTo>
                  <a:pt x="1732" y="839"/>
                </a:lnTo>
                <a:lnTo>
                  <a:pt x="1734" y="871"/>
                </a:lnTo>
                <a:lnTo>
                  <a:pt x="1736" y="903"/>
                </a:lnTo>
                <a:lnTo>
                  <a:pt x="1739" y="936"/>
                </a:lnTo>
                <a:lnTo>
                  <a:pt x="1739" y="970"/>
                </a:lnTo>
                <a:lnTo>
                  <a:pt x="1739" y="1001"/>
                </a:lnTo>
                <a:lnTo>
                  <a:pt x="1737" y="1033"/>
                </a:lnTo>
                <a:lnTo>
                  <a:pt x="1735" y="1064"/>
                </a:lnTo>
                <a:lnTo>
                  <a:pt x="1732" y="1095"/>
                </a:lnTo>
                <a:lnTo>
                  <a:pt x="1729" y="1126"/>
                </a:lnTo>
                <a:lnTo>
                  <a:pt x="1726" y="1156"/>
                </a:lnTo>
                <a:lnTo>
                  <a:pt x="1720" y="1186"/>
                </a:lnTo>
                <a:lnTo>
                  <a:pt x="1715" y="1216"/>
                </a:lnTo>
                <a:lnTo>
                  <a:pt x="1709" y="1244"/>
                </a:lnTo>
                <a:lnTo>
                  <a:pt x="1701" y="1273"/>
                </a:lnTo>
                <a:lnTo>
                  <a:pt x="1694" y="1302"/>
                </a:lnTo>
                <a:lnTo>
                  <a:pt x="1685" y="1331"/>
                </a:lnTo>
                <a:lnTo>
                  <a:pt x="1677" y="1359"/>
                </a:lnTo>
                <a:lnTo>
                  <a:pt x="1666" y="1386"/>
                </a:lnTo>
                <a:lnTo>
                  <a:pt x="1655" y="1414"/>
                </a:lnTo>
                <a:lnTo>
                  <a:pt x="1644" y="1442"/>
                </a:lnTo>
                <a:lnTo>
                  <a:pt x="1632" y="1469"/>
                </a:lnTo>
                <a:lnTo>
                  <a:pt x="1619" y="1494"/>
                </a:lnTo>
                <a:lnTo>
                  <a:pt x="1606" y="1520"/>
                </a:lnTo>
                <a:lnTo>
                  <a:pt x="1592" y="1544"/>
                </a:lnTo>
                <a:lnTo>
                  <a:pt x="1577" y="1569"/>
                </a:lnTo>
                <a:lnTo>
                  <a:pt x="1562" y="1592"/>
                </a:lnTo>
                <a:lnTo>
                  <a:pt x="1546" y="1615"/>
                </a:lnTo>
                <a:lnTo>
                  <a:pt x="1530" y="1636"/>
                </a:lnTo>
                <a:lnTo>
                  <a:pt x="1513" y="1657"/>
                </a:lnTo>
                <a:lnTo>
                  <a:pt x="1496" y="1678"/>
                </a:lnTo>
                <a:lnTo>
                  <a:pt x="1478" y="1698"/>
                </a:lnTo>
                <a:lnTo>
                  <a:pt x="1460" y="1717"/>
                </a:lnTo>
                <a:lnTo>
                  <a:pt x="1441" y="1735"/>
                </a:lnTo>
                <a:lnTo>
                  <a:pt x="1421" y="1752"/>
                </a:lnTo>
                <a:lnTo>
                  <a:pt x="1401" y="1770"/>
                </a:lnTo>
                <a:lnTo>
                  <a:pt x="1380" y="1786"/>
                </a:lnTo>
                <a:lnTo>
                  <a:pt x="1350" y="1808"/>
                </a:lnTo>
                <a:lnTo>
                  <a:pt x="1318" y="1828"/>
                </a:lnTo>
                <a:lnTo>
                  <a:pt x="1285" y="1846"/>
                </a:lnTo>
                <a:lnTo>
                  <a:pt x="1251" y="1865"/>
                </a:lnTo>
                <a:lnTo>
                  <a:pt x="1215" y="1879"/>
                </a:lnTo>
                <a:lnTo>
                  <a:pt x="1178" y="1894"/>
                </a:lnTo>
                <a:lnTo>
                  <a:pt x="1139" y="1906"/>
                </a:lnTo>
                <a:lnTo>
                  <a:pt x="1099" y="1917"/>
                </a:lnTo>
                <a:lnTo>
                  <a:pt x="1056" y="1926"/>
                </a:lnTo>
                <a:lnTo>
                  <a:pt x="1010" y="1935"/>
                </a:lnTo>
                <a:lnTo>
                  <a:pt x="962" y="1942"/>
                </a:lnTo>
                <a:lnTo>
                  <a:pt x="912" y="1948"/>
                </a:lnTo>
                <a:lnTo>
                  <a:pt x="859" y="1952"/>
                </a:lnTo>
                <a:lnTo>
                  <a:pt x="802" y="1955"/>
                </a:lnTo>
                <a:lnTo>
                  <a:pt x="742" y="1957"/>
                </a:lnTo>
                <a:lnTo>
                  <a:pt x="680" y="1957"/>
                </a:lnTo>
                <a:lnTo>
                  <a:pt x="292" y="1957"/>
                </a:lnTo>
                <a:lnTo>
                  <a:pt x="292" y="3377"/>
                </a:lnTo>
                <a:lnTo>
                  <a:pt x="0" y="3377"/>
                </a:lnTo>
                <a:lnTo>
                  <a:pt x="0" y="0"/>
                </a:lnTo>
                <a:close/>
              </a:path>
            </a:pathLst>
          </a:custGeom>
          <a:solidFill>
            <a:srgbClr val="f1b8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57360" y="533520"/>
            <a:ext cx="426960" cy="496800"/>
          </a:xfrm>
          <a:custGeom>
            <a:avLst/>
            <a:gdLst/>
            <a:ahLst/>
            <a:rect l="l" t="t" r="r" b="b"/>
            <a:pathLst>
              <a:path w="2964" h="3441">
                <a:moveTo>
                  <a:pt x="299" y="1706"/>
                </a:moveTo>
                <a:lnTo>
                  <a:pt x="299" y="1743"/>
                </a:lnTo>
                <a:lnTo>
                  <a:pt x="300" y="1780"/>
                </a:lnTo>
                <a:lnTo>
                  <a:pt x="301" y="1817"/>
                </a:lnTo>
                <a:lnTo>
                  <a:pt x="304" y="1853"/>
                </a:lnTo>
                <a:lnTo>
                  <a:pt x="306" y="1889"/>
                </a:lnTo>
                <a:lnTo>
                  <a:pt x="310" y="1924"/>
                </a:lnTo>
                <a:lnTo>
                  <a:pt x="315" y="1961"/>
                </a:lnTo>
                <a:lnTo>
                  <a:pt x="320" y="1995"/>
                </a:lnTo>
                <a:lnTo>
                  <a:pt x="325" y="2030"/>
                </a:lnTo>
                <a:lnTo>
                  <a:pt x="332" y="2064"/>
                </a:lnTo>
                <a:lnTo>
                  <a:pt x="339" y="2097"/>
                </a:lnTo>
                <a:lnTo>
                  <a:pt x="347" y="2130"/>
                </a:lnTo>
                <a:lnTo>
                  <a:pt x="355" y="2163"/>
                </a:lnTo>
                <a:lnTo>
                  <a:pt x="364" y="2197"/>
                </a:lnTo>
                <a:lnTo>
                  <a:pt x="374" y="2229"/>
                </a:lnTo>
                <a:lnTo>
                  <a:pt x="384" y="2261"/>
                </a:lnTo>
                <a:lnTo>
                  <a:pt x="396" y="2293"/>
                </a:lnTo>
                <a:lnTo>
                  <a:pt x="408" y="2324"/>
                </a:lnTo>
                <a:lnTo>
                  <a:pt x="419" y="2355"/>
                </a:lnTo>
                <a:lnTo>
                  <a:pt x="433" y="2384"/>
                </a:lnTo>
                <a:lnTo>
                  <a:pt x="447" y="2414"/>
                </a:lnTo>
                <a:lnTo>
                  <a:pt x="461" y="2444"/>
                </a:lnTo>
                <a:lnTo>
                  <a:pt x="476" y="2473"/>
                </a:lnTo>
                <a:lnTo>
                  <a:pt x="492" y="2502"/>
                </a:lnTo>
                <a:lnTo>
                  <a:pt x="509" y="2531"/>
                </a:lnTo>
                <a:lnTo>
                  <a:pt x="526" y="2558"/>
                </a:lnTo>
                <a:lnTo>
                  <a:pt x="544" y="2586"/>
                </a:lnTo>
                <a:lnTo>
                  <a:pt x="562" y="2614"/>
                </a:lnTo>
                <a:lnTo>
                  <a:pt x="582" y="2641"/>
                </a:lnTo>
                <a:lnTo>
                  <a:pt x="602" y="2667"/>
                </a:lnTo>
                <a:lnTo>
                  <a:pt x="622" y="2693"/>
                </a:lnTo>
                <a:lnTo>
                  <a:pt x="643" y="2718"/>
                </a:lnTo>
                <a:lnTo>
                  <a:pt x="665" y="2744"/>
                </a:lnTo>
                <a:lnTo>
                  <a:pt x="687" y="2769"/>
                </a:lnTo>
                <a:lnTo>
                  <a:pt x="710" y="2792"/>
                </a:lnTo>
                <a:lnTo>
                  <a:pt x="732" y="2815"/>
                </a:lnTo>
                <a:lnTo>
                  <a:pt x="755" y="2837"/>
                </a:lnTo>
                <a:lnTo>
                  <a:pt x="778" y="2858"/>
                </a:lnTo>
                <a:lnTo>
                  <a:pt x="802" y="2879"/>
                </a:lnTo>
                <a:lnTo>
                  <a:pt x="826" y="2898"/>
                </a:lnTo>
                <a:lnTo>
                  <a:pt x="850" y="2916"/>
                </a:lnTo>
                <a:lnTo>
                  <a:pt x="874" y="2934"/>
                </a:lnTo>
                <a:lnTo>
                  <a:pt x="900" y="2951"/>
                </a:lnTo>
                <a:lnTo>
                  <a:pt x="924" y="2968"/>
                </a:lnTo>
                <a:lnTo>
                  <a:pt x="950" y="2983"/>
                </a:lnTo>
                <a:lnTo>
                  <a:pt x="976" y="2998"/>
                </a:lnTo>
                <a:lnTo>
                  <a:pt x="1002" y="3012"/>
                </a:lnTo>
                <a:lnTo>
                  <a:pt x="1029" y="3026"/>
                </a:lnTo>
                <a:lnTo>
                  <a:pt x="1056" y="3038"/>
                </a:lnTo>
                <a:lnTo>
                  <a:pt x="1082" y="3049"/>
                </a:lnTo>
                <a:lnTo>
                  <a:pt x="1110" y="3060"/>
                </a:lnTo>
                <a:lnTo>
                  <a:pt x="1138" y="3071"/>
                </a:lnTo>
                <a:lnTo>
                  <a:pt x="1166" y="3079"/>
                </a:lnTo>
                <a:lnTo>
                  <a:pt x="1194" y="3088"/>
                </a:lnTo>
                <a:lnTo>
                  <a:pt x="1222" y="3095"/>
                </a:lnTo>
                <a:lnTo>
                  <a:pt x="1251" y="3102"/>
                </a:lnTo>
                <a:lnTo>
                  <a:pt x="1281" y="3108"/>
                </a:lnTo>
                <a:lnTo>
                  <a:pt x="1311" y="3113"/>
                </a:lnTo>
                <a:lnTo>
                  <a:pt x="1341" y="3118"/>
                </a:lnTo>
                <a:lnTo>
                  <a:pt x="1371" y="3121"/>
                </a:lnTo>
                <a:lnTo>
                  <a:pt x="1402" y="3124"/>
                </a:lnTo>
                <a:lnTo>
                  <a:pt x="1431" y="3126"/>
                </a:lnTo>
                <a:lnTo>
                  <a:pt x="1463" y="3127"/>
                </a:lnTo>
                <a:lnTo>
                  <a:pt x="1494" y="3127"/>
                </a:lnTo>
                <a:lnTo>
                  <a:pt x="1525" y="3127"/>
                </a:lnTo>
                <a:lnTo>
                  <a:pt x="1555" y="3126"/>
                </a:lnTo>
                <a:lnTo>
                  <a:pt x="1586" y="3124"/>
                </a:lnTo>
                <a:lnTo>
                  <a:pt x="1616" y="3121"/>
                </a:lnTo>
                <a:lnTo>
                  <a:pt x="1645" y="3118"/>
                </a:lnTo>
                <a:lnTo>
                  <a:pt x="1675" y="3113"/>
                </a:lnTo>
                <a:lnTo>
                  <a:pt x="1704" y="3108"/>
                </a:lnTo>
                <a:lnTo>
                  <a:pt x="1733" y="3102"/>
                </a:lnTo>
                <a:lnTo>
                  <a:pt x="1760" y="3095"/>
                </a:lnTo>
                <a:lnTo>
                  <a:pt x="1788" y="3088"/>
                </a:lnTo>
                <a:lnTo>
                  <a:pt x="1816" y="3079"/>
                </a:lnTo>
                <a:lnTo>
                  <a:pt x="1844" y="3070"/>
                </a:lnTo>
                <a:lnTo>
                  <a:pt x="1871" y="3059"/>
                </a:lnTo>
                <a:lnTo>
                  <a:pt x="1898" y="3048"/>
                </a:lnTo>
                <a:lnTo>
                  <a:pt x="1925" y="3037"/>
                </a:lnTo>
                <a:lnTo>
                  <a:pt x="1950" y="3024"/>
                </a:lnTo>
                <a:lnTo>
                  <a:pt x="1976" y="3011"/>
                </a:lnTo>
                <a:lnTo>
                  <a:pt x="2002" y="2997"/>
                </a:lnTo>
                <a:lnTo>
                  <a:pt x="2027" y="2982"/>
                </a:lnTo>
                <a:lnTo>
                  <a:pt x="2053" y="2966"/>
                </a:lnTo>
                <a:lnTo>
                  <a:pt x="2077" y="2950"/>
                </a:lnTo>
                <a:lnTo>
                  <a:pt x="2102" y="2932"/>
                </a:lnTo>
                <a:lnTo>
                  <a:pt x="2125" y="2914"/>
                </a:lnTo>
                <a:lnTo>
                  <a:pt x="2150" y="2895"/>
                </a:lnTo>
                <a:lnTo>
                  <a:pt x="2173" y="2875"/>
                </a:lnTo>
                <a:lnTo>
                  <a:pt x="2197" y="2855"/>
                </a:lnTo>
                <a:lnTo>
                  <a:pt x="2219" y="2834"/>
                </a:lnTo>
                <a:lnTo>
                  <a:pt x="2242" y="2811"/>
                </a:lnTo>
                <a:lnTo>
                  <a:pt x="2264" y="2788"/>
                </a:lnTo>
                <a:lnTo>
                  <a:pt x="2287" y="2764"/>
                </a:lnTo>
                <a:lnTo>
                  <a:pt x="2308" y="2740"/>
                </a:lnTo>
                <a:lnTo>
                  <a:pt x="2329" y="2714"/>
                </a:lnTo>
                <a:lnTo>
                  <a:pt x="2351" y="2689"/>
                </a:lnTo>
                <a:lnTo>
                  <a:pt x="2371" y="2662"/>
                </a:lnTo>
                <a:lnTo>
                  <a:pt x="2390" y="2635"/>
                </a:lnTo>
                <a:lnTo>
                  <a:pt x="2409" y="2607"/>
                </a:lnTo>
                <a:lnTo>
                  <a:pt x="2428" y="2580"/>
                </a:lnTo>
                <a:lnTo>
                  <a:pt x="2446" y="2552"/>
                </a:lnTo>
                <a:lnTo>
                  <a:pt x="2463" y="2524"/>
                </a:lnTo>
                <a:lnTo>
                  <a:pt x="2479" y="2495"/>
                </a:lnTo>
                <a:lnTo>
                  <a:pt x="2495" y="2467"/>
                </a:lnTo>
                <a:lnTo>
                  <a:pt x="2510" y="2437"/>
                </a:lnTo>
                <a:lnTo>
                  <a:pt x="2524" y="2407"/>
                </a:lnTo>
                <a:lnTo>
                  <a:pt x="2538" y="2377"/>
                </a:lnTo>
                <a:lnTo>
                  <a:pt x="2550" y="2346"/>
                </a:lnTo>
                <a:lnTo>
                  <a:pt x="2563" y="2315"/>
                </a:lnTo>
                <a:lnTo>
                  <a:pt x="2575" y="2284"/>
                </a:lnTo>
                <a:lnTo>
                  <a:pt x="2586" y="2252"/>
                </a:lnTo>
                <a:lnTo>
                  <a:pt x="2595" y="2220"/>
                </a:lnTo>
                <a:lnTo>
                  <a:pt x="2606" y="2188"/>
                </a:lnTo>
                <a:lnTo>
                  <a:pt x="2614" y="2155"/>
                </a:lnTo>
                <a:lnTo>
                  <a:pt x="2623" y="2122"/>
                </a:lnTo>
                <a:lnTo>
                  <a:pt x="2630" y="2089"/>
                </a:lnTo>
                <a:lnTo>
                  <a:pt x="2638" y="2055"/>
                </a:lnTo>
                <a:lnTo>
                  <a:pt x="2643" y="2020"/>
                </a:lnTo>
                <a:lnTo>
                  <a:pt x="2650" y="1986"/>
                </a:lnTo>
                <a:lnTo>
                  <a:pt x="2654" y="1951"/>
                </a:lnTo>
                <a:lnTo>
                  <a:pt x="2658" y="1916"/>
                </a:lnTo>
                <a:lnTo>
                  <a:pt x="2662" y="1880"/>
                </a:lnTo>
                <a:lnTo>
                  <a:pt x="2666" y="1844"/>
                </a:lnTo>
                <a:lnTo>
                  <a:pt x="2668" y="1807"/>
                </a:lnTo>
                <a:lnTo>
                  <a:pt x="2669" y="1771"/>
                </a:lnTo>
                <a:lnTo>
                  <a:pt x="2670" y="1733"/>
                </a:lnTo>
                <a:lnTo>
                  <a:pt x="2671" y="1696"/>
                </a:lnTo>
                <a:lnTo>
                  <a:pt x="2670" y="1661"/>
                </a:lnTo>
                <a:lnTo>
                  <a:pt x="2669" y="1626"/>
                </a:lnTo>
                <a:lnTo>
                  <a:pt x="2668" y="1591"/>
                </a:lnTo>
                <a:lnTo>
                  <a:pt x="2666" y="1557"/>
                </a:lnTo>
                <a:lnTo>
                  <a:pt x="2662" y="1523"/>
                </a:lnTo>
                <a:lnTo>
                  <a:pt x="2658" y="1490"/>
                </a:lnTo>
                <a:lnTo>
                  <a:pt x="2654" y="1457"/>
                </a:lnTo>
                <a:lnTo>
                  <a:pt x="2649" y="1424"/>
                </a:lnTo>
                <a:lnTo>
                  <a:pt x="2643" y="1391"/>
                </a:lnTo>
                <a:lnTo>
                  <a:pt x="2637" y="1359"/>
                </a:lnTo>
                <a:lnTo>
                  <a:pt x="2629" y="1327"/>
                </a:lnTo>
                <a:lnTo>
                  <a:pt x="2621" y="1295"/>
                </a:lnTo>
                <a:lnTo>
                  <a:pt x="2612" y="1264"/>
                </a:lnTo>
                <a:lnTo>
                  <a:pt x="2604" y="1233"/>
                </a:lnTo>
                <a:lnTo>
                  <a:pt x="2593" y="1202"/>
                </a:lnTo>
                <a:lnTo>
                  <a:pt x="2582" y="1171"/>
                </a:lnTo>
                <a:lnTo>
                  <a:pt x="2572" y="1141"/>
                </a:lnTo>
                <a:lnTo>
                  <a:pt x="2560" y="1111"/>
                </a:lnTo>
                <a:lnTo>
                  <a:pt x="2547" y="1081"/>
                </a:lnTo>
                <a:lnTo>
                  <a:pt x="2533" y="1052"/>
                </a:lnTo>
                <a:lnTo>
                  <a:pt x="2519" y="1024"/>
                </a:lnTo>
                <a:lnTo>
                  <a:pt x="2504" y="995"/>
                </a:lnTo>
                <a:lnTo>
                  <a:pt x="2490" y="966"/>
                </a:lnTo>
                <a:lnTo>
                  <a:pt x="2474" y="938"/>
                </a:lnTo>
                <a:lnTo>
                  <a:pt x="2456" y="911"/>
                </a:lnTo>
                <a:lnTo>
                  <a:pt x="2439" y="883"/>
                </a:lnTo>
                <a:lnTo>
                  <a:pt x="2420" y="856"/>
                </a:lnTo>
                <a:lnTo>
                  <a:pt x="2402" y="828"/>
                </a:lnTo>
                <a:lnTo>
                  <a:pt x="2383" y="802"/>
                </a:lnTo>
                <a:lnTo>
                  <a:pt x="2362" y="776"/>
                </a:lnTo>
                <a:lnTo>
                  <a:pt x="2341" y="749"/>
                </a:lnTo>
                <a:lnTo>
                  <a:pt x="2320" y="724"/>
                </a:lnTo>
                <a:lnTo>
                  <a:pt x="2297" y="699"/>
                </a:lnTo>
                <a:lnTo>
                  <a:pt x="2275" y="675"/>
                </a:lnTo>
                <a:lnTo>
                  <a:pt x="2253" y="651"/>
                </a:lnTo>
                <a:lnTo>
                  <a:pt x="2230" y="629"/>
                </a:lnTo>
                <a:lnTo>
                  <a:pt x="2207" y="606"/>
                </a:lnTo>
                <a:lnTo>
                  <a:pt x="2183" y="585"/>
                </a:lnTo>
                <a:lnTo>
                  <a:pt x="2160" y="565"/>
                </a:lnTo>
                <a:lnTo>
                  <a:pt x="2135" y="546"/>
                </a:lnTo>
                <a:lnTo>
                  <a:pt x="2112" y="527"/>
                </a:lnTo>
                <a:lnTo>
                  <a:pt x="2087" y="509"/>
                </a:lnTo>
                <a:lnTo>
                  <a:pt x="2061" y="492"/>
                </a:lnTo>
                <a:lnTo>
                  <a:pt x="2037" y="475"/>
                </a:lnTo>
                <a:lnTo>
                  <a:pt x="2011" y="460"/>
                </a:lnTo>
                <a:lnTo>
                  <a:pt x="1986" y="445"/>
                </a:lnTo>
                <a:lnTo>
                  <a:pt x="1959" y="431"/>
                </a:lnTo>
                <a:lnTo>
                  <a:pt x="1933" y="419"/>
                </a:lnTo>
                <a:lnTo>
                  <a:pt x="1907" y="406"/>
                </a:lnTo>
                <a:lnTo>
                  <a:pt x="1880" y="394"/>
                </a:lnTo>
                <a:lnTo>
                  <a:pt x="1852" y="383"/>
                </a:lnTo>
                <a:lnTo>
                  <a:pt x="1825" y="374"/>
                </a:lnTo>
                <a:lnTo>
                  <a:pt x="1798" y="364"/>
                </a:lnTo>
                <a:lnTo>
                  <a:pt x="1770" y="356"/>
                </a:lnTo>
                <a:lnTo>
                  <a:pt x="1741" y="348"/>
                </a:lnTo>
                <a:lnTo>
                  <a:pt x="1712" y="342"/>
                </a:lnTo>
                <a:lnTo>
                  <a:pt x="1683" y="335"/>
                </a:lnTo>
                <a:lnTo>
                  <a:pt x="1655" y="331"/>
                </a:lnTo>
                <a:lnTo>
                  <a:pt x="1626" y="327"/>
                </a:lnTo>
                <a:lnTo>
                  <a:pt x="1596" y="322"/>
                </a:lnTo>
                <a:lnTo>
                  <a:pt x="1566" y="320"/>
                </a:lnTo>
                <a:lnTo>
                  <a:pt x="1536" y="318"/>
                </a:lnTo>
                <a:lnTo>
                  <a:pt x="1505" y="317"/>
                </a:lnTo>
                <a:lnTo>
                  <a:pt x="1474" y="316"/>
                </a:lnTo>
                <a:lnTo>
                  <a:pt x="1450" y="316"/>
                </a:lnTo>
                <a:lnTo>
                  <a:pt x="1424" y="317"/>
                </a:lnTo>
                <a:lnTo>
                  <a:pt x="1399" y="319"/>
                </a:lnTo>
                <a:lnTo>
                  <a:pt x="1375" y="321"/>
                </a:lnTo>
                <a:lnTo>
                  <a:pt x="1350" y="324"/>
                </a:lnTo>
                <a:lnTo>
                  <a:pt x="1326" y="328"/>
                </a:lnTo>
                <a:lnTo>
                  <a:pt x="1301" y="331"/>
                </a:lnTo>
                <a:lnTo>
                  <a:pt x="1277" y="336"/>
                </a:lnTo>
                <a:lnTo>
                  <a:pt x="1253" y="341"/>
                </a:lnTo>
                <a:lnTo>
                  <a:pt x="1229" y="347"/>
                </a:lnTo>
                <a:lnTo>
                  <a:pt x="1205" y="353"/>
                </a:lnTo>
                <a:lnTo>
                  <a:pt x="1181" y="361"/>
                </a:lnTo>
                <a:lnTo>
                  <a:pt x="1157" y="368"/>
                </a:lnTo>
                <a:lnTo>
                  <a:pt x="1134" y="376"/>
                </a:lnTo>
                <a:lnTo>
                  <a:pt x="1110" y="385"/>
                </a:lnTo>
                <a:lnTo>
                  <a:pt x="1087" y="395"/>
                </a:lnTo>
                <a:lnTo>
                  <a:pt x="1064" y="405"/>
                </a:lnTo>
                <a:lnTo>
                  <a:pt x="1041" y="415"/>
                </a:lnTo>
                <a:lnTo>
                  <a:pt x="1018" y="427"/>
                </a:lnTo>
                <a:lnTo>
                  <a:pt x="996" y="439"/>
                </a:lnTo>
                <a:lnTo>
                  <a:pt x="973" y="452"/>
                </a:lnTo>
                <a:lnTo>
                  <a:pt x="951" y="464"/>
                </a:lnTo>
                <a:lnTo>
                  <a:pt x="930" y="477"/>
                </a:lnTo>
                <a:lnTo>
                  <a:pt x="907" y="492"/>
                </a:lnTo>
                <a:lnTo>
                  <a:pt x="886" y="506"/>
                </a:lnTo>
                <a:lnTo>
                  <a:pt x="866" y="522"/>
                </a:lnTo>
                <a:lnTo>
                  <a:pt x="844" y="538"/>
                </a:lnTo>
                <a:lnTo>
                  <a:pt x="823" y="554"/>
                </a:lnTo>
                <a:lnTo>
                  <a:pt x="803" y="571"/>
                </a:lnTo>
                <a:lnTo>
                  <a:pt x="782" y="589"/>
                </a:lnTo>
                <a:lnTo>
                  <a:pt x="762" y="607"/>
                </a:lnTo>
                <a:lnTo>
                  <a:pt x="743" y="626"/>
                </a:lnTo>
                <a:lnTo>
                  <a:pt x="717" y="651"/>
                </a:lnTo>
                <a:lnTo>
                  <a:pt x="693" y="677"/>
                </a:lnTo>
                <a:lnTo>
                  <a:pt x="668" y="703"/>
                </a:lnTo>
                <a:lnTo>
                  <a:pt x="645" y="731"/>
                </a:lnTo>
                <a:lnTo>
                  <a:pt x="622" y="759"/>
                </a:lnTo>
                <a:lnTo>
                  <a:pt x="600" y="788"/>
                </a:lnTo>
                <a:lnTo>
                  <a:pt x="578" y="818"/>
                </a:lnTo>
                <a:lnTo>
                  <a:pt x="557" y="848"/>
                </a:lnTo>
                <a:lnTo>
                  <a:pt x="538" y="878"/>
                </a:lnTo>
                <a:lnTo>
                  <a:pt x="518" y="909"/>
                </a:lnTo>
                <a:lnTo>
                  <a:pt x="499" y="943"/>
                </a:lnTo>
                <a:lnTo>
                  <a:pt x="481" y="976"/>
                </a:lnTo>
                <a:lnTo>
                  <a:pt x="464" y="1009"/>
                </a:lnTo>
                <a:lnTo>
                  <a:pt x="448" y="1043"/>
                </a:lnTo>
                <a:lnTo>
                  <a:pt x="432" y="1078"/>
                </a:lnTo>
                <a:lnTo>
                  <a:pt x="416" y="1114"/>
                </a:lnTo>
                <a:lnTo>
                  <a:pt x="402" y="1151"/>
                </a:lnTo>
                <a:lnTo>
                  <a:pt x="388" y="1187"/>
                </a:lnTo>
                <a:lnTo>
                  <a:pt x="377" y="1223"/>
                </a:lnTo>
                <a:lnTo>
                  <a:pt x="365" y="1260"/>
                </a:lnTo>
                <a:lnTo>
                  <a:pt x="354" y="1296"/>
                </a:lnTo>
                <a:lnTo>
                  <a:pt x="345" y="1333"/>
                </a:lnTo>
                <a:lnTo>
                  <a:pt x="336" y="1369"/>
                </a:lnTo>
                <a:lnTo>
                  <a:pt x="327" y="1407"/>
                </a:lnTo>
                <a:lnTo>
                  <a:pt x="321" y="1443"/>
                </a:lnTo>
                <a:lnTo>
                  <a:pt x="315" y="1480"/>
                </a:lnTo>
                <a:lnTo>
                  <a:pt x="309" y="1518"/>
                </a:lnTo>
                <a:lnTo>
                  <a:pt x="305" y="1555"/>
                </a:lnTo>
                <a:lnTo>
                  <a:pt x="302" y="1592"/>
                </a:lnTo>
                <a:lnTo>
                  <a:pt x="300" y="1630"/>
                </a:lnTo>
                <a:lnTo>
                  <a:pt x="299" y="1667"/>
                </a:lnTo>
                <a:lnTo>
                  <a:pt x="299" y="1706"/>
                </a:lnTo>
                <a:close/>
                <a:moveTo>
                  <a:pt x="0" y="1700"/>
                </a:moveTo>
                <a:lnTo>
                  <a:pt x="0" y="1658"/>
                </a:lnTo>
                <a:lnTo>
                  <a:pt x="1" y="1615"/>
                </a:lnTo>
                <a:lnTo>
                  <a:pt x="4" y="1572"/>
                </a:lnTo>
                <a:lnTo>
                  <a:pt x="7" y="1530"/>
                </a:lnTo>
                <a:lnTo>
                  <a:pt x="10" y="1488"/>
                </a:lnTo>
                <a:lnTo>
                  <a:pt x="16" y="1446"/>
                </a:lnTo>
                <a:lnTo>
                  <a:pt x="22" y="1405"/>
                </a:lnTo>
                <a:lnTo>
                  <a:pt x="29" y="1363"/>
                </a:lnTo>
                <a:lnTo>
                  <a:pt x="36" y="1321"/>
                </a:lnTo>
                <a:lnTo>
                  <a:pt x="45" y="1281"/>
                </a:lnTo>
                <a:lnTo>
                  <a:pt x="54" y="1240"/>
                </a:lnTo>
                <a:lnTo>
                  <a:pt x="65" y="1200"/>
                </a:lnTo>
                <a:lnTo>
                  <a:pt x="77" y="1160"/>
                </a:lnTo>
                <a:lnTo>
                  <a:pt x="88" y="1120"/>
                </a:lnTo>
                <a:lnTo>
                  <a:pt x="101" y="1080"/>
                </a:lnTo>
                <a:lnTo>
                  <a:pt x="116" y="1042"/>
                </a:lnTo>
                <a:lnTo>
                  <a:pt x="131" y="1002"/>
                </a:lnTo>
                <a:lnTo>
                  <a:pt x="147" y="964"/>
                </a:lnTo>
                <a:lnTo>
                  <a:pt x="163" y="927"/>
                </a:lnTo>
                <a:lnTo>
                  <a:pt x="181" y="888"/>
                </a:lnTo>
                <a:lnTo>
                  <a:pt x="199" y="852"/>
                </a:lnTo>
                <a:lnTo>
                  <a:pt x="219" y="816"/>
                </a:lnTo>
                <a:lnTo>
                  <a:pt x="238" y="779"/>
                </a:lnTo>
                <a:lnTo>
                  <a:pt x="259" y="744"/>
                </a:lnTo>
                <a:lnTo>
                  <a:pt x="280" y="709"/>
                </a:lnTo>
                <a:lnTo>
                  <a:pt x="303" y="675"/>
                </a:lnTo>
                <a:lnTo>
                  <a:pt x="326" y="642"/>
                </a:lnTo>
                <a:lnTo>
                  <a:pt x="350" y="607"/>
                </a:lnTo>
                <a:lnTo>
                  <a:pt x="374" y="575"/>
                </a:lnTo>
                <a:lnTo>
                  <a:pt x="400" y="542"/>
                </a:lnTo>
                <a:lnTo>
                  <a:pt x="427" y="511"/>
                </a:lnTo>
                <a:lnTo>
                  <a:pt x="455" y="479"/>
                </a:lnTo>
                <a:lnTo>
                  <a:pt x="481" y="451"/>
                </a:lnTo>
                <a:lnTo>
                  <a:pt x="508" y="422"/>
                </a:lnTo>
                <a:lnTo>
                  <a:pt x="536" y="395"/>
                </a:lnTo>
                <a:lnTo>
                  <a:pt x="563" y="368"/>
                </a:lnTo>
                <a:lnTo>
                  <a:pt x="591" y="343"/>
                </a:lnTo>
                <a:lnTo>
                  <a:pt x="620" y="318"/>
                </a:lnTo>
                <a:lnTo>
                  <a:pt x="649" y="294"/>
                </a:lnTo>
                <a:lnTo>
                  <a:pt x="678" y="271"/>
                </a:lnTo>
                <a:lnTo>
                  <a:pt x="708" y="249"/>
                </a:lnTo>
                <a:lnTo>
                  <a:pt x="737" y="227"/>
                </a:lnTo>
                <a:lnTo>
                  <a:pt x="767" y="208"/>
                </a:lnTo>
                <a:lnTo>
                  <a:pt x="798" y="189"/>
                </a:lnTo>
                <a:lnTo>
                  <a:pt x="829" y="170"/>
                </a:lnTo>
                <a:lnTo>
                  <a:pt x="860" y="153"/>
                </a:lnTo>
                <a:lnTo>
                  <a:pt x="892" y="137"/>
                </a:lnTo>
                <a:lnTo>
                  <a:pt x="923" y="121"/>
                </a:lnTo>
                <a:lnTo>
                  <a:pt x="956" y="106"/>
                </a:lnTo>
                <a:lnTo>
                  <a:pt x="988" y="93"/>
                </a:lnTo>
                <a:lnTo>
                  <a:pt x="1021" y="80"/>
                </a:lnTo>
                <a:lnTo>
                  <a:pt x="1055" y="68"/>
                </a:lnTo>
                <a:lnTo>
                  <a:pt x="1088" y="58"/>
                </a:lnTo>
                <a:lnTo>
                  <a:pt x="1122" y="48"/>
                </a:lnTo>
                <a:lnTo>
                  <a:pt x="1156" y="39"/>
                </a:lnTo>
                <a:lnTo>
                  <a:pt x="1190" y="31"/>
                </a:lnTo>
                <a:lnTo>
                  <a:pt x="1225" y="24"/>
                </a:lnTo>
                <a:lnTo>
                  <a:pt x="1261" y="17"/>
                </a:lnTo>
                <a:lnTo>
                  <a:pt x="1296" y="12"/>
                </a:lnTo>
                <a:lnTo>
                  <a:pt x="1332" y="8"/>
                </a:lnTo>
                <a:lnTo>
                  <a:pt x="1368" y="4"/>
                </a:lnTo>
                <a:lnTo>
                  <a:pt x="1405" y="2"/>
                </a:lnTo>
                <a:lnTo>
                  <a:pt x="1442" y="1"/>
                </a:lnTo>
                <a:lnTo>
                  <a:pt x="1479" y="0"/>
                </a:lnTo>
                <a:lnTo>
                  <a:pt x="1517" y="1"/>
                </a:lnTo>
                <a:lnTo>
                  <a:pt x="1554" y="2"/>
                </a:lnTo>
                <a:lnTo>
                  <a:pt x="1592" y="4"/>
                </a:lnTo>
                <a:lnTo>
                  <a:pt x="1628" y="9"/>
                </a:lnTo>
                <a:lnTo>
                  <a:pt x="1665" y="13"/>
                </a:lnTo>
                <a:lnTo>
                  <a:pt x="1702" y="17"/>
                </a:lnTo>
                <a:lnTo>
                  <a:pt x="1737" y="24"/>
                </a:lnTo>
                <a:lnTo>
                  <a:pt x="1772" y="31"/>
                </a:lnTo>
                <a:lnTo>
                  <a:pt x="1807" y="39"/>
                </a:lnTo>
                <a:lnTo>
                  <a:pt x="1843" y="48"/>
                </a:lnTo>
                <a:lnTo>
                  <a:pt x="1877" y="58"/>
                </a:lnTo>
                <a:lnTo>
                  <a:pt x="1911" y="68"/>
                </a:lnTo>
                <a:lnTo>
                  <a:pt x="1945" y="81"/>
                </a:lnTo>
                <a:lnTo>
                  <a:pt x="1978" y="94"/>
                </a:lnTo>
                <a:lnTo>
                  <a:pt x="2011" y="108"/>
                </a:lnTo>
                <a:lnTo>
                  <a:pt x="2044" y="122"/>
                </a:lnTo>
                <a:lnTo>
                  <a:pt x="2076" y="138"/>
                </a:lnTo>
                <a:lnTo>
                  <a:pt x="2108" y="155"/>
                </a:lnTo>
                <a:lnTo>
                  <a:pt x="2140" y="172"/>
                </a:lnTo>
                <a:lnTo>
                  <a:pt x="2171" y="190"/>
                </a:lnTo>
                <a:lnTo>
                  <a:pt x="2202" y="209"/>
                </a:lnTo>
                <a:lnTo>
                  <a:pt x="2233" y="230"/>
                </a:lnTo>
                <a:lnTo>
                  <a:pt x="2263" y="251"/>
                </a:lnTo>
                <a:lnTo>
                  <a:pt x="2293" y="273"/>
                </a:lnTo>
                <a:lnTo>
                  <a:pt x="2323" y="297"/>
                </a:lnTo>
                <a:lnTo>
                  <a:pt x="2352" y="320"/>
                </a:lnTo>
                <a:lnTo>
                  <a:pt x="2381" y="346"/>
                </a:lnTo>
                <a:lnTo>
                  <a:pt x="2409" y="372"/>
                </a:lnTo>
                <a:lnTo>
                  <a:pt x="2437" y="398"/>
                </a:lnTo>
                <a:lnTo>
                  <a:pt x="2465" y="426"/>
                </a:lnTo>
                <a:lnTo>
                  <a:pt x="2493" y="455"/>
                </a:lnTo>
                <a:lnTo>
                  <a:pt x="2519" y="485"/>
                </a:lnTo>
                <a:lnTo>
                  <a:pt x="2547" y="516"/>
                </a:lnTo>
                <a:lnTo>
                  <a:pt x="2573" y="548"/>
                </a:lnTo>
                <a:lnTo>
                  <a:pt x="2598" y="580"/>
                </a:lnTo>
                <a:lnTo>
                  <a:pt x="2623" y="612"/>
                </a:lnTo>
                <a:lnTo>
                  <a:pt x="2648" y="645"/>
                </a:lnTo>
                <a:lnTo>
                  <a:pt x="2670" y="679"/>
                </a:lnTo>
                <a:lnTo>
                  <a:pt x="2692" y="713"/>
                </a:lnTo>
                <a:lnTo>
                  <a:pt x="2714" y="747"/>
                </a:lnTo>
                <a:lnTo>
                  <a:pt x="2734" y="781"/>
                </a:lnTo>
                <a:lnTo>
                  <a:pt x="2753" y="818"/>
                </a:lnTo>
                <a:lnTo>
                  <a:pt x="2772" y="853"/>
                </a:lnTo>
                <a:lnTo>
                  <a:pt x="2790" y="889"/>
                </a:lnTo>
                <a:lnTo>
                  <a:pt x="2807" y="927"/>
                </a:lnTo>
                <a:lnTo>
                  <a:pt x="2823" y="963"/>
                </a:lnTo>
                <a:lnTo>
                  <a:pt x="2838" y="1001"/>
                </a:lnTo>
                <a:lnTo>
                  <a:pt x="2853" y="1039"/>
                </a:lnTo>
                <a:lnTo>
                  <a:pt x="2866" y="1078"/>
                </a:lnTo>
                <a:lnTo>
                  <a:pt x="2878" y="1116"/>
                </a:lnTo>
                <a:lnTo>
                  <a:pt x="2890" y="1156"/>
                </a:lnTo>
                <a:lnTo>
                  <a:pt x="2902" y="1195"/>
                </a:lnTo>
                <a:lnTo>
                  <a:pt x="2911" y="1236"/>
                </a:lnTo>
                <a:lnTo>
                  <a:pt x="2920" y="1276"/>
                </a:lnTo>
                <a:lnTo>
                  <a:pt x="2928" y="1317"/>
                </a:lnTo>
                <a:lnTo>
                  <a:pt x="2936" y="1358"/>
                </a:lnTo>
                <a:lnTo>
                  <a:pt x="2942" y="1399"/>
                </a:lnTo>
                <a:lnTo>
                  <a:pt x="2949" y="1441"/>
                </a:lnTo>
                <a:lnTo>
                  <a:pt x="2953" y="1484"/>
                </a:lnTo>
                <a:lnTo>
                  <a:pt x="2957" y="1526"/>
                </a:lnTo>
                <a:lnTo>
                  <a:pt x="2960" y="1569"/>
                </a:lnTo>
                <a:lnTo>
                  <a:pt x="2963" y="1613"/>
                </a:lnTo>
                <a:lnTo>
                  <a:pt x="2964" y="1657"/>
                </a:lnTo>
                <a:lnTo>
                  <a:pt x="2964" y="1700"/>
                </a:lnTo>
                <a:lnTo>
                  <a:pt x="2964" y="1744"/>
                </a:lnTo>
                <a:lnTo>
                  <a:pt x="2963" y="1788"/>
                </a:lnTo>
                <a:lnTo>
                  <a:pt x="2960" y="1830"/>
                </a:lnTo>
                <a:lnTo>
                  <a:pt x="2958" y="1873"/>
                </a:lnTo>
                <a:lnTo>
                  <a:pt x="2955" y="1915"/>
                </a:lnTo>
                <a:lnTo>
                  <a:pt x="2951" y="1956"/>
                </a:lnTo>
                <a:lnTo>
                  <a:pt x="2945" y="1997"/>
                </a:lnTo>
                <a:lnTo>
                  <a:pt x="2940" y="2038"/>
                </a:lnTo>
                <a:lnTo>
                  <a:pt x="2934" y="2078"/>
                </a:lnTo>
                <a:lnTo>
                  <a:pt x="2926" y="2118"/>
                </a:lnTo>
                <a:lnTo>
                  <a:pt x="2919" y="2157"/>
                </a:lnTo>
                <a:lnTo>
                  <a:pt x="2910" y="2196"/>
                </a:lnTo>
                <a:lnTo>
                  <a:pt x="2901" y="2234"/>
                </a:lnTo>
                <a:lnTo>
                  <a:pt x="2891" y="2272"/>
                </a:lnTo>
                <a:lnTo>
                  <a:pt x="2879" y="2310"/>
                </a:lnTo>
                <a:lnTo>
                  <a:pt x="2869" y="2347"/>
                </a:lnTo>
                <a:lnTo>
                  <a:pt x="2856" y="2383"/>
                </a:lnTo>
                <a:lnTo>
                  <a:pt x="2843" y="2420"/>
                </a:lnTo>
                <a:lnTo>
                  <a:pt x="2829" y="2455"/>
                </a:lnTo>
                <a:lnTo>
                  <a:pt x="2814" y="2490"/>
                </a:lnTo>
                <a:lnTo>
                  <a:pt x="2799" y="2525"/>
                </a:lnTo>
                <a:lnTo>
                  <a:pt x="2783" y="2559"/>
                </a:lnTo>
                <a:lnTo>
                  <a:pt x="2766" y="2594"/>
                </a:lnTo>
                <a:lnTo>
                  <a:pt x="2749" y="2628"/>
                </a:lnTo>
                <a:lnTo>
                  <a:pt x="2731" y="2661"/>
                </a:lnTo>
                <a:lnTo>
                  <a:pt x="2712" y="2694"/>
                </a:lnTo>
                <a:lnTo>
                  <a:pt x="2691" y="2726"/>
                </a:lnTo>
                <a:lnTo>
                  <a:pt x="2671" y="2758"/>
                </a:lnTo>
                <a:lnTo>
                  <a:pt x="2650" y="2790"/>
                </a:lnTo>
                <a:lnTo>
                  <a:pt x="2628" y="2821"/>
                </a:lnTo>
                <a:lnTo>
                  <a:pt x="2605" y="2852"/>
                </a:lnTo>
                <a:lnTo>
                  <a:pt x="2581" y="2882"/>
                </a:lnTo>
                <a:lnTo>
                  <a:pt x="2554" y="2916"/>
                </a:lnTo>
                <a:lnTo>
                  <a:pt x="2525" y="2949"/>
                </a:lnTo>
                <a:lnTo>
                  <a:pt x="2497" y="2981"/>
                </a:lnTo>
                <a:lnTo>
                  <a:pt x="2467" y="3012"/>
                </a:lnTo>
                <a:lnTo>
                  <a:pt x="2437" y="3042"/>
                </a:lnTo>
                <a:lnTo>
                  <a:pt x="2407" y="3071"/>
                </a:lnTo>
                <a:lnTo>
                  <a:pt x="2376" y="3098"/>
                </a:lnTo>
                <a:lnTo>
                  <a:pt x="2345" y="3125"/>
                </a:lnTo>
                <a:lnTo>
                  <a:pt x="2314" y="3151"/>
                </a:lnTo>
                <a:lnTo>
                  <a:pt x="2282" y="3175"/>
                </a:lnTo>
                <a:lnTo>
                  <a:pt x="2249" y="3199"/>
                </a:lnTo>
                <a:lnTo>
                  <a:pt x="2217" y="3221"/>
                </a:lnTo>
                <a:lnTo>
                  <a:pt x="2183" y="3242"/>
                </a:lnTo>
                <a:lnTo>
                  <a:pt x="2150" y="3263"/>
                </a:lnTo>
                <a:lnTo>
                  <a:pt x="2116" y="3282"/>
                </a:lnTo>
                <a:lnTo>
                  <a:pt x="2081" y="3300"/>
                </a:lnTo>
                <a:lnTo>
                  <a:pt x="2045" y="3317"/>
                </a:lnTo>
                <a:lnTo>
                  <a:pt x="2010" y="3333"/>
                </a:lnTo>
                <a:lnTo>
                  <a:pt x="1975" y="3348"/>
                </a:lnTo>
                <a:lnTo>
                  <a:pt x="1939" y="3362"/>
                </a:lnTo>
                <a:lnTo>
                  <a:pt x="1901" y="3374"/>
                </a:lnTo>
                <a:lnTo>
                  <a:pt x="1865" y="3386"/>
                </a:lnTo>
                <a:lnTo>
                  <a:pt x="1828" y="3396"/>
                </a:lnTo>
                <a:lnTo>
                  <a:pt x="1790" y="3406"/>
                </a:lnTo>
                <a:lnTo>
                  <a:pt x="1752" y="3414"/>
                </a:lnTo>
                <a:lnTo>
                  <a:pt x="1713" y="3421"/>
                </a:lnTo>
                <a:lnTo>
                  <a:pt x="1675" y="3427"/>
                </a:lnTo>
                <a:lnTo>
                  <a:pt x="1635" y="3432"/>
                </a:lnTo>
                <a:lnTo>
                  <a:pt x="1596" y="3436"/>
                </a:lnTo>
                <a:lnTo>
                  <a:pt x="1556" y="3439"/>
                </a:lnTo>
                <a:lnTo>
                  <a:pt x="1516" y="3440"/>
                </a:lnTo>
                <a:lnTo>
                  <a:pt x="1475" y="3441"/>
                </a:lnTo>
                <a:lnTo>
                  <a:pt x="1436" y="3441"/>
                </a:lnTo>
                <a:lnTo>
                  <a:pt x="1397" y="3439"/>
                </a:lnTo>
                <a:lnTo>
                  <a:pt x="1359" y="3437"/>
                </a:lnTo>
                <a:lnTo>
                  <a:pt x="1321" y="3434"/>
                </a:lnTo>
                <a:lnTo>
                  <a:pt x="1284" y="3429"/>
                </a:lnTo>
                <a:lnTo>
                  <a:pt x="1247" y="3423"/>
                </a:lnTo>
                <a:lnTo>
                  <a:pt x="1210" y="3418"/>
                </a:lnTo>
                <a:lnTo>
                  <a:pt x="1174" y="3410"/>
                </a:lnTo>
                <a:lnTo>
                  <a:pt x="1139" y="3402"/>
                </a:lnTo>
                <a:lnTo>
                  <a:pt x="1104" y="3392"/>
                </a:lnTo>
                <a:lnTo>
                  <a:pt x="1068" y="3382"/>
                </a:lnTo>
                <a:lnTo>
                  <a:pt x="1033" y="3371"/>
                </a:lnTo>
                <a:lnTo>
                  <a:pt x="999" y="3359"/>
                </a:lnTo>
                <a:lnTo>
                  <a:pt x="966" y="3345"/>
                </a:lnTo>
                <a:lnTo>
                  <a:pt x="932" y="3331"/>
                </a:lnTo>
                <a:lnTo>
                  <a:pt x="900" y="3316"/>
                </a:lnTo>
                <a:lnTo>
                  <a:pt x="867" y="3300"/>
                </a:lnTo>
                <a:lnTo>
                  <a:pt x="835" y="3283"/>
                </a:lnTo>
                <a:lnTo>
                  <a:pt x="803" y="3265"/>
                </a:lnTo>
                <a:lnTo>
                  <a:pt x="771" y="3246"/>
                </a:lnTo>
                <a:lnTo>
                  <a:pt x="740" y="3225"/>
                </a:lnTo>
                <a:lnTo>
                  <a:pt x="710" y="3204"/>
                </a:lnTo>
                <a:lnTo>
                  <a:pt x="679" y="3183"/>
                </a:lnTo>
                <a:lnTo>
                  <a:pt x="649" y="3159"/>
                </a:lnTo>
                <a:lnTo>
                  <a:pt x="620" y="3136"/>
                </a:lnTo>
                <a:lnTo>
                  <a:pt x="590" y="3110"/>
                </a:lnTo>
                <a:lnTo>
                  <a:pt x="561" y="3085"/>
                </a:lnTo>
                <a:lnTo>
                  <a:pt x="534" y="3058"/>
                </a:lnTo>
                <a:lnTo>
                  <a:pt x="506" y="3030"/>
                </a:lnTo>
                <a:lnTo>
                  <a:pt x="478" y="3000"/>
                </a:lnTo>
                <a:lnTo>
                  <a:pt x="451" y="2970"/>
                </a:lnTo>
                <a:lnTo>
                  <a:pt x="425" y="2940"/>
                </a:lnTo>
                <a:lnTo>
                  <a:pt x="398" y="2908"/>
                </a:lnTo>
                <a:lnTo>
                  <a:pt x="372" y="2876"/>
                </a:lnTo>
                <a:lnTo>
                  <a:pt x="348" y="2844"/>
                </a:lnTo>
                <a:lnTo>
                  <a:pt x="324" y="2811"/>
                </a:lnTo>
                <a:lnTo>
                  <a:pt x="302" y="2777"/>
                </a:lnTo>
                <a:lnTo>
                  <a:pt x="279" y="2744"/>
                </a:lnTo>
                <a:lnTo>
                  <a:pt x="258" y="2709"/>
                </a:lnTo>
                <a:lnTo>
                  <a:pt x="238" y="2675"/>
                </a:lnTo>
                <a:lnTo>
                  <a:pt x="219" y="2639"/>
                </a:lnTo>
                <a:lnTo>
                  <a:pt x="200" y="2603"/>
                </a:lnTo>
                <a:lnTo>
                  <a:pt x="182" y="2567"/>
                </a:lnTo>
                <a:lnTo>
                  <a:pt x="165" y="2531"/>
                </a:lnTo>
                <a:lnTo>
                  <a:pt x="149" y="2493"/>
                </a:lnTo>
                <a:lnTo>
                  <a:pt x="134" y="2456"/>
                </a:lnTo>
                <a:lnTo>
                  <a:pt x="119" y="2417"/>
                </a:lnTo>
                <a:lnTo>
                  <a:pt x="105" y="2379"/>
                </a:lnTo>
                <a:lnTo>
                  <a:pt x="93" y="2341"/>
                </a:lnTo>
                <a:lnTo>
                  <a:pt x="81" y="2301"/>
                </a:lnTo>
                <a:lnTo>
                  <a:pt x="69" y="2261"/>
                </a:lnTo>
                <a:lnTo>
                  <a:pt x="59" y="2221"/>
                </a:lnTo>
                <a:lnTo>
                  <a:pt x="50" y="2179"/>
                </a:lnTo>
                <a:lnTo>
                  <a:pt x="41" y="2139"/>
                </a:lnTo>
                <a:lnTo>
                  <a:pt x="33" y="2097"/>
                </a:lnTo>
                <a:lnTo>
                  <a:pt x="26" y="2055"/>
                </a:lnTo>
                <a:lnTo>
                  <a:pt x="20" y="2012"/>
                </a:lnTo>
                <a:lnTo>
                  <a:pt x="15" y="1969"/>
                </a:lnTo>
                <a:lnTo>
                  <a:pt x="9" y="1925"/>
                </a:lnTo>
                <a:lnTo>
                  <a:pt x="6" y="1882"/>
                </a:lnTo>
                <a:lnTo>
                  <a:pt x="3" y="1837"/>
                </a:lnTo>
                <a:lnTo>
                  <a:pt x="1" y="1792"/>
                </a:lnTo>
                <a:lnTo>
                  <a:pt x="0" y="1746"/>
                </a:lnTo>
                <a:lnTo>
                  <a:pt x="0" y="1700"/>
                </a:lnTo>
                <a:close/>
              </a:path>
            </a:pathLst>
          </a:custGeom>
          <a:solidFill>
            <a:srgbClr val="f1b8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41560" y="542880"/>
            <a:ext cx="336600" cy="477720"/>
          </a:xfrm>
          <a:custGeom>
            <a:avLst/>
            <a:gdLst/>
            <a:ahLst/>
            <a:rect l="l" t="t" r="r" b="b"/>
            <a:pathLst>
              <a:path w="2333" h="3309">
                <a:moveTo>
                  <a:pt x="281" y="316"/>
                </a:moveTo>
                <a:lnTo>
                  <a:pt x="281" y="2998"/>
                </a:lnTo>
                <a:lnTo>
                  <a:pt x="873" y="2998"/>
                </a:lnTo>
                <a:lnTo>
                  <a:pt x="907" y="2997"/>
                </a:lnTo>
                <a:lnTo>
                  <a:pt x="941" y="2997"/>
                </a:lnTo>
                <a:lnTo>
                  <a:pt x="975" y="2995"/>
                </a:lnTo>
                <a:lnTo>
                  <a:pt x="1008" y="2993"/>
                </a:lnTo>
                <a:lnTo>
                  <a:pt x="1040" y="2990"/>
                </a:lnTo>
                <a:lnTo>
                  <a:pt x="1072" y="2985"/>
                </a:lnTo>
                <a:lnTo>
                  <a:pt x="1104" y="2981"/>
                </a:lnTo>
                <a:lnTo>
                  <a:pt x="1135" y="2976"/>
                </a:lnTo>
                <a:lnTo>
                  <a:pt x="1165" y="2971"/>
                </a:lnTo>
                <a:lnTo>
                  <a:pt x="1195" y="2963"/>
                </a:lnTo>
                <a:lnTo>
                  <a:pt x="1224" y="2957"/>
                </a:lnTo>
                <a:lnTo>
                  <a:pt x="1253" y="2948"/>
                </a:lnTo>
                <a:lnTo>
                  <a:pt x="1281" y="2940"/>
                </a:lnTo>
                <a:lnTo>
                  <a:pt x="1309" y="2930"/>
                </a:lnTo>
                <a:lnTo>
                  <a:pt x="1337" y="2920"/>
                </a:lnTo>
                <a:lnTo>
                  <a:pt x="1363" y="2910"/>
                </a:lnTo>
                <a:lnTo>
                  <a:pt x="1390" y="2898"/>
                </a:lnTo>
                <a:lnTo>
                  <a:pt x="1416" y="2886"/>
                </a:lnTo>
                <a:lnTo>
                  <a:pt x="1441" y="2873"/>
                </a:lnTo>
                <a:lnTo>
                  <a:pt x="1467" y="2860"/>
                </a:lnTo>
                <a:lnTo>
                  <a:pt x="1490" y="2846"/>
                </a:lnTo>
                <a:lnTo>
                  <a:pt x="1515" y="2831"/>
                </a:lnTo>
                <a:lnTo>
                  <a:pt x="1538" y="2815"/>
                </a:lnTo>
                <a:lnTo>
                  <a:pt x="1561" y="2799"/>
                </a:lnTo>
                <a:lnTo>
                  <a:pt x="1583" y="2782"/>
                </a:lnTo>
                <a:lnTo>
                  <a:pt x="1606" y="2765"/>
                </a:lnTo>
                <a:lnTo>
                  <a:pt x="1627" y="2746"/>
                </a:lnTo>
                <a:lnTo>
                  <a:pt x="1647" y="2727"/>
                </a:lnTo>
                <a:lnTo>
                  <a:pt x="1669" y="2707"/>
                </a:lnTo>
                <a:lnTo>
                  <a:pt x="1688" y="2687"/>
                </a:lnTo>
                <a:lnTo>
                  <a:pt x="1708" y="2665"/>
                </a:lnTo>
                <a:lnTo>
                  <a:pt x="1726" y="2644"/>
                </a:lnTo>
                <a:lnTo>
                  <a:pt x="1745" y="2622"/>
                </a:lnTo>
                <a:lnTo>
                  <a:pt x="1763" y="2598"/>
                </a:lnTo>
                <a:lnTo>
                  <a:pt x="1780" y="2575"/>
                </a:lnTo>
                <a:lnTo>
                  <a:pt x="1797" y="2550"/>
                </a:lnTo>
                <a:lnTo>
                  <a:pt x="1813" y="2525"/>
                </a:lnTo>
                <a:lnTo>
                  <a:pt x="1828" y="2500"/>
                </a:lnTo>
                <a:lnTo>
                  <a:pt x="1843" y="2474"/>
                </a:lnTo>
                <a:lnTo>
                  <a:pt x="1858" y="2448"/>
                </a:lnTo>
                <a:lnTo>
                  <a:pt x="1871" y="2421"/>
                </a:lnTo>
                <a:lnTo>
                  <a:pt x="1884" y="2393"/>
                </a:lnTo>
                <a:lnTo>
                  <a:pt x="1897" y="2365"/>
                </a:lnTo>
                <a:lnTo>
                  <a:pt x="1909" y="2337"/>
                </a:lnTo>
                <a:lnTo>
                  <a:pt x="1921" y="2307"/>
                </a:lnTo>
                <a:lnTo>
                  <a:pt x="1931" y="2277"/>
                </a:lnTo>
                <a:lnTo>
                  <a:pt x="1942" y="2246"/>
                </a:lnTo>
                <a:lnTo>
                  <a:pt x="1951" y="2215"/>
                </a:lnTo>
                <a:lnTo>
                  <a:pt x="1960" y="2183"/>
                </a:lnTo>
                <a:lnTo>
                  <a:pt x="1969" y="2151"/>
                </a:lnTo>
                <a:lnTo>
                  <a:pt x="1976" y="2119"/>
                </a:lnTo>
                <a:lnTo>
                  <a:pt x="1984" y="2085"/>
                </a:lnTo>
                <a:lnTo>
                  <a:pt x="1991" y="2051"/>
                </a:lnTo>
                <a:lnTo>
                  <a:pt x="1996" y="2016"/>
                </a:lnTo>
                <a:lnTo>
                  <a:pt x="2003" y="1981"/>
                </a:lnTo>
                <a:lnTo>
                  <a:pt x="2007" y="1946"/>
                </a:lnTo>
                <a:lnTo>
                  <a:pt x="2011" y="1910"/>
                </a:lnTo>
                <a:lnTo>
                  <a:pt x="2016" y="1872"/>
                </a:lnTo>
                <a:lnTo>
                  <a:pt x="2019" y="1835"/>
                </a:lnTo>
                <a:lnTo>
                  <a:pt x="2021" y="1797"/>
                </a:lnTo>
                <a:lnTo>
                  <a:pt x="2023" y="1758"/>
                </a:lnTo>
                <a:lnTo>
                  <a:pt x="2025" y="1720"/>
                </a:lnTo>
                <a:lnTo>
                  <a:pt x="2025" y="1679"/>
                </a:lnTo>
                <a:lnTo>
                  <a:pt x="2026" y="1640"/>
                </a:lnTo>
                <a:lnTo>
                  <a:pt x="2025" y="1599"/>
                </a:lnTo>
                <a:lnTo>
                  <a:pt x="2024" y="1559"/>
                </a:lnTo>
                <a:lnTo>
                  <a:pt x="2022" y="1519"/>
                </a:lnTo>
                <a:lnTo>
                  <a:pt x="2020" y="1480"/>
                </a:lnTo>
                <a:lnTo>
                  <a:pt x="2016" y="1441"/>
                </a:lnTo>
                <a:lnTo>
                  <a:pt x="2011" y="1403"/>
                </a:lnTo>
                <a:lnTo>
                  <a:pt x="2006" y="1364"/>
                </a:lnTo>
                <a:lnTo>
                  <a:pt x="2001" y="1326"/>
                </a:lnTo>
                <a:lnTo>
                  <a:pt x="1994" y="1288"/>
                </a:lnTo>
                <a:lnTo>
                  <a:pt x="1987" y="1252"/>
                </a:lnTo>
                <a:lnTo>
                  <a:pt x="1978" y="1216"/>
                </a:lnTo>
                <a:lnTo>
                  <a:pt x="1969" y="1180"/>
                </a:lnTo>
                <a:lnTo>
                  <a:pt x="1959" y="1143"/>
                </a:lnTo>
                <a:lnTo>
                  <a:pt x="1948" y="1108"/>
                </a:lnTo>
                <a:lnTo>
                  <a:pt x="1937" y="1074"/>
                </a:lnTo>
                <a:lnTo>
                  <a:pt x="1925" y="1039"/>
                </a:lnTo>
                <a:lnTo>
                  <a:pt x="1911" y="1005"/>
                </a:lnTo>
                <a:lnTo>
                  <a:pt x="1898" y="972"/>
                </a:lnTo>
                <a:lnTo>
                  <a:pt x="1883" y="940"/>
                </a:lnTo>
                <a:lnTo>
                  <a:pt x="1868" y="907"/>
                </a:lnTo>
                <a:lnTo>
                  <a:pt x="1852" y="875"/>
                </a:lnTo>
                <a:lnTo>
                  <a:pt x="1835" y="846"/>
                </a:lnTo>
                <a:lnTo>
                  <a:pt x="1818" y="816"/>
                </a:lnTo>
                <a:lnTo>
                  <a:pt x="1801" y="786"/>
                </a:lnTo>
                <a:lnTo>
                  <a:pt x="1782" y="758"/>
                </a:lnTo>
                <a:lnTo>
                  <a:pt x="1763" y="730"/>
                </a:lnTo>
                <a:lnTo>
                  <a:pt x="1743" y="703"/>
                </a:lnTo>
                <a:lnTo>
                  <a:pt x="1722" y="676"/>
                </a:lnTo>
                <a:lnTo>
                  <a:pt x="1701" y="650"/>
                </a:lnTo>
                <a:lnTo>
                  <a:pt x="1679" y="626"/>
                </a:lnTo>
                <a:lnTo>
                  <a:pt x="1657" y="601"/>
                </a:lnTo>
                <a:lnTo>
                  <a:pt x="1633" y="578"/>
                </a:lnTo>
                <a:lnTo>
                  <a:pt x="1615" y="561"/>
                </a:lnTo>
                <a:lnTo>
                  <a:pt x="1597" y="544"/>
                </a:lnTo>
                <a:lnTo>
                  <a:pt x="1579" y="528"/>
                </a:lnTo>
                <a:lnTo>
                  <a:pt x="1561" y="513"/>
                </a:lnTo>
                <a:lnTo>
                  <a:pt x="1542" y="498"/>
                </a:lnTo>
                <a:lnTo>
                  <a:pt x="1522" y="483"/>
                </a:lnTo>
                <a:lnTo>
                  <a:pt x="1503" y="470"/>
                </a:lnTo>
                <a:lnTo>
                  <a:pt x="1483" y="457"/>
                </a:lnTo>
                <a:lnTo>
                  <a:pt x="1464" y="444"/>
                </a:lnTo>
                <a:lnTo>
                  <a:pt x="1443" y="433"/>
                </a:lnTo>
                <a:lnTo>
                  <a:pt x="1423" y="422"/>
                </a:lnTo>
                <a:lnTo>
                  <a:pt x="1402" y="411"/>
                </a:lnTo>
                <a:lnTo>
                  <a:pt x="1380" y="402"/>
                </a:lnTo>
                <a:lnTo>
                  <a:pt x="1359" y="393"/>
                </a:lnTo>
                <a:lnTo>
                  <a:pt x="1338" y="385"/>
                </a:lnTo>
                <a:lnTo>
                  <a:pt x="1316" y="377"/>
                </a:lnTo>
                <a:lnTo>
                  <a:pt x="1294" y="370"/>
                </a:lnTo>
                <a:lnTo>
                  <a:pt x="1269" y="362"/>
                </a:lnTo>
                <a:lnTo>
                  <a:pt x="1245" y="356"/>
                </a:lnTo>
                <a:lnTo>
                  <a:pt x="1218" y="350"/>
                </a:lnTo>
                <a:lnTo>
                  <a:pt x="1190" y="345"/>
                </a:lnTo>
                <a:lnTo>
                  <a:pt x="1162" y="340"/>
                </a:lnTo>
                <a:lnTo>
                  <a:pt x="1132" y="335"/>
                </a:lnTo>
                <a:lnTo>
                  <a:pt x="1101" y="331"/>
                </a:lnTo>
                <a:lnTo>
                  <a:pt x="1069" y="328"/>
                </a:lnTo>
                <a:lnTo>
                  <a:pt x="1034" y="325"/>
                </a:lnTo>
                <a:lnTo>
                  <a:pt x="999" y="323"/>
                </a:lnTo>
                <a:lnTo>
                  <a:pt x="963" y="319"/>
                </a:lnTo>
                <a:lnTo>
                  <a:pt x="887" y="317"/>
                </a:lnTo>
                <a:lnTo>
                  <a:pt x="806" y="316"/>
                </a:lnTo>
                <a:lnTo>
                  <a:pt x="281" y="316"/>
                </a:lnTo>
                <a:close/>
                <a:moveTo>
                  <a:pt x="0" y="0"/>
                </a:moveTo>
                <a:lnTo>
                  <a:pt x="825" y="0"/>
                </a:lnTo>
                <a:lnTo>
                  <a:pt x="868" y="0"/>
                </a:lnTo>
                <a:lnTo>
                  <a:pt x="909" y="1"/>
                </a:lnTo>
                <a:lnTo>
                  <a:pt x="949" y="4"/>
                </a:lnTo>
                <a:lnTo>
                  <a:pt x="990" y="6"/>
                </a:lnTo>
                <a:lnTo>
                  <a:pt x="1028" y="8"/>
                </a:lnTo>
                <a:lnTo>
                  <a:pt x="1066" y="11"/>
                </a:lnTo>
                <a:lnTo>
                  <a:pt x="1103" y="15"/>
                </a:lnTo>
                <a:lnTo>
                  <a:pt x="1139" y="20"/>
                </a:lnTo>
                <a:lnTo>
                  <a:pt x="1174" y="25"/>
                </a:lnTo>
                <a:lnTo>
                  <a:pt x="1209" y="30"/>
                </a:lnTo>
                <a:lnTo>
                  <a:pt x="1243" y="37"/>
                </a:lnTo>
                <a:lnTo>
                  <a:pt x="1276" y="44"/>
                </a:lnTo>
                <a:lnTo>
                  <a:pt x="1308" y="52"/>
                </a:lnTo>
                <a:lnTo>
                  <a:pt x="1339" y="60"/>
                </a:lnTo>
                <a:lnTo>
                  <a:pt x="1369" y="69"/>
                </a:lnTo>
                <a:lnTo>
                  <a:pt x="1398" y="78"/>
                </a:lnTo>
                <a:lnTo>
                  <a:pt x="1427" y="88"/>
                </a:lnTo>
                <a:lnTo>
                  <a:pt x="1456" y="98"/>
                </a:lnTo>
                <a:lnTo>
                  <a:pt x="1484" y="110"/>
                </a:lnTo>
                <a:lnTo>
                  <a:pt x="1512" y="122"/>
                </a:lnTo>
                <a:lnTo>
                  <a:pt x="1538" y="135"/>
                </a:lnTo>
                <a:lnTo>
                  <a:pt x="1565" y="149"/>
                </a:lnTo>
                <a:lnTo>
                  <a:pt x="1592" y="164"/>
                </a:lnTo>
                <a:lnTo>
                  <a:pt x="1617" y="179"/>
                </a:lnTo>
                <a:lnTo>
                  <a:pt x="1643" y="195"/>
                </a:lnTo>
                <a:lnTo>
                  <a:pt x="1667" y="211"/>
                </a:lnTo>
                <a:lnTo>
                  <a:pt x="1692" y="228"/>
                </a:lnTo>
                <a:lnTo>
                  <a:pt x="1717" y="246"/>
                </a:lnTo>
                <a:lnTo>
                  <a:pt x="1740" y="265"/>
                </a:lnTo>
                <a:lnTo>
                  <a:pt x="1764" y="284"/>
                </a:lnTo>
                <a:lnTo>
                  <a:pt x="1786" y="304"/>
                </a:lnTo>
                <a:lnTo>
                  <a:pt x="1808" y="326"/>
                </a:lnTo>
                <a:lnTo>
                  <a:pt x="1839" y="356"/>
                </a:lnTo>
                <a:lnTo>
                  <a:pt x="1869" y="387"/>
                </a:lnTo>
                <a:lnTo>
                  <a:pt x="1898" y="419"/>
                </a:lnTo>
                <a:lnTo>
                  <a:pt x="1926" y="452"/>
                </a:lnTo>
                <a:lnTo>
                  <a:pt x="1954" y="485"/>
                </a:lnTo>
                <a:lnTo>
                  <a:pt x="1979" y="519"/>
                </a:lnTo>
                <a:lnTo>
                  <a:pt x="2005" y="554"/>
                </a:lnTo>
                <a:lnTo>
                  <a:pt x="2029" y="591"/>
                </a:lnTo>
                <a:lnTo>
                  <a:pt x="2054" y="628"/>
                </a:lnTo>
                <a:lnTo>
                  <a:pt x="2076" y="665"/>
                </a:lnTo>
                <a:lnTo>
                  <a:pt x="2099" y="704"/>
                </a:lnTo>
                <a:lnTo>
                  <a:pt x="2119" y="743"/>
                </a:lnTo>
                <a:lnTo>
                  <a:pt x="2139" y="784"/>
                </a:lnTo>
                <a:lnTo>
                  <a:pt x="2160" y="824"/>
                </a:lnTo>
                <a:lnTo>
                  <a:pt x="2178" y="867"/>
                </a:lnTo>
                <a:lnTo>
                  <a:pt x="2196" y="910"/>
                </a:lnTo>
                <a:lnTo>
                  <a:pt x="2212" y="952"/>
                </a:lnTo>
                <a:lnTo>
                  <a:pt x="2228" y="996"/>
                </a:lnTo>
                <a:lnTo>
                  <a:pt x="2242" y="1041"/>
                </a:lnTo>
                <a:lnTo>
                  <a:pt x="2256" y="1085"/>
                </a:lnTo>
                <a:lnTo>
                  <a:pt x="2268" y="1129"/>
                </a:lnTo>
                <a:lnTo>
                  <a:pt x="2279" y="1175"/>
                </a:lnTo>
                <a:lnTo>
                  <a:pt x="2290" y="1221"/>
                </a:lnTo>
                <a:lnTo>
                  <a:pt x="2298" y="1267"/>
                </a:lnTo>
                <a:lnTo>
                  <a:pt x="2307" y="1313"/>
                </a:lnTo>
                <a:lnTo>
                  <a:pt x="2313" y="1360"/>
                </a:lnTo>
                <a:lnTo>
                  <a:pt x="2320" y="1407"/>
                </a:lnTo>
                <a:lnTo>
                  <a:pt x="2324" y="1454"/>
                </a:lnTo>
                <a:lnTo>
                  <a:pt x="2328" y="1502"/>
                </a:lnTo>
                <a:lnTo>
                  <a:pt x="2331" y="1550"/>
                </a:lnTo>
                <a:lnTo>
                  <a:pt x="2333" y="1599"/>
                </a:lnTo>
                <a:lnTo>
                  <a:pt x="2333" y="1648"/>
                </a:lnTo>
                <a:lnTo>
                  <a:pt x="2333" y="1703"/>
                </a:lnTo>
                <a:lnTo>
                  <a:pt x="2331" y="1756"/>
                </a:lnTo>
                <a:lnTo>
                  <a:pt x="2327" y="1809"/>
                </a:lnTo>
                <a:lnTo>
                  <a:pt x="2323" y="1863"/>
                </a:lnTo>
                <a:lnTo>
                  <a:pt x="2318" y="1914"/>
                </a:lnTo>
                <a:lnTo>
                  <a:pt x="2311" y="1965"/>
                </a:lnTo>
                <a:lnTo>
                  <a:pt x="2304" y="2016"/>
                </a:lnTo>
                <a:lnTo>
                  <a:pt x="2295" y="2067"/>
                </a:lnTo>
                <a:lnTo>
                  <a:pt x="2285" y="2117"/>
                </a:lnTo>
                <a:lnTo>
                  <a:pt x="2274" y="2166"/>
                </a:lnTo>
                <a:lnTo>
                  <a:pt x="2261" y="2214"/>
                </a:lnTo>
                <a:lnTo>
                  <a:pt x="2247" y="2262"/>
                </a:lnTo>
                <a:lnTo>
                  <a:pt x="2232" y="2309"/>
                </a:lnTo>
                <a:lnTo>
                  <a:pt x="2216" y="2356"/>
                </a:lnTo>
                <a:lnTo>
                  <a:pt x="2199" y="2402"/>
                </a:lnTo>
                <a:lnTo>
                  <a:pt x="2181" y="2446"/>
                </a:lnTo>
                <a:lnTo>
                  <a:pt x="2162" y="2491"/>
                </a:lnTo>
                <a:lnTo>
                  <a:pt x="2142" y="2535"/>
                </a:lnTo>
                <a:lnTo>
                  <a:pt x="2120" y="2577"/>
                </a:lnTo>
                <a:lnTo>
                  <a:pt x="2098" y="2618"/>
                </a:lnTo>
                <a:lnTo>
                  <a:pt x="2074" y="2659"/>
                </a:lnTo>
                <a:lnTo>
                  <a:pt x="2050" y="2698"/>
                </a:lnTo>
                <a:lnTo>
                  <a:pt x="2025" y="2737"/>
                </a:lnTo>
                <a:lnTo>
                  <a:pt x="1998" y="2774"/>
                </a:lnTo>
                <a:lnTo>
                  <a:pt x="1971" y="2809"/>
                </a:lnTo>
                <a:lnTo>
                  <a:pt x="1943" y="2845"/>
                </a:lnTo>
                <a:lnTo>
                  <a:pt x="1913" y="2879"/>
                </a:lnTo>
                <a:lnTo>
                  <a:pt x="1883" y="2912"/>
                </a:lnTo>
                <a:lnTo>
                  <a:pt x="1852" y="2944"/>
                </a:lnTo>
                <a:lnTo>
                  <a:pt x="1820" y="2975"/>
                </a:lnTo>
                <a:lnTo>
                  <a:pt x="1787" y="3005"/>
                </a:lnTo>
                <a:lnTo>
                  <a:pt x="1753" y="3033"/>
                </a:lnTo>
                <a:lnTo>
                  <a:pt x="1729" y="3052"/>
                </a:lnTo>
                <a:lnTo>
                  <a:pt x="1706" y="3070"/>
                </a:lnTo>
                <a:lnTo>
                  <a:pt x="1682" y="3086"/>
                </a:lnTo>
                <a:lnTo>
                  <a:pt x="1659" y="3103"/>
                </a:lnTo>
                <a:lnTo>
                  <a:pt x="1635" y="3118"/>
                </a:lnTo>
                <a:lnTo>
                  <a:pt x="1611" y="3133"/>
                </a:lnTo>
                <a:lnTo>
                  <a:pt x="1586" y="3147"/>
                </a:lnTo>
                <a:lnTo>
                  <a:pt x="1562" y="3160"/>
                </a:lnTo>
                <a:lnTo>
                  <a:pt x="1536" y="3173"/>
                </a:lnTo>
                <a:lnTo>
                  <a:pt x="1512" y="3186"/>
                </a:lnTo>
                <a:lnTo>
                  <a:pt x="1486" y="3198"/>
                </a:lnTo>
                <a:lnTo>
                  <a:pt x="1460" y="3209"/>
                </a:lnTo>
                <a:lnTo>
                  <a:pt x="1435" y="3218"/>
                </a:lnTo>
                <a:lnTo>
                  <a:pt x="1408" y="3228"/>
                </a:lnTo>
                <a:lnTo>
                  <a:pt x="1382" y="3237"/>
                </a:lnTo>
                <a:lnTo>
                  <a:pt x="1356" y="3246"/>
                </a:lnTo>
                <a:lnTo>
                  <a:pt x="1328" y="3253"/>
                </a:lnTo>
                <a:lnTo>
                  <a:pt x="1299" y="3261"/>
                </a:lnTo>
                <a:lnTo>
                  <a:pt x="1267" y="3267"/>
                </a:lnTo>
                <a:lnTo>
                  <a:pt x="1234" y="3274"/>
                </a:lnTo>
                <a:lnTo>
                  <a:pt x="1200" y="3279"/>
                </a:lnTo>
                <a:lnTo>
                  <a:pt x="1164" y="3284"/>
                </a:lnTo>
                <a:lnTo>
                  <a:pt x="1125" y="3289"/>
                </a:lnTo>
                <a:lnTo>
                  <a:pt x="1085" y="3293"/>
                </a:lnTo>
                <a:lnTo>
                  <a:pt x="1043" y="3297"/>
                </a:lnTo>
                <a:lnTo>
                  <a:pt x="998" y="3300"/>
                </a:lnTo>
                <a:lnTo>
                  <a:pt x="953" y="3302"/>
                </a:lnTo>
                <a:lnTo>
                  <a:pt x="905" y="3306"/>
                </a:lnTo>
                <a:lnTo>
                  <a:pt x="805" y="3308"/>
                </a:lnTo>
                <a:lnTo>
                  <a:pt x="697" y="3309"/>
                </a:lnTo>
                <a:lnTo>
                  <a:pt x="0" y="3309"/>
                </a:lnTo>
                <a:lnTo>
                  <a:pt x="0" y="0"/>
                </a:lnTo>
                <a:close/>
              </a:path>
            </a:pathLst>
          </a:custGeom>
          <a:solidFill>
            <a:srgbClr val="f1b8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3600" y="542880"/>
            <a:ext cx="41400" cy="477720"/>
          </a:xfrm>
          <a:prstGeom prst="rect">
            <a:avLst/>
          </a:prstGeom>
          <a:solidFill>
            <a:srgbClr val="f1b8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32240" y="533520"/>
            <a:ext cx="426960" cy="496800"/>
          </a:xfrm>
          <a:custGeom>
            <a:avLst/>
            <a:gdLst/>
            <a:ahLst/>
            <a:rect l="l" t="t" r="r" b="b"/>
            <a:pathLst>
              <a:path w="2964" h="3441">
                <a:moveTo>
                  <a:pt x="1160" y="1789"/>
                </a:moveTo>
                <a:lnTo>
                  <a:pt x="2964" y="1789"/>
                </a:lnTo>
                <a:lnTo>
                  <a:pt x="2962" y="1834"/>
                </a:lnTo>
                <a:lnTo>
                  <a:pt x="2959" y="1879"/>
                </a:lnTo>
                <a:lnTo>
                  <a:pt x="2954" y="1922"/>
                </a:lnTo>
                <a:lnTo>
                  <a:pt x="2949" y="1966"/>
                </a:lnTo>
                <a:lnTo>
                  <a:pt x="2944" y="2009"/>
                </a:lnTo>
                <a:lnTo>
                  <a:pt x="2937" y="2051"/>
                </a:lnTo>
                <a:lnTo>
                  <a:pt x="2930" y="2093"/>
                </a:lnTo>
                <a:lnTo>
                  <a:pt x="2922" y="2134"/>
                </a:lnTo>
                <a:lnTo>
                  <a:pt x="2914" y="2175"/>
                </a:lnTo>
                <a:lnTo>
                  <a:pt x="2904" y="2216"/>
                </a:lnTo>
                <a:lnTo>
                  <a:pt x="2895" y="2255"/>
                </a:lnTo>
                <a:lnTo>
                  <a:pt x="2883" y="2295"/>
                </a:lnTo>
                <a:lnTo>
                  <a:pt x="2871" y="2333"/>
                </a:lnTo>
                <a:lnTo>
                  <a:pt x="2859" y="2372"/>
                </a:lnTo>
                <a:lnTo>
                  <a:pt x="2846" y="2410"/>
                </a:lnTo>
                <a:lnTo>
                  <a:pt x="2833" y="2447"/>
                </a:lnTo>
                <a:lnTo>
                  <a:pt x="2818" y="2484"/>
                </a:lnTo>
                <a:lnTo>
                  <a:pt x="2802" y="2520"/>
                </a:lnTo>
                <a:lnTo>
                  <a:pt x="2786" y="2556"/>
                </a:lnTo>
                <a:lnTo>
                  <a:pt x="2769" y="2591"/>
                </a:lnTo>
                <a:lnTo>
                  <a:pt x="2752" y="2627"/>
                </a:lnTo>
                <a:lnTo>
                  <a:pt x="2733" y="2661"/>
                </a:lnTo>
                <a:lnTo>
                  <a:pt x="2714" y="2694"/>
                </a:lnTo>
                <a:lnTo>
                  <a:pt x="2694" y="2728"/>
                </a:lnTo>
                <a:lnTo>
                  <a:pt x="2674" y="2760"/>
                </a:lnTo>
                <a:lnTo>
                  <a:pt x="2652" y="2793"/>
                </a:lnTo>
                <a:lnTo>
                  <a:pt x="2630" y="2825"/>
                </a:lnTo>
                <a:lnTo>
                  <a:pt x="2606" y="2856"/>
                </a:lnTo>
                <a:lnTo>
                  <a:pt x="2583" y="2887"/>
                </a:lnTo>
                <a:lnTo>
                  <a:pt x="2558" y="2917"/>
                </a:lnTo>
                <a:lnTo>
                  <a:pt x="2534" y="2947"/>
                </a:lnTo>
                <a:lnTo>
                  <a:pt x="2508" y="2977"/>
                </a:lnTo>
                <a:lnTo>
                  <a:pt x="2481" y="3004"/>
                </a:lnTo>
                <a:lnTo>
                  <a:pt x="2455" y="3032"/>
                </a:lnTo>
                <a:lnTo>
                  <a:pt x="2427" y="3059"/>
                </a:lnTo>
                <a:lnTo>
                  <a:pt x="2399" y="3086"/>
                </a:lnTo>
                <a:lnTo>
                  <a:pt x="2371" y="3110"/>
                </a:lnTo>
                <a:lnTo>
                  <a:pt x="2343" y="3135"/>
                </a:lnTo>
                <a:lnTo>
                  <a:pt x="2315" y="3157"/>
                </a:lnTo>
                <a:lnTo>
                  <a:pt x="2285" y="3180"/>
                </a:lnTo>
                <a:lnTo>
                  <a:pt x="2256" y="3201"/>
                </a:lnTo>
                <a:lnTo>
                  <a:pt x="2226" y="3221"/>
                </a:lnTo>
                <a:lnTo>
                  <a:pt x="2195" y="3240"/>
                </a:lnTo>
                <a:lnTo>
                  <a:pt x="2165" y="3260"/>
                </a:lnTo>
                <a:lnTo>
                  <a:pt x="2134" y="3278"/>
                </a:lnTo>
                <a:lnTo>
                  <a:pt x="2102" y="3294"/>
                </a:lnTo>
                <a:lnTo>
                  <a:pt x="2071" y="3310"/>
                </a:lnTo>
                <a:lnTo>
                  <a:pt x="2039" y="3325"/>
                </a:lnTo>
                <a:lnTo>
                  <a:pt x="2006" y="3339"/>
                </a:lnTo>
                <a:lnTo>
                  <a:pt x="1974" y="3352"/>
                </a:lnTo>
                <a:lnTo>
                  <a:pt x="1940" y="3364"/>
                </a:lnTo>
                <a:lnTo>
                  <a:pt x="1907" y="3376"/>
                </a:lnTo>
                <a:lnTo>
                  <a:pt x="1873" y="3387"/>
                </a:lnTo>
                <a:lnTo>
                  <a:pt x="1839" y="3395"/>
                </a:lnTo>
                <a:lnTo>
                  <a:pt x="1805" y="3405"/>
                </a:lnTo>
                <a:lnTo>
                  <a:pt x="1769" y="3412"/>
                </a:lnTo>
                <a:lnTo>
                  <a:pt x="1734" y="3419"/>
                </a:lnTo>
                <a:lnTo>
                  <a:pt x="1698" y="3425"/>
                </a:lnTo>
                <a:lnTo>
                  <a:pt x="1661" y="3429"/>
                </a:lnTo>
                <a:lnTo>
                  <a:pt x="1625" y="3434"/>
                </a:lnTo>
                <a:lnTo>
                  <a:pt x="1588" y="3437"/>
                </a:lnTo>
                <a:lnTo>
                  <a:pt x="1550" y="3439"/>
                </a:lnTo>
                <a:lnTo>
                  <a:pt x="1513" y="3441"/>
                </a:lnTo>
                <a:lnTo>
                  <a:pt x="1476" y="3441"/>
                </a:lnTo>
                <a:lnTo>
                  <a:pt x="1436" y="3441"/>
                </a:lnTo>
                <a:lnTo>
                  <a:pt x="1398" y="3439"/>
                </a:lnTo>
                <a:lnTo>
                  <a:pt x="1359" y="3437"/>
                </a:lnTo>
                <a:lnTo>
                  <a:pt x="1321" y="3434"/>
                </a:lnTo>
                <a:lnTo>
                  <a:pt x="1284" y="3429"/>
                </a:lnTo>
                <a:lnTo>
                  <a:pt x="1247" y="3423"/>
                </a:lnTo>
                <a:lnTo>
                  <a:pt x="1210" y="3418"/>
                </a:lnTo>
                <a:lnTo>
                  <a:pt x="1174" y="3410"/>
                </a:lnTo>
                <a:lnTo>
                  <a:pt x="1138" y="3402"/>
                </a:lnTo>
                <a:lnTo>
                  <a:pt x="1103" y="3392"/>
                </a:lnTo>
                <a:lnTo>
                  <a:pt x="1068" y="3382"/>
                </a:lnTo>
                <a:lnTo>
                  <a:pt x="1033" y="3371"/>
                </a:lnTo>
                <a:lnTo>
                  <a:pt x="998" y="3359"/>
                </a:lnTo>
                <a:lnTo>
                  <a:pt x="964" y="3345"/>
                </a:lnTo>
                <a:lnTo>
                  <a:pt x="931" y="3331"/>
                </a:lnTo>
                <a:lnTo>
                  <a:pt x="898" y="3316"/>
                </a:lnTo>
                <a:lnTo>
                  <a:pt x="865" y="3300"/>
                </a:lnTo>
                <a:lnTo>
                  <a:pt x="833" y="3283"/>
                </a:lnTo>
                <a:lnTo>
                  <a:pt x="801" y="3265"/>
                </a:lnTo>
                <a:lnTo>
                  <a:pt x="770" y="3246"/>
                </a:lnTo>
                <a:lnTo>
                  <a:pt x="739" y="3225"/>
                </a:lnTo>
                <a:lnTo>
                  <a:pt x="708" y="3204"/>
                </a:lnTo>
                <a:lnTo>
                  <a:pt x="677" y="3183"/>
                </a:lnTo>
                <a:lnTo>
                  <a:pt x="648" y="3159"/>
                </a:lnTo>
                <a:lnTo>
                  <a:pt x="618" y="3136"/>
                </a:lnTo>
                <a:lnTo>
                  <a:pt x="590" y="3111"/>
                </a:lnTo>
                <a:lnTo>
                  <a:pt x="561" y="3085"/>
                </a:lnTo>
                <a:lnTo>
                  <a:pt x="532" y="3058"/>
                </a:lnTo>
                <a:lnTo>
                  <a:pt x="504" y="3030"/>
                </a:lnTo>
                <a:lnTo>
                  <a:pt x="476" y="3001"/>
                </a:lnTo>
                <a:lnTo>
                  <a:pt x="450" y="2971"/>
                </a:lnTo>
                <a:lnTo>
                  <a:pt x="423" y="2940"/>
                </a:lnTo>
                <a:lnTo>
                  <a:pt x="397" y="2910"/>
                </a:lnTo>
                <a:lnTo>
                  <a:pt x="372" y="2877"/>
                </a:lnTo>
                <a:lnTo>
                  <a:pt x="347" y="2845"/>
                </a:lnTo>
                <a:lnTo>
                  <a:pt x="324" y="2812"/>
                </a:lnTo>
                <a:lnTo>
                  <a:pt x="301" y="2779"/>
                </a:lnTo>
                <a:lnTo>
                  <a:pt x="279" y="2745"/>
                </a:lnTo>
                <a:lnTo>
                  <a:pt x="257" y="2711"/>
                </a:lnTo>
                <a:lnTo>
                  <a:pt x="237" y="2676"/>
                </a:lnTo>
                <a:lnTo>
                  <a:pt x="218" y="2641"/>
                </a:lnTo>
                <a:lnTo>
                  <a:pt x="200" y="2605"/>
                </a:lnTo>
                <a:lnTo>
                  <a:pt x="182" y="2569"/>
                </a:lnTo>
                <a:lnTo>
                  <a:pt x="165" y="2532"/>
                </a:lnTo>
                <a:lnTo>
                  <a:pt x="149" y="2495"/>
                </a:lnTo>
                <a:lnTo>
                  <a:pt x="134" y="2458"/>
                </a:lnTo>
                <a:lnTo>
                  <a:pt x="119" y="2420"/>
                </a:lnTo>
                <a:lnTo>
                  <a:pt x="106" y="2381"/>
                </a:lnTo>
                <a:lnTo>
                  <a:pt x="93" y="2342"/>
                </a:lnTo>
                <a:lnTo>
                  <a:pt x="80" y="2302"/>
                </a:lnTo>
                <a:lnTo>
                  <a:pt x="70" y="2263"/>
                </a:lnTo>
                <a:lnTo>
                  <a:pt x="59" y="2222"/>
                </a:lnTo>
                <a:lnTo>
                  <a:pt x="49" y="2182"/>
                </a:lnTo>
                <a:lnTo>
                  <a:pt x="41" y="2140"/>
                </a:lnTo>
                <a:lnTo>
                  <a:pt x="33" y="2098"/>
                </a:lnTo>
                <a:lnTo>
                  <a:pt x="26" y="2056"/>
                </a:lnTo>
                <a:lnTo>
                  <a:pt x="19" y="2013"/>
                </a:lnTo>
                <a:lnTo>
                  <a:pt x="14" y="1969"/>
                </a:lnTo>
                <a:lnTo>
                  <a:pt x="10" y="1927"/>
                </a:lnTo>
                <a:lnTo>
                  <a:pt x="7" y="1882"/>
                </a:lnTo>
                <a:lnTo>
                  <a:pt x="3" y="1837"/>
                </a:lnTo>
                <a:lnTo>
                  <a:pt x="1" y="1792"/>
                </a:lnTo>
                <a:lnTo>
                  <a:pt x="0" y="1746"/>
                </a:lnTo>
                <a:lnTo>
                  <a:pt x="0" y="1700"/>
                </a:lnTo>
                <a:lnTo>
                  <a:pt x="0" y="1658"/>
                </a:lnTo>
                <a:lnTo>
                  <a:pt x="1" y="1614"/>
                </a:lnTo>
                <a:lnTo>
                  <a:pt x="3" y="1571"/>
                </a:lnTo>
                <a:lnTo>
                  <a:pt x="7" y="1530"/>
                </a:lnTo>
                <a:lnTo>
                  <a:pt x="11" y="1487"/>
                </a:lnTo>
                <a:lnTo>
                  <a:pt x="16" y="1445"/>
                </a:lnTo>
                <a:lnTo>
                  <a:pt x="21" y="1404"/>
                </a:lnTo>
                <a:lnTo>
                  <a:pt x="29" y="1362"/>
                </a:lnTo>
                <a:lnTo>
                  <a:pt x="36" y="1321"/>
                </a:lnTo>
                <a:lnTo>
                  <a:pt x="45" y="1280"/>
                </a:lnTo>
                <a:lnTo>
                  <a:pt x="55" y="1239"/>
                </a:lnTo>
                <a:lnTo>
                  <a:pt x="65" y="1200"/>
                </a:lnTo>
                <a:lnTo>
                  <a:pt x="76" y="1159"/>
                </a:lnTo>
                <a:lnTo>
                  <a:pt x="89" y="1120"/>
                </a:lnTo>
                <a:lnTo>
                  <a:pt x="102" y="1080"/>
                </a:lnTo>
                <a:lnTo>
                  <a:pt x="115" y="1042"/>
                </a:lnTo>
                <a:lnTo>
                  <a:pt x="130" y="1002"/>
                </a:lnTo>
                <a:lnTo>
                  <a:pt x="145" y="965"/>
                </a:lnTo>
                <a:lnTo>
                  <a:pt x="162" y="927"/>
                </a:lnTo>
                <a:lnTo>
                  <a:pt x="180" y="889"/>
                </a:lnTo>
                <a:lnTo>
                  <a:pt x="198" y="853"/>
                </a:lnTo>
                <a:lnTo>
                  <a:pt x="217" y="817"/>
                </a:lnTo>
                <a:lnTo>
                  <a:pt x="237" y="780"/>
                </a:lnTo>
                <a:lnTo>
                  <a:pt x="257" y="745"/>
                </a:lnTo>
                <a:lnTo>
                  <a:pt x="280" y="711"/>
                </a:lnTo>
                <a:lnTo>
                  <a:pt x="302" y="676"/>
                </a:lnTo>
                <a:lnTo>
                  <a:pt x="325" y="643"/>
                </a:lnTo>
                <a:lnTo>
                  <a:pt x="349" y="608"/>
                </a:lnTo>
                <a:lnTo>
                  <a:pt x="374" y="575"/>
                </a:lnTo>
                <a:lnTo>
                  <a:pt x="401" y="543"/>
                </a:lnTo>
                <a:lnTo>
                  <a:pt x="427" y="511"/>
                </a:lnTo>
                <a:lnTo>
                  <a:pt x="454" y="479"/>
                </a:lnTo>
                <a:lnTo>
                  <a:pt x="482" y="449"/>
                </a:lnTo>
                <a:lnTo>
                  <a:pt x="508" y="421"/>
                </a:lnTo>
                <a:lnTo>
                  <a:pt x="536" y="393"/>
                </a:lnTo>
                <a:lnTo>
                  <a:pt x="565" y="366"/>
                </a:lnTo>
                <a:lnTo>
                  <a:pt x="594" y="341"/>
                </a:lnTo>
                <a:lnTo>
                  <a:pt x="623" y="315"/>
                </a:lnTo>
                <a:lnTo>
                  <a:pt x="651" y="291"/>
                </a:lnTo>
                <a:lnTo>
                  <a:pt x="681" y="268"/>
                </a:lnTo>
                <a:lnTo>
                  <a:pt x="711" y="246"/>
                </a:lnTo>
                <a:lnTo>
                  <a:pt x="741" y="225"/>
                </a:lnTo>
                <a:lnTo>
                  <a:pt x="772" y="205"/>
                </a:lnTo>
                <a:lnTo>
                  <a:pt x="803" y="186"/>
                </a:lnTo>
                <a:lnTo>
                  <a:pt x="834" y="168"/>
                </a:lnTo>
                <a:lnTo>
                  <a:pt x="866" y="150"/>
                </a:lnTo>
                <a:lnTo>
                  <a:pt x="898" y="134"/>
                </a:lnTo>
                <a:lnTo>
                  <a:pt x="931" y="119"/>
                </a:lnTo>
                <a:lnTo>
                  <a:pt x="963" y="105"/>
                </a:lnTo>
                <a:lnTo>
                  <a:pt x="997" y="91"/>
                </a:lnTo>
                <a:lnTo>
                  <a:pt x="1030" y="78"/>
                </a:lnTo>
                <a:lnTo>
                  <a:pt x="1065" y="67"/>
                </a:lnTo>
                <a:lnTo>
                  <a:pt x="1100" y="57"/>
                </a:lnTo>
                <a:lnTo>
                  <a:pt x="1135" y="47"/>
                </a:lnTo>
                <a:lnTo>
                  <a:pt x="1170" y="37"/>
                </a:lnTo>
                <a:lnTo>
                  <a:pt x="1207" y="30"/>
                </a:lnTo>
                <a:lnTo>
                  <a:pt x="1243" y="24"/>
                </a:lnTo>
                <a:lnTo>
                  <a:pt x="1279" y="17"/>
                </a:lnTo>
                <a:lnTo>
                  <a:pt x="1317" y="12"/>
                </a:lnTo>
                <a:lnTo>
                  <a:pt x="1355" y="8"/>
                </a:lnTo>
                <a:lnTo>
                  <a:pt x="1393" y="4"/>
                </a:lnTo>
                <a:lnTo>
                  <a:pt x="1432" y="2"/>
                </a:lnTo>
                <a:lnTo>
                  <a:pt x="1471" y="1"/>
                </a:lnTo>
                <a:lnTo>
                  <a:pt x="1511" y="0"/>
                </a:lnTo>
                <a:lnTo>
                  <a:pt x="1563" y="1"/>
                </a:lnTo>
                <a:lnTo>
                  <a:pt x="1614" y="4"/>
                </a:lnTo>
                <a:lnTo>
                  <a:pt x="1666" y="9"/>
                </a:lnTo>
                <a:lnTo>
                  <a:pt x="1717" y="15"/>
                </a:lnTo>
                <a:lnTo>
                  <a:pt x="1766" y="24"/>
                </a:lnTo>
                <a:lnTo>
                  <a:pt x="1815" y="33"/>
                </a:lnTo>
                <a:lnTo>
                  <a:pt x="1864" y="45"/>
                </a:lnTo>
                <a:lnTo>
                  <a:pt x="1911" y="59"/>
                </a:lnTo>
                <a:lnTo>
                  <a:pt x="1958" y="74"/>
                </a:lnTo>
                <a:lnTo>
                  <a:pt x="2005" y="92"/>
                </a:lnTo>
                <a:lnTo>
                  <a:pt x="2051" y="110"/>
                </a:lnTo>
                <a:lnTo>
                  <a:pt x="2096" y="131"/>
                </a:lnTo>
                <a:lnTo>
                  <a:pt x="2141" y="154"/>
                </a:lnTo>
                <a:lnTo>
                  <a:pt x="2185" y="178"/>
                </a:lnTo>
                <a:lnTo>
                  <a:pt x="2227" y="205"/>
                </a:lnTo>
                <a:lnTo>
                  <a:pt x="2269" y="233"/>
                </a:lnTo>
                <a:lnTo>
                  <a:pt x="2311" y="264"/>
                </a:lnTo>
                <a:lnTo>
                  <a:pt x="2351" y="295"/>
                </a:lnTo>
                <a:lnTo>
                  <a:pt x="2391" y="328"/>
                </a:lnTo>
                <a:lnTo>
                  <a:pt x="2429" y="363"/>
                </a:lnTo>
                <a:lnTo>
                  <a:pt x="2467" y="398"/>
                </a:lnTo>
                <a:lnTo>
                  <a:pt x="2503" y="437"/>
                </a:lnTo>
                <a:lnTo>
                  <a:pt x="2538" y="476"/>
                </a:lnTo>
                <a:lnTo>
                  <a:pt x="2572" y="517"/>
                </a:lnTo>
                <a:lnTo>
                  <a:pt x="2605" y="559"/>
                </a:lnTo>
                <a:lnTo>
                  <a:pt x="2637" y="603"/>
                </a:lnTo>
                <a:lnTo>
                  <a:pt x="2668" y="648"/>
                </a:lnTo>
                <a:lnTo>
                  <a:pt x="2698" y="695"/>
                </a:lnTo>
                <a:lnTo>
                  <a:pt x="2728" y="744"/>
                </a:lnTo>
                <a:lnTo>
                  <a:pt x="2756" y="794"/>
                </a:lnTo>
                <a:lnTo>
                  <a:pt x="2783" y="845"/>
                </a:lnTo>
                <a:lnTo>
                  <a:pt x="2808" y="899"/>
                </a:lnTo>
                <a:lnTo>
                  <a:pt x="2457" y="899"/>
                </a:lnTo>
                <a:lnTo>
                  <a:pt x="2431" y="862"/>
                </a:lnTo>
                <a:lnTo>
                  <a:pt x="2406" y="826"/>
                </a:lnTo>
                <a:lnTo>
                  <a:pt x="2379" y="792"/>
                </a:lnTo>
                <a:lnTo>
                  <a:pt x="2353" y="760"/>
                </a:lnTo>
                <a:lnTo>
                  <a:pt x="2327" y="728"/>
                </a:lnTo>
                <a:lnTo>
                  <a:pt x="2299" y="697"/>
                </a:lnTo>
                <a:lnTo>
                  <a:pt x="2272" y="668"/>
                </a:lnTo>
                <a:lnTo>
                  <a:pt x="2244" y="639"/>
                </a:lnTo>
                <a:lnTo>
                  <a:pt x="2218" y="613"/>
                </a:lnTo>
                <a:lnTo>
                  <a:pt x="2189" y="587"/>
                </a:lnTo>
                <a:lnTo>
                  <a:pt x="2161" y="563"/>
                </a:lnTo>
                <a:lnTo>
                  <a:pt x="2133" y="539"/>
                </a:lnTo>
                <a:lnTo>
                  <a:pt x="2105" y="518"/>
                </a:lnTo>
                <a:lnTo>
                  <a:pt x="2076" y="496"/>
                </a:lnTo>
                <a:lnTo>
                  <a:pt x="2047" y="476"/>
                </a:lnTo>
                <a:lnTo>
                  <a:pt x="2018" y="458"/>
                </a:lnTo>
                <a:lnTo>
                  <a:pt x="1988" y="441"/>
                </a:lnTo>
                <a:lnTo>
                  <a:pt x="1958" y="425"/>
                </a:lnTo>
                <a:lnTo>
                  <a:pt x="1928" y="410"/>
                </a:lnTo>
                <a:lnTo>
                  <a:pt x="1897" y="396"/>
                </a:lnTo>
                <a:lnTo>
                  <a:pt x="1866" y="383"/>
                </a:lnTo>
                <a:lnTo>
                  <a:pt x="1834" y="372"/>
                </a:lnTo>
                <a:lnTo>
                  <a:pt x="1802" y="361"/>
                </a:lnTo>
                <a:lnTo>
                  <a:pt x="1770" y="351"/>
                </a:lnTo>
                <a:lnTo>
                  <a:pt x="1737" y="344"/>
                </a:lnTo>
                <a:lnTo>
                  <a:pt x="1704" y="336"/>
                </a:lnTo>
                <a:lnTo>
                  <a:pt x="1670" y="330"/>
                </a:lnTo>
                <a:lnTo>
                  <a:pt x="1636" y="325"/>
                </a:lnTo>
                <a:lnTo>
                  <a:pt x="1601" y="321"/>
                </a:lnTo>
                <a:lnTo>
                  <a:pt x="1565" y="318"/>
                </a:lnTo>
                <a:lnTo>
                  <a:pt x="1530" y="317"/>
                </a:lnTo>
                <a:lnTo>
                  <a:pt x="1494" y="316"/>
                </a:lnTo>
                <a:lnTo>
                  <a:pt x="1463" y="317"/>
                </a:lnTo>
                <a:lnTo>
                  <a:pt x="1432" y="318"/>
                </a:lnTo>
                <a:lnTo>
                  <a:pt x="1402" y="320"/>
                </a:lnTo>
                <a:lnTo>
                  <a:pt x="1372" y="322"/>
                </a:lnTo>
                <a:lnTo>
                  <a:pt x="1341" y="327"/>
                </a:lnTo>
                <a:lnTo>
                  <a:pt x="1312" y="331"/>
                </a:lnTo>
                <a:lnTo>
                  <a:pt x="1282" y="335"/>
                </a:lnTo>
                <a:lnTo>
                  <a:pt x="1254" y="342"/>
                </a:lnTo>
                <a:lnTo>
                  <a:pt x="1225" y="348"/>
                </a:lnTo>
                <a:lnTo>
                  <a:pt x="1197" y="356"/>
                </a:lnTo>
                <a:lnTo>
                  <a:pt x="1168" y="364"/>
                </a:lnTo>
                <a:lnTo>
                  <a:pt x="1140" y="374"/>
                </a:lnTo>
                <a:lnTo>
                  <a:pt x="1114" y="383"/>
                </a:lnTo>
                <a:lnTo>
                  <a:pt x="1086" y="394"/>
                </a:lnTo>
                <a:lnTo>
                  <a:pt x="1059" y="406"/>
                </a:lnTo>
                <a:lnTo>
                  <a:pt x="1033" y="419"/>
                </a:lnTo>
                <a:lnTo>
                  <a:pt x="1006" y="431"/>
                </a:lnTo>
                <a:lnTo>
                  <a:pt x="980" y="445"/>
                </a:lnTo>
                <a:lnTo>
                  <a:pt x="955" y="460"/>
                </a:lnTo>
                <a:lnTo>
                  <a:pt x="929" y="475"/>
                </a:lnTo>
                <a:lnTo>
                  <a:pt x="904" y="492"/>
                </a:lnTo>
                <a:lnTo>
                  <a:pt x="880" y="509"/>
                </a:lnTo>
                <a:lnTo>
                  <a:pt x="855" y="527"/>
                </a:lnTo>
                <a:lnTo>
                  <a:pt x="831" y="546"/>
                </a:lnTo>
                <a:lnTo>
                  <a:pt x="807" y="565"/>
                </a:lnTo>
                <a:lnTo>
                  <a:pt x="784" y="585"/>
                </a:lnTo>
                <a:lnTo>
                  <a:pt x="760" y="606"/>
                </a:lnTo>
                <a:lnTo>
                  <a:pt x="737" y="629"/>
                </a:lnTo>
                <a:lnTo>
                  <a:pt x="714" y="651"/>
                </a:lnTo>
                <a:lnTo>
                  <a:pt x="692" y="675"/>
                </a:lnTo>
                <a:lnTo>
                  <a:pt x="670" y="699"/>
                </a:lnTo>
                <a:lnTo>
                  <a:pt x="648" y="724"/>
                </a:lnTo>
                <a:lnTo>
                  <a:pt x="627" y="749"/>
                </a:lnTo>
                <a:lnTo>
                  <a:pt x="607" y="776"/>
                </a:lnTo>
                <a:lnTo>
                  <a:pt x="586" y="802"/>
                </a:lnTo>
                <a:lnTo>
                  <a:pt x="567" y="828"/>
                </a:lnTo>
                <a:lnTo>
                  <a:pt x="549" y="856"/>
                </a:lnTo>
                <a:lnTo>
                  <a:pt x="531" y="883"/>
                </a:lnTo>
                <a:lnTo>
                  <a:pt x="514" y="911"/>
                </a:lnTo>
                <a:lnTo>
                  <a:pt x="497" y="938"/>
                </a:lnTo>
                <a:lnTo>
                  <a:pt x="481" y="967"/>
                </a:lnTo>
                <a:lnTo>
                  <a:pt x="466" y="995"/>
                </a:lnTo>
                <a:lnTo>
                  <a:pt x="452" y="1025"/>
                </a:lnTo>
                <a:lnTo>
                  <a:pt x="438" y="1054"/>
                </a:lnTo>
                <a:lnTo>
                  <a:pt x="424" y="1083"/>
                </a:lnTo>
                <a:lnTo>
                  <a:pt x="412" y="1113"/>
                </a:lnTo>
                <a:lnTo>
                  <a:pt x="399" y="1143"/>
                </a:lnTo>
                <a:lnTo>
                  <a:pt x="389" y="1173"/>
                </a:lnTo>
                <a:lnTo>
                  <a:pt x="378" y="1204"/>
                </a:lnTo>
                <a:lnTo>
                  <a:pt x="368" y="1235"/>
                </a:lnTo>
                <a:lnTo>
                  <a:pt x="360" y="1267"/>
                </a:lnTo>
                <a:lnTo>
                  <a:pt x="351" y="1299"/>
                </a:lnTo>
                <a:lnTo>
                  <a:pt x="343" y="1331"/>
                </a:lnTo>
                <a:lnTo>
                  <a:pt x="336" y="1363"/>
                </a:lnTo>
                <a:lnTo>
                  <a:pt x="330" y="1396"/>
                </a:lnTo>
                <a:lnTo>
                  <a:pt x="324" y="1429"/>
                </a:lnTo>
                <a:lnTo>
                  <a:pt x="319" y="1462"/>
                </a:lnTo>
                <a:lnTo>
                  <a:pt x="315" y="1496"/>
                </a:lnTo>
                <a:lnTo>
                  <a:pt x="311" y="1531"/>
                </a:lnTo>
                <a:lnTo>
                  <a:pt x="308" y="1565"/>
                </a:lnTo>
                <a:lnTo>
                  <a:pt x="306" y="1599"/>
                </a:lnTo>
                <a:lnTo>
                  <a:pt x="303" y="1634"/>
                </a:lnTo>
                <a:lnTo>
                  <a:pt x="303" y="1669"/>
                </a:lnTo>
                <a:lnTo>
                  <a:pt x="302" y="1706"/>
                </a:lnTo>
                <a:lnTo>
                  <a:pt x="303" y="1743"/>
                </a:lnTo>
                <a:lnTo>
                  <a:pt x="303" y="1780"/>
                </a:lnTo>
                <a:lnTo>
                  <a:pt x="306" y="1818"/>
                </a:lnTo>
                <a:lnTo>
                  <a:pt x="308" y="1854"/>
                </a:lnTo>
                <a:lnTo>
                  <a:pt x="311" y="1890"/>
                </a:lnTo>
                <a:lnTo>
                  <a:pt x="315" y="1927"/>
                </a:lnTo>
                <a:lnTo>
                  <a:pt x="319" y="1962"/>
                </a:lnTo>
                <a:lnTo>
                  <a:pt x="324" y="1997"/>
                </a:lnTo>
                <a:lnTo>
                  <a:pt x="330" y="2031"/>
                </a:lnTo>
                <a:lnTo>
                  <a:pt x="336" y="2066"/>
                </a:lnTo>
                <a:lnTo>
                  <a:pt x="343" y="2099"/>
                </a:lnTo>
                <a:lnTo>
                  <a:pt x="351" y="2134"/>
                </a:lnTo>
                <a:lnTo>
                  <a:pt x="360" y="2167"/>
                </a:lnTo>
                <a:lnTo>
                  <a:pt x="368" y="2200"/>
                </a:lnTo>
                <a:lnTo>
                  <a:pt x="378" y="2232"/>
                </a:lnTo>
                <a:lnTo>
                  <a:pt x="389" y="2264"/>
                </a:lnTo>
                <a:lnTo>
                  <a:pt x="399" y="2295"/>
                </a:lnTo>
                <a:lnTo>
                  <a:pt x="411" y="2326"/>
                </a:lnTo>
                <a:lnTo>
                  <a:pt x="424" y="2357"/>
                </a:lnTo>
                <a:lnTo>
                  <a:pt x="437" y="2388"/>
                </a:lnTo>
                <a:lnTo>
                  <a:pt x="451" y="2417"/>
                </a:lnTo>
                <a:lnTo>
                  <a:pt x="466" y="2446"/>
                </a:lnTo>
                <a:lnTo>
                  <a:pt x="481" y="2476"/>
                </a:lnTo>
                <a:lnTo>
                  <a:pt x="497" y="2505"/>
                </a:lnTo>
                <a:lnTo>
                  <a:pt x="513" y="2533"/>
                </a:lnTo>
                <a:lnTo>
                  <a:pt x="531" y="2562"/>
                </a:lnTo>
                <a:lnTo>
                  <a:pt x="548" y="2588"/>
                </a:lnTo>
                <a:lnTo>
                  <a:pt x="567" y="2616"/>
                </a:lnTo>
                <a:lnTo>
                  <a:pt x="586" y="2643"/>
                </a:lnTo>
                <a:lnTo>
                  <a:pt x="606" y="2669"/>
                </a:lnTo>
                <a:lnTo>
                  <a:pt x="627" y="2695"/>
                </a:lnTo>
                <a:lnTo>
                  <a:pt x="647" y="2721"/>
                </a:lnTo>
                <a:lnTo>
                  <a:pt x="670" y="2745"/>
                </a:lnTo>
                <a:lnTo>
                  <a:pt x="691" y="2770"/>
                </a:lnTo>
                <a:lnTo>
                  <a:pt x="713" y="2793"/>
                </a:lnTo>
                <a:lnTo>
                  <a:pt x="737" y="2816"/>
                </a:lnTo>
                <a:lnTo>
                  <a:pt x="759" y="2838"/>
                </a:lnTo>
                <a:lnTo>
                  <a:pt x="783" y="2859"/>
                </a:lnTo>
                <a:lnTo>
                  <a:pt x="806" y="2880"/>
                </a:lnTo>
                <a:lnTo>
                  <a:pt x="830" y="2899"/>
                </a:lnTo>
                <a:lnTo>
                  <a:pt x="854" y="2917"/>
                </a:lnTo>
                <a:lnTo>
                  <a:pt x="879" y="2935"/>
                </a:lnTo>
                <a:lnTo>
                  <a:pt x="903" y="2952"/>
                </a:lnTo>
                <a:lnTo>
                  <a:pt x="929" y="2968"/>
                </a:lnTo>
                <a:lnTo>
                  <a:pt x="955" y="2984"/>
                </a:lnTo>
                <a:lnTo>
                  <a:pt x="980" y="2999"/>
                </a:lnTo>
                <a:lnTo>
                  <a:pt x="1007" y="3013"/>
                </a:lnTo>
                <a:lnTo>
                  <a:pt x="1033" y="3026"/>
                </a:lnTo>
                <a:lnTo>
                  <a:pt x="1059" y="3039"/>
                </a:lnTo>
                <a:lnTo>
                  <a:pt x="1087" y="3049"/>
                </a:lnTo>
                <a:lnTo>
                  <a:pt x="1114" y="3060"/>
                </a:lnTo>
                <a:lnTo>
                  <a:pt x="1142" y="3071"/>
                </a:lnTo>
                <a:lnTo>
                  <a:pt x="1170" y="3079"/>
                </a:lnTo>
                <a:lnTo>
                  <a:pt x="1198" y="3088"/>
                </a:lnTo>
                <a:lnTo>
                  <a:pt x="1227" y="3095"/>
                </a:lnTo>
                <a:lnTo>
                  <a:pt x="1256" y="3103"/>
                </a:lnTo>
                <a:lnTo>
                  <a:pt x="1286" y="3108"/>
                </a:lnTo>
                <a:lnTo>
                  <a:pt x="1314" y="3113"/>
                </a:lnTo>
                <a:lnTo>
                  <a:pt x="1344" y="3118"/>
                </a:lnTo>
                <a:lnTo>
                  <a:pt x="1375" y="3121"/>
                </a:lnTo>
                <a:lnTo>
                  <a:pt x="1405" y="3124"/>
                </a:lnTo>
                <a:lnTo>
                  <a:pt x="1436" y="3126"/>
                </a:lnTo>
                <a:lnTo>
                  <a:pt x="1467" y="3127"/>
                </a:lnTo>
                <a:lnTo>
                  <a:pt x="1499" y="3127"/>
                </a:lnTo>
                <a:lnTo>
                  <a:pt x="1524" y="3127"/>
                </a:lnTo>
                <a:lnTo>
                  <a:pt x="1548" y="3126"/>
                </a:lnTo>
                <a:lnTo>
                  <a:pt x="1573" y="3125"/>
                </a:lnTo>
                <a:lnTo>
                  <a:pt x="1597" y="3123"/>
                </a:lnTo>
                <a:lnTo>
                  <a:pt x="1621" y="3121"/>
                </a:lnTo>
                <a:lnTo>
                  <a:pt x="1645" y="3118"/>
                </a:lnTo>
                <a:lnTo>
                  <a:pt x="1669" y="3113"/>
                </a:lnTo>
                <a:lnTo>
                  <a:pt x="1692" y="3109"/>
                </a:lnTo>
                <a:lnTo>
                  <a:pt x="1717" y="3105"/>
                </a:lnTo>
                <a:lnTo>
                  <a:pt x="1739" y="3099"/>
                </a:lnTo>
                <a:lnTo>
                  <a:pt x="1763" y="3093"/>
                </a:lnTo>
                <a:lnTo>
                  <a:pt x="1786" y="3087"/>
                </a:lnTo>
                <a:lnTo>
                  <a:pt x="1809" y="3079"/>
                </a:lnTo>
                <a:lnTo>
                  <a:pt x="1831" y="3072"/>
                </a:lnTo>
                <a:lnTo>
                  <a:pt x="1855" y="3064"/>
                </a:lnTo>
                <a:lnTo>
                  <a:pt x="1877" y="3055"/>
                </a:lnTo>
                <a:lnTo>
                  <a:pt x="1898" y="3046"/>
                </a:lnTo>
                <a:lnTo>
                  <a:pt x="1921" y="3035"/>
                </a:lnTo>
                <a:lnTo>
                  <a:pt x="1943" y="3025"/>
                </a:lnTo>
                <a:lnTo>
                  <a:pt x="1965" y="3014"/>
                </a:lnTo>
                <a:lnTo>
                  <a:pt x="1986" y="3002"/>
                </a:lnTo>
                <a:lnTo>
                  <a:pt x="2007" y="2991"/>
                </a:lnTo>
                <a:lnTo>
                  <a:pt x="2029" y="2978"/>
                </a:lnTo>
                <a:lnTo>
                  <a:pt x="2050" y="2964"/>
                </a:lnTo>
                <a:lnTo>
                  <a:pt x="2071" y="2950"/>
                </a:lnTo>
                <a:lnTo>
                  <a:pt x="2092" y="2936"/>
                </a:lnTo>
                <a:lnTo>
                  <a:pt x="2113" y="2920"/>
                </a:lnTo>
                <a:lnTo>
                  <a:pt x="2133" y="2905"/>
                </a:lnTo>
                <a:lnTo>
                  <a:pt x="2174" y="2872"/>
                </a:lnTo>
                <a:lnTo>
                  <a:pt x="2213" y="2837"/>
                </a:lnTo>
                <a:lnTo>
                  <a:pt x="2233" y="2819"/>
                </a:lnTo>
                <a:lnTo>
                  <a:pt x="2252" y="2800"/>
                </a:lnTo>
                <a:lnTo>
                  <a:pt x="2271" y="2780"/>
                </a:lnTo>
                <a:lnTo>
                  <a:pt x="2289" y="2761"/>
                </a:lnTo>
                <a:lnTo>
                  <a:pt x="2307" y="2742"/>
                </a:lnTo>
                <a:lnTo>
                  <a:pt x="2325" y="2722"/>
                </a:lnTo>
                <a:lnTo>
                  <a:pt x="2342" y="2701"/>
                </a:lnTo>
                <a:lnTo>
                  <a:pt x="2358" y="2681"/>
                </a:lnTo>
                <a:lnTo>
                  <a:pt x="2374" y="2660"/>
                </a:lnTo>
                <a:lnTo>
                  <a:pt x="2390" y="2638"/>
                </a:lnTo>
                <a:lnTo>
                  <a:pt x="2405" y="2616"/>
                </a:lnTo>
                <a:lnTo>
                  <a:pt x="2420" y="2595"/>
                </a:lnTo>
                <a:lnTo>
                  <a:pt x="2434" y="2572"/>
                </a:lnTo>
                <a:lnTo>
                  <a:pt x="2448" y="2550"/>
                </a:lnTo>
                <a:lnTo>
                  <a:pt x="2461" y="2526"/>
                </a:lnTo>
                <a:lnTo>
                  <a:pt x="2475" y="2503"/>
                </a:lnTo>
                <a:lnTo>
                  <a:pt x="2500" y="2455"/>
                </a:lnTo>
                <a:lnTo>
                  <a:pt x="2523" y="2406"/>
                </a:lnTo>
                <a:lnTo>
                  <a:pt x="2544" y="2356"/>
                </a:lnTo>
                <a:lnTo>
                  <a:pt x="2564" y="2303"/>
                </a:lnTo>
                <a:lnTo>
                  <a:pt x="2582" y="2250"/>
                </a:lnTo>
                <a:lnTo>
                  <a:pt x="2598" y="2196"/>
                </a:lnTo>
                <a:lnTo>
                  <a:pt x="2613" y="2140"/>
                </a:lnTo>
                <a:lnTo>
                  <a:pt x="2626" y="2082"/>
                </a:lnTo>
                <a:lnTo>
                  <a:pt x="1160" y="2082"/>
                </a:lnTo>
                <a:lnTo>
                  <a:pt x="1160" y="1789"/>
                </a:lnTo>
                <a:close/>
              </a:path>
            </a:pathLst>
          </a:custGeom>
          <a:solidFill>
            <a:srgbClr val="f1b8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17880" y="542880"/>
            <a:ext cx="217440" cy="477720"/>
          </a:xfrm>
          <a:custGeom>
            <a:avLst/>
            <a:gdLst/>
            <a:ahLst/>
            <a:rect l="l" t="t" r="r" b="b"/>
            <a:pathLst>
              <a:path w="1508" h="3309">
                <a:moveTo>
                  <a:pt x="287" y="1484"/>
                </a:moveTo>
                <a:lnTo>
                  <a:pt x="1508" y="1484"/>
                </a:lnTo>
                <a:lnTo>
                  <a:pt x="1508" y="1811"/>
                </a:lnTo>
                <a:lnTo>
                  <a:pt x="287" y="1811"/>
                </a:lnTo>
                <a:lnTo>
                  <a:pt x="287" y="2989"/>
                </a:lnTo>
                <a:lnTo>
                  <a:pt x="1508" y="2989"/>
                </a:lnTo>
                <a:lnTo>
                  <a:pt x="1508" y="3309"/>
                </a:lnTo>
                <a:lnTo>
                  <a:pt x="0" y="3309"/>
                </a:lnTo>
                <a:lnTo>
                  <a:pt x="0" y="0"/>
                </a:lnTo>
                <a:lnTo>
                  <a:pt x="1508" y="0"/>
                </a:lnTo>
                <a:lnTo>
                  <a:pt x="1508" y="326"/>
                </a:lnTo>
                <a:lnTo>
                  <a:pt x="287" y="326"/>
                </a:lnTo>
                <a:lnTo>
                  <a:pt x="287" y="1484"/>
                </a:lnTo>
                <a:close/>
              </a:path>
            </a:pathLst>
          </a:custGeom>
          <a:solidFill>
            <a:srgbClr val="f1b8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84120" y="819000"/>
            <a:ext cx="235080" cy="412920"/>
          </a:xfrm>
          <a:custGeom>
            <a:avLst/>
            <a:gdLst/>
            <a:ahLst/>
            <a:rect l="l" t="t" r="r" b="b"/>
            <a:pathLst>
              <a:path w="1624" h="2852">
                <a:moveTo>
                  <a:pt x="247" y="281"/>
                </a:moveTo>
                <a:lnTo>
                  <a:pt x="247" y="2852"/>
                </a:lnTo>
                <a:lnTo>
                  <a:pt x="0" y="2852"/>
                </a:lnTo>
                <a:lnTo>
                  <a:pt x="0" y="0"/>
                </a:lnTo>
                <a:lnTo>
                  <a:pt x="684" y="0"/>
                </a:lnTo>
                <a:lnTo>
                  <a:pt x="739" y="1"/>
                </a:lnTo>
                <a:lnTo>
                  <a:pt x="791" y="3"/>
                </a:lnTo>
                <a:lnTo>
                  <a:pt x="841" y="5"/>
                </a:lnTo>
                <a:lnTo>
                  <a:pt x="888" y="10"/>
                </a:lnTo>
                <a:lnTo>
                  <a:pt x="931" y="15"/>
                </a:lnTo>
                <a:lnTo>
                  <a:pt x="973" y="21"/>
                </a:lnTo>
                <a:lnTo>
                  <a:pt x="1011" y="30"/>
                </a:lnTo>
                <a:lnTo>
                  <a:pt x="1047" y="38"/>
                </a:lnTo>
                <a:lnTo>
                  <a:pt x="1081" y="49"/>
                </a:lnTo>
                <a:lnTo>
                  <a:pt x="1114" y="61"/>
                </a:lnTo>
                <a:lnTo>
                  <a:pt x="1146" y="74"/>
                </a:lnTo>
                <a:lnTo>
                  <a:pt x="1178" y="89"/>
                </a:lnTo>
                <a:lnTo>
                  <a:pt x="1208" y="106"/>
                </a:lnTo>
                <a:lnTo>
                  <a:pt x="1238" y="124"/>
                </a:lnTo>
                <a:lnTo>
                  <a:pt x="1268" y="143"/>
                </a:lnTo>
                <a:lnTo>
                  <a:pt x="1295" y="164"/>
                </a:lnTo>
                <a:lnTo>
                  <a:pt x="1315" y="180"/>
                </a:lnTo>
                <a:lnTo>
                  <a:pt x="1333" y="196"/>
                </a:lnTo>
                <a:lnTo>
                  <a:pt x="1351" y="212"/>
                </a:lnTo>
                <a:lnTo>
                  <a:pt x="1368" y="230"/>
                </a:lnTo>
                <a:lnTo>
                  <a:pt x="1385" y="248"/>
                </a:lnTo>
                <a:lnTo>
                  <a:pt x="1401" y="266"/>
                </a:lnTo>
                <a:lnTo>
                  <a:pt x="1417" y="285"/>
                </a:lnTo>
                <a:lnTo>
                  <a:pt x="1432" y="304"/>
                </a:lnTo>
                <a:lnTo>
                  <a:pt x="1447" y="324"/>
                </a:lnTo>
                <a:lnTo>
                  <a:pt x="1461" y="346"/>
                </a:lnTo>
                <a:lnTo>
                  <a:pt x="1475" y="367"/>
                </a:lnTo>
                <a:lnTo>
                  <a:pt x="1488" y="390"/>
                </a:lnTo>
                <a:lnTo>
                  <a:pt x="1500" y="412"/>
                </a:lnTo>
                <a:lnTo>
                  <a:pt x="1513" y="435"/>
                </a:lnTo>
                <a:lnTo>
                  <a:pt x="1525" y="460"/>
                </a:lnTo>
                <a:lnTo>
                  <a:pt x="1537" y="485"/>
                </a:lnTo>
                <a:lnTo>
                  <a:pt x="1547" y="509"/>
                </a:lnTo>
                <a:lnTo>
                  <a:pt x="1557" y="535"/>
                </a:lnTo>
                <a:lnTo>
                  <a:pt x="1567" y="560"/>
                </a:lnTo>
                <a:lnTo>
                  <a:pt x="1575" y="586"/>
                </a:lnTo>
                <a:lnTo>
                  <a:pt x="1583" y="612"/>
                </a:lnTo>
                <a:lnTo>
                  <a:pt x="1590" y="637"/>
                </a:lnTo>
                <a:lnTo>
                  <a:pt x="1596" y="664"/>
                </a:lnTo>
                <a:lnTo>
                  <a:pt x="1603" y="690"/>
                </a:lnTo>
                <a:lnTo>
                  <a:pt x="1608" y="716"/>
                </a:lnTo>
                <a:lnTo>
                  <a:pt x="1612" y="743"/>
                </a:lnTo>
                <a:lnTo>
                  <a:pt x="1616" y="770"/>
                </a:lnTo>
                <a:lnTo>
                  <a:pt x="1619" y="797"/>
                </a:lnTo>
                <a:lnTo>
                  <a:pt x="1621" y="824"/>
                </a:lnTo>
                <a:lnTo>
                  <a:pt x="1623" y="852"/>
                </a:lnTo>
                <a:lnTo>
                  <a:pt x="1624" y="879"/>
                </a:lnTo>
                <a:lnTo>
                  <a:pt x="1624" y="907"/>
                </a:lnTo>
                <a:lnTo>
                  <a:pt x="1624" y="949"/>
                </a:lnTo>
                <a:lnTo>
                  <a:pt x="1622" y="988"/>
                </a:lnTo>
                <a:lnTo>
                  <a:pt x="1619" y="1028"/>
                </a:lnTo>
                <a:lnTo>
                  <a:pt x="1614" y="1067"/>
                </a:lnTo>
                <a:lnTo>
                  <a:pt x="1607" y="1106"/>
                </a:lnTo>
                <a:lnTo>
                  <a:pt x="1600" y="1143"/>
                </a:lnTo>
                <a:lnTo>
                  <a:pt x="1591" y="1179"/>
                </a:lnTo>
                <a:lnTo>
                  <a:pt x="1580" y="1216"/>
                </a:lnTo>
                <a:lnTo>
                  <a:pt x="1569" y="1251"/>
                </a:lnTo>
                <a:lnTo>
                  <a:pt x="1556" y="1285"/>
                </a:lnTo>
                <a:lnTo>
                  <a:pt x="1542" y="1319"/>
                </a:lnTo>
                <a:lnTo>
                  <a:pt x="1526" y="1352"/>
                </a:lnTo>
                <a:lnTo>
                  <a:pt x="1509" y="1384"/>
                </a:lnTo>
                <a:lnTo>
                  <a:pt x="1491" y="1415"/>
                </a:lnTo>
                <a:lnTo>
                  <a:pt x="1470" y="1446"/>
                </a:lnTo>
                <a:lnTo>
                  <a:pt x="1449" y="1477"/>
                </a:lnTo>
                <a:lnTo>
                  <a:pt x="1427" y="1506"/>
                </a:lnTo>
                <a:lnTo>
                  <a:pt x="1403" y="1534"/>
                </a:lnTo>
                <a:lnTo>
                  <a:pt x="1380" y="1559"/>
                </a:lnTo>
                <a:lnTo>
                  <a:pt x="1355" y="1583"/>
                </a:lnTo>
                <a:lnTo>
                  <a:pt x="1331" y="1605"/>
                </a:lnTo>
                <a:lnTo>
                  <a:pt x="1305" y="1625"/>
                </a:lnTo>
                <a:lnTo>
                  <a:pt x="1278" y="1645"/>
                </a:lnTo>
                <a:lnTo>
                  <a:pt x="1252" y="1662"/>
                </a:lnTo>
                <a:lnTo>
                  <a:pt x="1224" y="1678"/>
                </a:lnTo>
                <a:lnTo>
                  <a:pt x="1195" y="1691"/>
                </a:lnTo>
                <a:lnTo>
                  <a:pt x="1165" y="1703"/>
                </a:lnTo>
                <a:lnTo>
                  <a:pt x="1136" y="1713"/>
                </a:lnTo>
                <a:lnTo>
                  <a:pt x="1105" y="1722"/>
                </a:lnTo>
                <a:lnTo>
                  <a:pt x="1074" y="1729"/>
                </a:lnTo>
                <a:lnTo>
                  <a:pt x="1042" y="1734"/>
                </a:lnTo>
                <a:lnTo>
                  <a:pt x="1009" y="1738"/>
                </a:lnTo>
                <a:lnTo>
                  <a:pt x="1624" y="2852"/>
                </a:lnTo>
                <a:lnTo>
                  <a:pt x="1327" y="2852"/>
                </a:lnTo>
                <a:lnTo>
                  <a:pt x="571" y="1477"/>
                </a:lnTo>
                <a:lnTo>
                  <a:pt x="813" y="1477"/>
                </a:lnTo>
                <a:lnTo>
                  <a:pt x="843" y="1476"/>
                </a:lnTo>
                <a:lnTo>
                  <a:pt x="872" y="1474"/>
                </a:lnTo>
                <a:lnTo>
                  <a:pt x="900" y="1472"/>
                </a:lnTo>
                <a:lnTo>
                  <a:pt x="928" y="1466"/>
                </a:lnTo>
                <a:lnTo>
                  <a:pt x="955" y="1461"/>
                </a:lnTo>
                <a:lnTo>
                  <a:pt x="981" y="1455"/>
                </a:lnTo>
                <a:lnTo>
                  <a:pt x="1007" y="1446"/>
                </a:lnTo>
                <a:lnTo>
                  <a:pt x="1032" y="1438"/>
                </a:lnTo>
                <a:lnTo>
                  <a:pt x="1056" y="1427"/>
                </a:lnTo>
                <a:lnTo>
                  <a:pt x="1080" y="1415"/>
                </a:lnTo>
                <a:lnTo>
                  <a:pt x="1102" y="1402"/>
                </a:lnTo>
                <a:lnTo>
                  <a:pt x="1125" y="1387"/>
                </a:lnTo>
                <a:lnTo>
                  <a:pt x="1146" y="1373"/>
                </a:lnTo>
                <a:lnTo>
                  <a:pt x="1166" y="1355"/>
                </a:lnTo>
                <a:lnTo>
                  <a:pt x="1186" y="1337"/>
                </a:lnTo>
                <a:lnTo>
                  <a:pt x="1206" y="1318"/>
                </a:lnTo>
                <a:lnTo>
                  <a:pt x="1224" y="1298"/>
                </a:lnTo>
                <a:lnTo>
                  <a:pt x="1241" y="1278"/>
                </a:lnTo>
                <a:lnTo>
                  <a:pt x="1257" y="1256"/>
                </a:lnTo>
                <a:lnTo>
                  <a:pt x="1272" y="1234"/>
                </a:lnTo>
                <a:lnTo>
                  <a:pt x="1286" y="1210"/>
                </a:lnTo>
                <a:lnTo>
                  <a:pt x="1298" y="1187"/>
                </a:lnTo>
                <a:lnTo>
                  <a:pt x="1309" y="1162"/>
                </a:lnTo>
                <a:lnTo>
                  <a:pt x="1319" y="1137"/>
                </a:lnTo>
                <a:lnTo>
                  <a:pt x="1328" y="1111"/>
                </a:lnTo>
                <a:lnTo>
                  <a:pt x="1336" y="1084"/>
                </a:lnTo>
                <a:lnTo>
                  <a:pt x="1342" y="1058"/>
                </a:lnTo>
                <a:lnTo>
                  <a:pt x="1348" y="1030"/>
                </a:lnTo>
                <a:lnTo>
                  <a:pt x="1352" y="1001"/>
                </a:lnTo>
                <a:lnTo>
                  <a:pt x="1355" y="971"/>
                </a:lnTo>
                <a:lnTo>
                  <a:pt x="1356" y="941"/>
                </a:lnTo>
                <a:lnTo>
                  <a:pt x="1357" y="910"/>
                </a:lnTo>
                <a:lnTo>
                  <a:pt x="1356" y="873"/>
                </a:lnTo>
                <a:lnTo>
                  <a:pt x="1354" y="837"/>
                </a:lnTo>
                <a:lnTo>
                  <a:pt x="1351" y="802"/>
                </a:lnTo>
                <a:lnTo>
                  <a:pt x="1346" y="767"/>
                </a:lnTo>
                <a:lnTo>
                  <a:pt x="1339" y="733"/>
                </a:lnTo>
                <a:lnTo>
                  <a:pt x="1331" y="700"/>
                </a:lnTo>
                <a:lnTo>
                  <a:pt x="1322" y="668"/>
                </a:lnTo>
                <a:lnTo>
                  <a:pt x="1310" y="637"/>
                </a:lnTo>
                <a:lnTo>
                  <a:pt x="1299" y="606"/>
                </a:lnTo>
                <a:lnTo>
                  <a:pt x="1285" y="577"/>
                </a:lnTo>
                <a:lnTo>
                  <a:pt x="1270" y="549"/>
                </a:lnTo>
                <a:lnTo>
                  <a:pt x="1254" y="521"/>
                </a:lnTo>
                <a:lnTo>
                  <a:pt x="1236" y="495"/>
                </a:lnTo>
                <a:lnTo>
                  <a:pt x="1216" y="470"/>
                </a:lnTo>
                <a:lnTo>
                  <a:pt x="1196" y="445"/>
                </a:lnTo>
                <a:lnTo>
                  <a:pt x="1174" y="422"/>
                </a:lnTo>
                <a:lnTo>
                  <a:pt x="1154" y="403"/>
                </a:lnTo>
                <a:lnTo>
                  <a:pt x="1134" y="386"/>
                </a:lnTo>
                <a:lnTo>
                  <a:pt x="1113" y="370"/>
                </a:lnTo>
                <a:lnTo>
                  <a:pt x="1090" y="357"/>
                </a:lnTo>
                <a:lnTo>
                  <a:pt x="1068" y="344"/>
                </a:lnTo>
                <a:lnTo>
                  <a:pt x="1043" y="332"/>
                </a:lnTo>
                <a:lnTo>
                  <a:pt x="1019" y="321"/>
                </a:lnTo>
                <a:lnTo>
                  <a:pt x="992" y="313"/>
                </a:lnTo>
                <a:lnTo>
                  <a:pt x="963" y="305"/>
                </a:lnTo>
                <a:lnTo>
                  <a:pt x="929" y="299"/>
                </a:lnTo>
                <a:lnTo>
                  <a:pt x="890" y="292"/>
                </a:lnTo>
                <a:lnTo>
                  <a:pt x="846" y="288"/>
                </a:lnTo>
                <a:lnTo>
                  <a:pt x="796" y="285"/>
                </a:lnTo>
                <a:lnTo>
                  <a:pt x="741" y="283"/>
                </a:lnTo>
                <a:lnTo>
                  <a:pt x="680" y="281"/>
                </a:lnTo>
                <a:lnTo>
                  <a:pt x="615" y="281"/>
                </a:lnTo>
                <a:lnTo>
                  <a:pt x="247" y="281"/>
                </a:lnTo>
                <a:close/>
              </a:path>
            </a:pathLst>
          </a:custGeom>
          <a:solidFill>
            <a:srgbClr val="f1b8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66720" y="1085760"/>
            <a:ext cx="139680" cy="138240"/>
          </a:xfrm>
          <a:custGeom>
            <a:avLst/>
            <a:gdLst/>
            <a:ahLst/>
            <a:rect l="l" t="t" r="r" b="b"/>
            <a:pathLst>
              <a:path w="967" h="958">
                <a:moveTo>
                  <a:pt x="0" y="0"/>
                </a:moveTo>
                <a:lnTo>
                  <a:pt x="146" y="0"/>
                </a:lnTo>
                <a:lnTo>
                  <a:pt x="146" y="319"/>
                </a:lnTo>
                <a:lnTo>
                  <a:pt x="163" y="307"/>
                </a:lnTo>
                <a:lnTo>
                  <a:pt x="180" y="296"/>
                </a:lnTo>
                <a:lnTo>
                  <a:pt x="197" y="285"/>
                </a:lnTo>
                <a:lnTo>
                  <a:pt x="216" y="276"/>
                </a:lnTo>
                <a:lnTo>
                  <a:pt x="235" y="267"/>
                </a:lnTo>
                <a:lnTo>
                  <a:pt x="257" y="259"/>
                </a:lnTo>
                <a:lnTo>
                  <a:pt x="277" y="251"/>
                </a:lnTo>
                <a:lnTo>
                  <a:pt x="299" y="245"/>
                </a:lnTo>
                <a:lnTo>
                  <a:pt x="322" y="238"/>
                </a:lnTo>
                <a:lnTo>
                  <a:pt x="345" y="234"/>
                </a:lnTo>
                <a:lnTo>
                  <a:pt x="370" y="230"/>
                </a:lnTo>
                <a:lnTo>
                  <a:pt x="394" y="226"/>
                </a:lnTo>
                <a:lnTo>
                  <a:pt x="420" y="223"/>
                </a:lnTo>
                <a:lnTo>
                  <a:pt x="446" y="221"/>
                </a:lnTo>
                <a:lnTo>
                  <a:pt x="473" y="220"/>
                </a:lnTo>
                <a:lnTo>
                  <a:pt x="500" y="219"/>
                </a:lnTo>
                <a:lnTo>
                  <a:pt x="530" y="220"/>
                </a:lnTo>
                <a:lnTo>
                  <a:pt x="559" y="221"/>
                </a:lnTo>
                <a:lnTo>
                  <a:pt x="587" y="222"/>
                </a:lnTo>
                <a:lnTo>
                  <a:pt x="613" y="226"/>
                </a:lnTo>
                <a:lnTo>
                  <a:pt x="640" y="228"/>
                </a:lnTo>
                <a:lnTo>
                  <a:pt x="665" y="232"/>
                </a:lnTo>
                <a:lnTo>
                  <a:pt x="688" y="236"/>
                </a:lnTo>
                <a:lnTo>
                  <a:pt x="710" y="242"/>
                </a:lnTo>
                <a:lnTo>
                  <a:pt x="732" y="247"/>
                </a:lnTo>
                <a:lnTo>
                  <a:pt x="753" y="253"/>
                </a:lnTo>
                <a:lnTo>
                  <a:pt x="772" y="261"/>
                </a:lnTo>
                <a:lnTo>
                  <a:pt x="791" y="268"/>
                </a:lnTo>
                <a:lnTo>
                  <a:pt x="809" y="277"/>
                </a:lnTo>
                <a:lnTo>
                  <a:pt x="825" y="286"/>
                </a:lnTo>
                <a:lnTo>
                  <a:pt x="841" y="296"/>
                </a:lnTo>
                <a:lnTo>
                  <a:pt x="855" y="307"/>
                </a:lnTo>
                <a:lnTo>
                  <a:pt x="868" y="318"/>
                </a:lnTo>
                <a:lnTo>
                  <a:pt x="881" y="330"/>
                </a:lnTo>
                <a:lnTo>
                  <a:pt x="893" y="343"/>
                </a:lnTo>
                <a:lnTo>
                  <a:pt x="904" y="357"/>
                </a:lnTo>
                <a:lnTo>
                  <a:pt x="913" y="372"/>
                </a:lnTo>
                <a:lnTo>
                  <a:pt x="923" y="388"/>
                </a:lnTo>
                <a:lnTo>
                  <a:pt x="931" y="404"/>
                </a:lnTo>
                <a:lnTo>
                  <a:pt x="938" y="421"/>
                </a:lnTo>
                <a:lnTo>
                  <a:pt x="945" y="439"/>
                </a:lnTo>
                <a:lnTo>
                  <a:pt x="951" y="458"/>
                </a:lnTo>
                <a:lnTo>
                  <a:pt x="955" y="478"/>
                </a:lnTo>
                <a:lnTo>
                  <a:pt x="959" y="499"/>
                </a:lnTo>
                <a:lnTo>
                  <a:pt x="962" y="520"/>
                </a:lnTo>
                <a:lnTo>
                  <a:pt x="965" y="543"/>
                </a:lnTo>
                <a:lnTo>
                  <a:pt x="966" y="566"/>
                </a:lnTo>
                <a:lnTo>
                  <a:pt x="967" y="591"/>
                </a:lnTo>
                <a:lnTo>
                  <a:pt x="967" y="958"/>
                </a:lnTo>
                <a:lnTo>
                  <a:pt x="820" y="958"/>
                </a:lnTo>
                <a:lnTo>
                  <a:pt x="820" y="588"/>
                </a:lnTo>
                <a:lnTo>
                  <a:pt x="820" y="569"/>
                </a:lnTo>
                <a:lnTo>
                  <a:pt x="819" y="551"/>
                </a:lnTo>
                <a:lnTo>
                  <a:pt x="818" y="533"/>
                </a:lnTo>
                <a:lnTo>
                  <a:pt x="816" y="516"/>
                </a:lnTo>
                <a:lnTo>
                  <a:pt x="813" y="500"/>
                </a:lnTo>
                <a:lnTo>
                  <a:pt x="810" y="484"/>
                </a:lnTo>
                <a:lnTo>
                  <a:pt x="807" y="470"/>
                </a:lnTo>
                <a:lnTo>
                  <a:pt x="801" y="455"/>
                </a:lnTo>
                <a:lnTo>
                  <a:pt x="797" y="442"/>
                </a:lnTo>
                <a:lnTo>
                  <a:pt x="792" y="429"/>
                </a:lnTo>
                <a:lnTo>
                  <a:pt x="785" y="418"/>
                </a:lnTo>
                <a:lnTo>
                  <a:pt x="778" y="407"/>
                </a:lnTo>
                <a:lnTo>
                  <a:pt x="770" y="396"/>
                </a:lnTo>
                <a:lnTo>
                  <a:pt x="763" y="387"/>
                </a:lnTo>
                <a:lnTo>
                  <a:pt x="754" y="378"/>
                </a:lnTo>
                <a:lnTo>
                  <a:pt x="745" y="370"/>
                </a:lnTo>
                <a:lnTo>
                  <a:pt x="735" y="362"/>
                </a:lnTo>
                <a:lnTo>
                  <a:pt x="724" y="356"/>
                </a:lnTo>
                <a:lnTo>
                  <a:pt x="713" y="349"/>
                </a:lnTo>
                <a:lnTo>
                  <a:pt x="701" y="343"/>
                </a:lnTo>
                <a:lnTo>
                  <a:pt x="688" y="338"/>
                </a:lnTo>
                <a:lnTo>
                  <a:pt x="674" y="332"/>
                </a:lnTo>
                <a:lnTo>
                  <a:pt x="659" y="328"/>
                </a:lnTo>
                <a:lnTo>
                  <a:pt x="644" y="324"/>
                </a:lnTo>
                <a:lnTo>
                  <a:pt x="628" y="321"/>
                </a:lnTo>
                <a:lnTo>
                  <a:pt x="611" y="317"/>
                </a:lnTo>
                <a:lnTo>
                  <a:pt x="593" y="314"/>
                </a:lnTo>
                <a:lnTo>
                  <a:pt x="575" y="312"/>
                </a:lnTo>
                <a:lnTo>
                  <a:pt x="535" y="310"/>
                </a:lnTo>
                <a:lnTo>
                  <a:pt x="493" y="309"/>
                </a:lnTo>
                <a:lnTo>
                  <a:pt x="467" y="309"/>
                </a:lnTo>
                <a:lnTo>
                  <a:pt x="444" y="310"/>
                </a:lnTo>
                <a:lnTo>
                  <a:pt x="420" y="312"/>
                </a:lnTo>
                <a:lnTo>
                  <a:pt x="398" y="315"/>
                </a:lnTo>
                <a:lnTo>
                  <a:pt x="376" y="318"/>
                </a:lnTo>
                <a:lnTo>
                  <a:pt x="355" y="323"/>
                </a:lnTo>
                <a:lnTo>
                  <a:pt x="335" y="328"/>
                </a:lnTo>
                <a:lnTo>
                  <a:pt x="315" y="334"/>
                </a:lnTo>
                <a:lnTo>
                  <a:pt x="297" y="341"/>
                </a:lnTo>
                <a:lnTo>
                  <a:pt x="279" y="348"/>
                </a:lnTo>
                <a:lnTo>
                  <a:pt x="263" y="356"/>
                </a:lnTo>
                <a:lnTo>
                  <a:pt x="247" y="364"/>
                </a:lnTo>
                <a:lnTo>
                  <a:pt x="233" y="374"/>
                </a:lnTo>
                <a:lnTo>
                  <a:pt x="219" y="385"/>
                </a:lnTo>
                <a:lnTo>
                  <a:pt x="206" y="395"/>
                </a:lnTo>
                <a:lnTo>
                  <a:pt x="195" y="406"/>
                </a:lnTo>
                <a:lnTo>
                  <a:pt x="188" y="414"/>
                </a:lnTo>
                <a:lnTo>
                  <a:pt x="183" y="422"/>
                </a:lnTo>
                <a:lnTo>
                  <a:pt x="177" y="429"/>
                </a:lnTo>
                <a:lnTo>
                  <a:pt x="172" y="438"/>
                </a:lnTo>
                <a:lnTo>
                  <a:pt x="167" y="446"/>
                </a:lnTo>
                <a:lnTo>
                  <a:pt x="164" y="456"/>
                </a:lnTo>
                <a:lnTo>
                  <a:pt x="160" y="465"/>
                </a:lnTo>
                <a:lnTo>
                  <a:pt x="157" y="474"/>
                </a:lnTo>
                <a:lnTo>
                  <a:pt x="154" y="484"/>
                </a:lnTo>
                <a:lnTo>
                  <a:pt x="152" y="497"/>
                </a:lnTo>
                <a:lnTo>
                  <a:pt x="150" y="511"/>
                </a:lnTo>
                <a:lnTo>
                  <a:pt x="149" y="525"/>
                </a:lnTo>
                <a:lnTo>
                  <a:pt x="148" y="544"/>
                </a:lnTo>
                <a:lnTo>
                  <a:pt x="147" y="563"/>
                </a:lnTo>
                <a:lnTo>
                  <a:pt x="146" y="583"/>
                </a:lnTo>
                <a:lnTo>
                  <a:pt x="146" y="605"/>
                </a:lnTo>
                <a:lnTo>
                  <a:pt x="146" y="958"/>
                </a:lnTo>
                <a:lnTo>
                  <a:pt x="0" y="958"/>
                </a:lnTo>
                <a:lnTo>
                  <a:pt x="0" y="0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57520" y="1073160"/>
            <a:ext cx="171360" cy="154080"/>
          </a:xfrm>
          <a:custGeom>
            <a:avLst/>
            <a:gdLst/>
            <a:ahLst/>
            <a:rect l="l" t="t" r="r" b="b"/>
            <a:pathLst>
              <a:path w="1190" h="1070">
                <a:moveTo>
                  <a:pt x="156" y="687"/>
                </a:moveTo>
                <a:lnTo>
                  <a:pt x="156" y="703"/>
                </a:lnTo>
                <a:lnTo>
                  <a:pt x="158" y="718"/>
                </a:lnTo>
                <a:lnTo>
                  <a:pt x="160" y="733"/>
                </a:lnTo>
                <a:lnTo>
                  <a:pt x="163" y="747"/>
                </a:lnTo>
                <a:lnTo>
                  <a:pt x="168" y="762"/>
                </a:lnTo>
                <a:lnTo>
                  <a:pt x="173" y="775"/>
                </a:lnTo>
                <a:lnTo>
                  <a:pt x="180" y="789"/>
                </a:lnTo>
                <a:lnTo>
                  <a:pt x="187" y="802"/>
                </a:lnTo>
                <a:lnTo>
                  <a:pt x="195" y="815"/>
                </a:lnTo>
                <a:lnTo>
                  <a:pt x="205" y="828"/>
                </a:lnTo>
                <a:lnTo>
                  <a:pt x="216" y="839"/>
                </a:lnTo>
                <a:lnTo>
                  <a:pt x="227" y="852"/>
                </a:lnTo>
                <a:lnTo>
                  <a:pt x="239" y="864"/>
                </a:lnTo>
                <a:lnTo>
                  <a:pt x="253" y="875"/>
                </a:lnTo>
                <a:lnTo>
                  <a:pt x="267" y="886"/>
                </a:lnTo>
                <a:lnTo>
                  <a:pt x="283" y="897"/>
                </a:lnTo>
                <a:lnTo>
                  <a:pt x="299" y="907"/>
                </a:lnTo>
                <a:lnTo>
                  <a:pt x="315" y="916"/>
                </a:lnTo>
                <a:lnTo>
                  <a:pt x="332" y="926"/>
                </a:lnTo>
                <a:lnTo>
                  <a:pt x="350" y="933"/>
                </a:lnTo>
                <a:lnTo>
                  <a:pt x="368" y="941"/>
                </a:lnTo>
                <a:lnTo>
                  <a:pt x="387" y="948"/>
                </a:lnTo>
                <a:lnTo>
                  <a:pt x="406" y="955"/>
                </a:lnTo>
                <a:lnTo>
                  <a:pt x="425" y="960"/>
                </a:lnTo>
                <a:lnTo>
                  <a:pt x="445" y="965"/>
                </a:lnTo>
                <a:lnTo>
                  <a:pt x="466" y="970"/>
                </a:lnTo>
                <a:lnTo>
                  <a:pt x="486" y="973"/>
                </a:lnTo>
                <a:lnTo>
                  <a:pt x="508" y="976"/>
                </a:lnTo>
                <a:lnTo>
                  <a:pt x="530" y="978"/>
                </a:lnTo>
                <a:lnTo>
                  <a:pt x="552" y="980"/>
                </a:lnTo>
                <a:lnTo>
                  <a:pt x="574" y="980"/>
                </a:lnTo>
                <a:lnTo>
                  <a:pt x="598" y="981"/>
                </a:lnTo>
                <a:lnTo>
                  <a:pt x="621" y="980"/>
                </a:lnTo>
                <a:lnTo>
                  <a:pt x="644" y="980"/>
                </a:lnTo>
                <a:lnTo>
                  <a:pt x="665" y="978"/>
                </a:lnTo>
                <a:lnTo>
                  <a:pt x="688" y="976"/>
                </a:lnTo>
                <a:lnTo>
                  <a:pt x="708" y="973"/>
                </a:lnTo>
                <a:lnTo>
                  <a:pt x="729" y="970"/>
                </a:lnTo>
                <a:lnTo>
                  <a:pt x="750" y="965"/>
                </a:lnTo>
                <a:lnTo>
                  <a:pt x="769" y="960"/>
                </a:lnTo>
                <a:lnTo>
                  <a:pt x="788" y="955"/>
                </a:lnTo>
                <a:lnTo>
                  <a:pt x="807" y="948"/>
                </a:lnTo>
                <a:lnTo>
                  <a:pt x="825" y="941"/>
                </a:lnTo>
                <a:lnTo>
                  <a:pt x="843" y="933"/>
                </a:lnTo>
                <a:lnTo>
                  <a:pt x="861" y="926"/>
                </a:lnTo>
                <a:lnTo>
                  <a:pt x="878" y="916"/>
                </a:lnTo>
                <a:lnTo>
                  <a:pt x="894" y="907"/>
                </a:lnTo>
                <a:lnTo>
                  <a:pt x="910" y="897"/>
                </a:lnTo>
                <a:lnTo>
                  <a:pt x="925" y="886"/>
                </a:lnTo>
                <a:lnTo>
                  <a:pt x="940" y="875"/>
                </a:lnTo>
                <a:lnTo>
                  <a:pt x="952" y="864"/>
                </a:lnTo>
                <a:lnTo>
                  <a:pt x="965" y="852"/>
                </a:lnTo>
                <a:lnTo>
                  <a:pt x="976" y="839"/>
                </a:lnTo>
                <a:lnTo>
                  <a:pt x="987" y="828"/>
                </a:lnTo>
                <a:lnTo>
                  <a:pt x="996" y="815"/>
                </a:lnTo>
                <a:lnTo>
                  <a:pt x="1004" y="802"/>
                </a:lnTo>
                <a:lnTo>
                  <a:pt x="1011" y="788"/>
                </a:lnTo>
                <a:lnTo>
                  <a:pt x="1018" y="774"/>
                </a:lnTo>
                <a:lnTo>
                  <a:pt x="1023" y="760"/>
                </a:lnTo>
                <a:lnTo>
                  <a:pt x="1028" y="747"/>
                </a:lnTo>
                <a:lnTo>
                  <a:pt x="1031" y="732"/>
                </a:lnTo>
                <a:lnTo>
                  <a:pt x="1034" y="717"/>
                </a:lnTo>
                <a:lnTo>
                  <a:pt x="1035" y="702"/>
                </a:lnTo>
                <a:lnTo>
                  <a:pt x="1036" y="686"/>
                </a:lnTo>
                <a:lnTo>
                  <a:pt x="1035" y="670"/>
                </a:lnTo>
                <a:lnTo>
                  <a:pt x="1034" y="655"/>
                </a:lnTo>
                <a:lnTo>
                  <a:pt x="1031" y="640"/>
                </a:lnTo>
                <a:lnTo>
                  <a:pt x="1027" y="625"/>
                </a:lnTo>
                <a:lnTo>
                  <a:pt x="1023" y="610"/>
                </a:lnTo>
                <a:lnTo>
                  <a:pt x="1018" y="596"/>
                </a:lnTo>
                <a:lnTo>
                  <a:pt x="1011" y="582"/>
                </a:lnTo>
                <a:lnTo>
                  <a:pt x="1004" y="569"/>
                </a:lnTo>
                <a:lnTo>
                  <a:pt x="995" y="556"/>
                </a:lnTo>
                <a:lnTo>
                  <a:pt x="985" y="544"/>
                </a:lnTo>
                <a:lnTo>
                  <a:pt x="975" y="531"/>
                </a:lnTo>
                <a:lnTo>
                  <a:pt x="964" y="519"/>
                </a:lnTo>
                <a:lnTo>
                  <a:pt x="951" y="508"/>
                </a:lnTo>
                <a:lnTo>
                  <a:pt x="937" y="497"/>
                </a:lnTo>
                <a:lnTo>
                  <a:pt x="924" y="485"/>
                </a:lnTo>
                <a:lnTo>
                  <a:pt x="908" y="476"/>
                </a:lnTo>
                <a:lnTo>
                  <a:pt x="892" y="465"/>
                </a:lnTo>
                <a:lnTo>
                  <a:pt x="876" y="456"/>
                </a:lnTo>
                <a:lnTo>
                  <a:pt x="857" y="447"/>
                </a:lnTo>
                <a:lnTo>
                  <a:pt x="840" y="439"/>
                </a:lnTo>
                <a:lnTo>
                  <a:pt x="822" y="432"/>
                </a:lnTo>
                <a:lnTo>
                  <a:pt x="803" y="425"/>
                </a:lnTo>
                <a:lnTo>
                  <a:pt x="784" y="419"/>
                </a:lnTo>
                <a:lnTo>
                  <a:pt x="763" y="414"/>
                </a:lnTo>
                <a:lnTo>
                  <a:pt x="743" y="408"/>
                </a:lnTo>
                <a:lnTo>
                  <a:pt x="722" y="404"/>
                </a:lnTo>
                <a:lnTo>
                  <a:pt x="700" y="401"/>
                </a:lnTo>
                <a:lnTo>
                  <a:pt x="678" y="398"/>
                </a:lnTo>
                <a:lnTo>
                  <a:pt x="656" y="395"/>
                </a:lnTo>
                <a:lnTo>
                  <a:pt x="633" y="393"/>
                </a:lnTo>
                <a:lnTo>
                  <a:pt x="609" y="393"/>
                </a:lnTo>
                <a:lnTo>
                  <a:pt x="585" y="392"/>
                </a:lnTo>
                <a:lnTo>
                  <a:pt x="563" y="393"/>
                </a:lnTo>
                <a:lnTo>
                  <a:pt x="541" y="393"/>
                </a:lnTo>
                <a:lnTo>
                  <a:pt x="520" y="395"/>
                </a:lnTo>
                <a:lnTo>
                  <a:pt x="500" y="398"/>
                </a:lnTo>
                <a:lnTo>
                  <a:pt x="479" y="401"/>
                </a:lnTo>
                <a:lnTo>
                  <a:pt x="459" y="404"/>
                </a:lnTo>
                <a:lnTo>
                  <a:pt x="440" y="408"/>
                </a:lnTo>
                <a:lnTo>
                  <a:pt x="421" y="414"/>
                </a:lnTo>
                <a:lnTo>
                  <a:pt x="403" y="419"/>
                </a:lnTo>
                <a:lnTo>
                  <a:pt x="383" y="425"/>
                </a:lnTo>
                <a:lnTo>
                  <a:pt x="366" y="433"/>
                </a:lnTo>
                <a:lnTo>
                  <a:pt x="348" y="440"/>
                </a:lnTo>
                <a:lnTo>
                  <a:pt x="331" y="449"/>
                </a:lnTo>
                <a:lnTo>
                  <a:pt x="314" y="457"/>
                </a:lnTo>
                <a:lnTo>
                  <a:pt x="298" y="467"/>
                </a:lnTo>
                <a:lnTo>
                  <a:pt x="282" y="478"/>
                </a:lnTo>
                <a:lnTo>
                  <a:pt x="267" y="488"/>
                </a:lnTo>
                <a:lnTo>
                  <a:pt x="252" y="499"/>
                </a:lnTo>
                <a:lnTo>
                  <a:pt x="239" y="511"/>
                </a:lnTo>
                <a:lnTo>
                  <a:pt x="226" y="522"/>
                </a:lnTo>
                <a:lnTo>
                  <a:pt x="216" y="534"/>
                </a:lnTo>
                <a:lnTo>
                  <a:pt x="205" y="547"/>
                </a:lnTo>
                <a:lnTo>
                  <a:pt x="195" y="559"/>
                </a:lnTo>
                <a:lnTo>
                  <a:pt x="187" y="573"/>
                </a:lnTo>
                <a:lnTo>
                  <a:pt x="179" y="585"/>
                </a:lnTo>
                <a:lnTo>
                  <a:pt x="173" y="599"/>
                </a:lnTo>
                <a:lnTo>
                  <a:pt x="168" y="613"/>
                </a:lnTo>
                <a:lnTo>
                  <a:pt x="163" y="627"/>
                </a:lnTo>
                <a:lnTo>
                  <a:pt x="160" y="642"/>
                </a:lnTo>
                <a:lnTo>
                  <a:pt x="158" y="657"/>
                </a:lnTo>
                <a:lnTo>
                  <a:pt x="156" y="672"/>
                </a:lnTo>
                <a:lnTo>
                  <a:pt x="156" y="687"/>
                </a:lnTo>
                <a:close/>
                <a:moveTo>
                  <a:pt x="0" y="689"/>
                </a:moveTo>
                <a:lnTo>
                  <a:pt x="1" y="669"/>
                </a:lnTo>
                <a:lnTo>
                  <a:pt x="3" y="649"/>
                </a:lnTo>
                <a:lnTo>
                  <a:pt x="6" y="630"/>
                </a:lnTo>
                <a:lnTo>
                  <a:pt x="11" y="612"/>
                </a:lnTo>
                <a:lnTo>
                  <a:pt x="17" y="594"/>
                </a:lnTo>
                <a:lnTo>
                  <a:pt x="25" y="576"/>
                </a:lnTo>
                <a:lnTo>
                  <a:pt x="33" y="558"/>
                </a:lnTo>
                <a:lnTo>
                  <a:pt x="44" y="541"/>
                </a:lnTo>
                <a:lnTo>
                  <a:pt x="56" y="525"/>
                </a:lnTo>
                <a:lnTo>
                  <a:pt x="68" y="508"/>
                </a:lnTo>
                <a:lnTo>
                  <a:pt x="82" y="492"/>
                </a:lnTo>
                <a:lnTo>
                  <a:pt x="98" y="476"/>
                </a:lnTo>
                <a:lnTo>
                  <a:pt x="115" y="461"/>
                </a:lnTo>
                <a:lnTo>
                  <a:pt x="133" y="446"/>
                </a:lnTo>
                <a:lnTo>
                  <a:pt x="153" y="431"/>
                </a:lnTo>
                <a:lnTo>
                  <a:pt x="174" y="416"/>
                </a:lnTo>
                <a:lnTo>
                  <a:pt x="196" y="403"/>
                </a:lnTo>
                <a:lnTo>
                  <a:pt x="219" y="390"/>
                </a:lnTo>
                <a:lnTo>
                  <a:pt x="241" y="377"/>
                </a:lnTo>
                <a:lnTo>
                  <a:pt x="265" y="367"/>
                </a:lnTo>
                <a:lnTo>
                  <a:pt x="289" y="357"/>
                </a:lnTo>
                <a:lnTo>
                  <a:pt x="314" y="347"/>
                </a:lnTo>
                <a:lnTo>
                  <a:pt x="338" y="339"/>
                </a:lnTo>
                <a:lnTo>
                  <a:pt x="364" y="331"/>
                </a:lnTo>
                <a:lnTo>
                  <a:pt x="391" y="325"/>
                </a:lnTo>
                <a:lnTo>
                  <a:pt x="417" y="319"/>
                </a:lnTo>
                <a:lnTo>
                  <a:pt x="444" y="314"/>
                </a:lnTo>
                <a:lnTo>
                  <a:pt x="472" y="310"/>
                </a:lnTo>
                <a:lnTo>
                  <a:pt x="500" y="307"/>
                </a:lnTo>
                <a:lnTo>
                  <a:pt x="529" y="305"/>
                </a:lnTo>
                <a:lnTo>
                  <a:pt x="557" y="304"/>
                </a:lnTo>
                <a:lnTo>
                  <a:pt x="587" y="303"/>
                </a:lnTo>
                <a:lnTo>
                  <a:pt x="618" y="304"/>
                </a:lnTo>
                <a:lnTo>
                  <a:pt x="648" y="305"/>
                </a:lnTo>
                <a:lnTo>
                  <a:pt x="678" y="307"/>
                </a:lnTo>
                <a:lnTo>
                  <a:pt x="708" y="310"/>
                </a:lnTo>
                <a:lnTo>
                  <a:pt x="736" y="314"/>
                </a:lnTo>
                <a:lnTo>
                  <a:pt x="764" y="319"/>
                </a:lnTo>
                <a:lnTo>
                  <a:pt x="792" y="324"/>
                </a:lnTo>
                <a:lnTo>
                  <a:pt x="819" y="331"/>
                </a:lnTo>
                <a:lnTo>
                  <a:pt x="846" y="338"/>
                </a:lnTo>
                <a:lnTo>
                  <a:pt x="871" y="346"/>
                </a:lnTo>
                <a:lnTo>
                  <a:pt x="897" y="356"/>
                </a:lnTo>
                <a:lnTo>
                  <a:pt x="921" y="366"/>
                </a:lnTo>
                <a:lnTo>
                  <a:pt x="945" y="376"/>
                </a:lnTo>
                <a:lnTo>
                  <a:pt x="968" y="388"/>
                </a:lnTo>
                <a:lnTo>
                  <a:pt x="992" y="401"/>
                </a:lnTo>
                <a:lnTo>
                  <a:pt x="1014" y="415"/>
                </a:lnTo>
                <a:lnTo>
                  <a:pt x="1036" y="429"/>
                </a:lnTo>
                <a:lnTo>
                  <a:pt x="1056" y="442"/>
                </a:lnTo>
                <a:lnTo>
                  <a:pt x="1074" y="457"/>
                </a:lnTo>
                <a:lnTo>
                  <a:pt x="1091" y="472"/>
                </a:lnTo>
                <a:lnTo>
                  <a:pt x="1107" y="488"/>
                </a:lnTo>
                <a:lnTo>
                  <a:pt x="1122" y="503"/>
                </a:lnTo>
                <a:lnTo>
                  <a:pt x="1135" y="519"/>
                </a:lnTo>
                <a:lnTo>
                  <a:pt x="1147" y="536"/>
                </a:lnTo>
                <a:lnTo>
                  <a:pt x="1157" y="553"/>
                </a:lnTo>
                <a:lnTo>
                  <a:pt x="1166" y="569"/>
                </a:lnTo>
                <a:lnTo>
                  <a:pt x="1173" y="588"/>
                </a:lnTo>
                <a:lnTo>
                  <a:pt x="1180" y="605"/>
                </a:lnTo>
                <a:lnTo>
                  <a:pt x="1185" y="623"/>
                </a:lnTo>
                <a:lnTo>
                  <a:pt x="1188" y="642"/>
                </a:lnTo>
                <a:lnTo>
                  <a:pt x="1190" y="660"/>
                </a:lnTo>
                <a:lnTo>
                  <a:pt x="1190" y="679"/>
                </a:lnTo>
                <a:lnTo>
                  <a:pt x="1190" y="700"/>
                </a:lnTo>
                <a:lnTo>
                  <a:pt x="1188" y="719"/>
                </a:lnTo>
                <a:lnTo>
                  <a:pt x="1185" y="738"/>
                </a:lnTo>
                <a:lnTo>
                  <a:pt x="1180" y="757"/>
                </a:lnTo>
                <a:lnTo>
                  <a:pt x="1174" y="775"/>
                </a:lnTo>
                <a:lnTo>
                  <a:pt x="1167" y="794"/>
                </a:lnTo>
                <a:lnTo>
                  <a:pt x="1157" y="812"/>
                </a:lnTo>
                <a:lnTo>
                  <a:pt x="1148" y="829"/>
                </a:lnTo>
                <a:lnTo>
                  <a:pt x="1136" y="846"/>
                </a:lnTo>
                <a:lnTo>
                  <a:pt x="1123" y="863"/>
                </a:lnTo>
                <a:lnTo>
                  <a:pt x="1109" y="879"/>
                </a:lnTo>
                <a:lnTo>
                  <a:pt x="1093" y="895"/>
                </a:lnTo>
                <a:lnTo>
                  <a:pt x="1076" y="911"/>
                </a:lnTo>
                <a:lnTo>
                  <a:pt x="1058" y="926"/>
                </a:lnTo>
                <a:lnTo>
                  <a:pt x="1039" y="941"/>
                </a:lnTo>
                <a:lnTo>
                  <a:pt x="1018" y="956"/>
                </a:lnTo>
                <a:lnTo>
                  <a:pt x="996" y="970"/>
                </a:lnTo>
                <a:lnTo>
                  <a:pt x="974" y="982"/>
                </a:lnTo>
                <a:lnTo>
                  <a:pt x="950" y="994"/>
                </a:lnTo>
                <a:lnTo>
                  <a:pt x="927" y="1006"/>
                </a:lnTo>
                <a:lnTo>
                  <a:pt x="902" y="1016"/>
                </a:lnTo>
                <a:lnTo>
                  <a:pt x="878" y="1025"/>
                </a:lnTo>
                <a:lnTo>
                  <a:pt x="852" y="1034"/>
                </a:lnTo>
                <a:lnTo>
                  <a:pt x="826" y="1041"/>
                </a:lnTo>
                <a:lnTo>
                  <a:pt x="800" y="1049"/>
                </a:lnTo>
                <a:lnTo>
                  <a:pt x="773" y="1054"/>
                </a:lnTo>
                <a:lnTo>
                  <a:pt x="745" y="1059"/>
                </a:lnTo>
                <a:lnTo>
                  <a:pt x="716" y="1063"/>
                </a:lnTo>
                <a:lnTo>
                  <a:pt x="688" y="1066"/>
                </a:lnTo>
                <a:lnTo>
                  <a:pt x="659" y="1068"/>
                </a:lnTo>
                <a:lnTo>
                  <a:pt x="629" y="1070"/>
                </a:lnTo>
                <a:lnTo>
                  <a:pt x="598" y="1070"/>
                </a:lnTo>
                <a:lnTo>
                  <a:pt x="567" y="1070"/>
                </a:lnTo>
                <a:lnTo>
                  <a:pt x="537" y="1068"/>
                </a:lnTo>
                <a:lnTo>
                  <a:pt x="507" y="1066"/>
                </a:lnTo>
                <a:lnTo>
                  <a:pt x="477" y="1063"/>
                </a:lnTo>
                <a:lnTo>
                  <a:pt x="450" y="1059"/>
                </a:lnTo>
                <a:lnTo>
                  <a:pt x="421" y="1054"/>
                </a:lnTo>
                <a:lnTo>
                  <a:pt x="394" y="1049"/>
                </a:lnTo>
                <a:lnTo>
                  <a:pt x="367" y="1042"/>
                </a:lnTo>
                <a:lnTo>
                  <a:pt x="341" y="1035"/>
                </a:lnTo>
                <a:lnTo>
                  <a:pt x="315" y="1026"/>
                </a:lnTo>
                <a:lnTo>
                  <a:pt x="290" y="1017"/>
                </a:lnTo>
                <a:lnTo>
                  <a:pt x="266" y="1007"/>
                </a:lnTo>
                <a:lnTo>
                  <a:pt x="241" y="996"/>
                </a:lnTo>
                <a:lnTo>
                  <a:pt x="219" y="984"/>
                </a:lnTo>
                <a:lnTo>
                  <a:pt x="195" y="972"/>
                </a:lnTo>
                <a:lnTo>
                  <a:pt x="174" y="958"/>
                </a:lnTo>
                <a:lnTo>
                  <a:pt x="153" y="944"/>
                </a:lnTo>
                <a:lnTo>
                  <a:pt x="133" y="929"/>
                </a:lnTo>
                <a:lnTo>
                  <a:pt x="115" y="914"/>
                </a:lnTo>
                <a:lnTo>
                  <a:pt x="98" y="899"/>
                </a:lnTo>
                <a:lnTo>
                  <a:pt x="82" y="883"/>
                </a:lnTo>
                <a:lnTo>
                  <a:pt x="68" y="867"/>
                </a:lnTo>
                <a:lnTo>
                  <a:pt x="56" y="851"/>
                </a:lnTo>
                <a:lnTo>
                  <a:pt x="44" y="834"/>
                </a:lnTo>
                <a:lnTo>
                  <a:pt x="33" y="817"/>
                </a:lnTo>
                <a:lnTo>
                  <a:pt x="25" y="800"/>
                </a:lnTo>
                <a:lnTo>
                  <a:pt x="17" y="783"/>
                </a:lnTo>
                <a:lnTo>
                  <a:pt x="11" y="765"/>
                </a:lnTo>
                <a:lnTo>
                  <a:pt x="6" y="746"/>
                </a:lnTo>
                <a:lnTo>
                  <a:pt x="3" y="727"/>
                </a:lnTo>
                <a:lnTo>
                  <a:pt x="1" y="708"/>
                </a:lnTo>
                <a:lnTo>
                  <a:pt x="0" y="689"/>
                </a:lnTo>
                <a:close/>
                <a:moveTo>
                  <a:pt x="317" y="229"/>
                </a:moveTo>
                <a:lnTo>
                  <a:pt x="527" y="0"/>
                </a:lnTo>
                <a:lnTo>
                  <a:pt x="687" y="0"/>
                </a:lnTo>
                <a:lnTo>
                  <a:pt x="896" y="229"/>
                </a:lnTo>
                <a:lnTo>
                  <a:pt x="800" y="229"/>
                </a:lnTo>
                <a:lnTo>
                  <a:pt x="606" y="56"/>
                </a:lnTo>
                <a:lnTo>
                  <a:pt x="414" y="229"/>
                </a:lnTo>
                <a:lnTo>
                  <a:pt x="317" y="229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81080" y="1117440"/>
            <a:ext cx="138240" cy="106560"/>
          </a:xfrm>
          <a:custGeom>
            <a:avLst/>
            <a:gdLst/>
            <a:ahLst/>
            <a:rect l="l" t="t" r="r" b="b"/>
            <a:pathLst>
              <a:path w="964" h="739">
                <a:moveTo>
                  <a:pt x="0" y="15"/>
                </a:moveTo>
                <a:lnTo>
                  <a:pt x="144" y="15"/>
                </a:lnTo>
                <a:lnTo>
                  <a:pt x="144" y="97"/>
                </a:lnTo>
                <a:lnTo>
                  <a:pt x="161" y="86"/>
                </a:lnTo>
                <a:lnTo>
                  <a:pt x="179" y="74"/>
                </a:lnTo>
                <a:lnTo>
                  <a:pt x="199" y="64"/>
                </a:lnTo>
                <a:lnTo>
                  <a:pt x="218" y="55"/>
                </a:lnTo>
                <a:lnTo>
                  <a:pt x="238" y="46"/>
                </a:lnTo>
                <a:lnTo>
                  <a:pt x="258" y="37"/>
                </a:lnTo>
                <a:lnTo>
                  <a:pt x="280" y="31"/>
                </a:lnTo>
                <a:lnTo>
                  <a:pt x="302" y="25"/>
                </a:lnTo>
                <a:lnTo>
                  <a:pt x="325" y="19"/>
                </a:lnTo>
                <a:lnTo>
                  <a:pt x="348" y="14"/>
                </a:lnTo>
                <a:lnTo>
                  <a:pt x="373" y="10"/>
                </a:lnTo>
                <a:lnTo>
                  <a:pt x="398" y="7"/>
                </a:lnTo>
                <a:lnTo>
                  <a:pt x="424" y="4"/>
                </a:lnTo>
                <a:lnTo>
                  <a:pt x="451" y="2"/>
                </a:lnTo>
                <a:lnTo>
                  <a:pt x="478" y="1"/>
                </a:lnTo>
                <a:lnTo>
                  <a:pt x="507" y="0"/>
                </a:lnTo>
                <a:lnTo>
                  <a:pt x="538" y="1"/>
                </a:lnTo>
                <a:lnTo>
                  <a:pt x="569" y="2"/>
                </a:lnTo>
                <a:lnTo>
                  <a:pt x="598" y="4"/>
                </a:lnTo>
                <a:lnTo>
                  <a:pt x="627" y="8"/>
                </a:lnTo>
                <a:lnTo>
                  <a:pt x="655" y="12"/>
                </a:lnTo>
                <a:lnTo>
                  <a:pt x="682" y="17"/>
                </a:lnTo>
                <a:lnTo>
                  <a:pt x="708" y="24"/>
                </a:lnTo>
                <a:lnTo>
                  <a:pt x="734" y="30"/>
                </a:lnTo>
                <a:lnTo>
                  <a:pt x="757" y="39"/>
                </a:lnTo>
                <a:lnTo>
                  <a:pt x="781" y="47"/>
                </a:lnTo>
                <a:lnTo>
                  <a:pt x="802" y="56"/>
                </a:lnTo>
                <a:lnTo>
                  <a:pt x="822" y="66"/>
                </a:lnTo>
                <a:lnTo>
                  <a:pt x="841" y="77"/>
                </a:lnTo>
                <a:lnTo>
                  <a:pt x="858" y="89"/>
                </a:lnTo>
                <a:lnTo>
                  <a:pt x="876" y="102"/>
                </a:lnTo>
                <a:lnTo>
                  <a:pt x="890" y="115"/>
                </a:lnTo>
                <a:lnTo>
                  <a:pt x="900" y="125"/>
                </a:lnTo>
                <a:lnTo>
                  <a:pt x="909" y="136"/>
                </a:lnTo>
                <a:lnTo>
                  <a:pt x="917" y="146"/>
                </a:lnTo>
                <a:lnTo>
                  <a:pt x="925" y="157"/>
                </a:lnTo>
                <a:lnTo>
                  <a:pt x="931" y="169"/>
                </a:lnTo>
                <a:lnTo>
                  <a:pt x="937" y="181"/>
                </a:lnTo>
                <a:lnTo>
                  <a:pt x="943" y="193"/>
                </a:lnTo>
                <a:lnTo>
                  <a:pt x="947" y="206"/>
                </a:lnTo>
                <a:lnTo>
                  <a:pt x="951" y="220"/>
                </a:lnTo>
                <a:lnTo>
                  <a:pt x="955" y="236"/>
                </a:lnTo>
                <a:lnTo>
                  <a:pt x="958" y="252"/>
                </a:lnTo>
                <a:lnTo>
                  <a:pt x="960" y="271"/>
                </a:lnTo>
                <a:lnTo>
                  <a:pt x="962" y="292"/>
                </a:lnTo>
                <a:lnTo>
                  <a:pt x="963" y="313"/>
                </a:lnTo>
                <a:lnTo>
                  <a:pt x="964" y="336"/>
                </a:lnTo>
                <a:lnTo>
                  <a:pt x="964" y="361"/>
                </a:lnTo>
                <a:lnTo>
                  <a:pt x="964" y="739"/>
                </a:lnTo>
                <a:lnTo>
                  <a:pt x="819" y="739"/>
                </a:lnTo>
                <a:lnTo>
                  <a:pt x="819" y="333"/>
                </a:lnTo>
                <a:lnTo>
                  <a:pt x="819" y="318"/>
                </a:lnTo>
                <a:lnTo>
                  <a:pt x="818" y="302"/>
                </a:lnTo>
                <a:lnTo>
                  <a:pt x="816" y="288"/>
                </a:lnTo>
                <a:lnTo>
                  <a:pt x="814" y="273"/>
                </a:lnTo>
                <a:lnTo>
                  <a:pt x="811" y="261"/>
                </a:lnTo>
                <a:lnTo>
                  <a:pt x="808" y="248"/>
                </a:lnTo>
                <a:lnTo>
                  <a:pt x="804" y="235"/>
                </a:lnTo>
                <a:lnTo>
                  <a:pt x="800" y="223"/>
                </a:lnTo>
                <a:lnTo>
                  <a:pt x="794" y="211"/>
                </a:lnTo>
                <a:lnTo>
                  <a:pt x="788" y="201"/>
                </a:lnTo>
                <a:lnTo>
                  <a:pt x="782" y="190"/>
                </a:lnTo>
                <a:lnTo>
                  <a:pt x="775" y="181"/>
                </a:lnTo>
                <a:lnTo>
                  <a:pt x="768" y="172"/>
                </a:lnTo>
                <a:lnTo>
                  <a:pt x="759" y="163"/>
                </a:lnTo>
                <a:lnTo>
                  <a:pt x="751" y="155"/>
                </a:lnTo>
                <a:lnTo>
                  <a:pt x="741" y="147"/>
                </a:lnTo>
                <a:lnTo>
                  <a:pt x="730" y="140"/>
                </a:lnTo>
                <a:lnTo>
                  <a:pt x="720" y="134"/>
                </a:lnTo>
                <a:lnTo>
                  <a:pt x="708" y="128"/>
                </a:lnTo>
                <a:lnTo>
                  <a:pt x="696" y="122"/>
                </a:lnTo>
                <a:lnTo>
                  <a:pt x="682" y="116"/>
                </a:lnTo>
                <a:lnTo>
                  <a:pt x="668" y="112"/>
                </a:lnTo>
                <a:lnTo>
                  <a:pt x="655" y="108"/>
                </a:lnTo>
                <a:lnTo>
                  <a:pt x="639" y="104"/>
                </a:lnTo>
                <a:lnTo>
                  <a:pt x="622" y="100"/>
                </a:lnTo>
                <a:lnTo>
                  <a:pt x="606" y="97"/>
                </a:lnTo>
                <a:lnTo>
                  <a:pt x="588" y="95"/>
                </a:lnTo>
                <a:lnTo>
                  <a:pt x="570" y="93"/>
                </a:lnTo>
                <a:lnTo>
                  <a:pt x="532" y="91"/>
                </a:lnTo>
                <a:lnTo>
                  <a:pt x="490" y="90"/>
                </a:lnTo>
                <a:lnTo>
                  <a:pt x="466" y="90"/>
                </a:lnTo>
                <a:lnTo>
                  <a:pt x="441" y="91"/>
                </a:lnTo>
                <a:lnTo>
                  <a:pt x="419" y="93"/>
                </a:lnTo>
                <a:lnTo>
                  <a:pt x="396" y="96"/>
                </a:lnTo>
                <a:lnTo>
                  <a:pt x="374" y="99"/>
                </a:lnTo>
                <a:lnTo>
                  <a:pt x="353" y="104"/>
                </a:lnTo>
                <a:lnTo>
                  <a:pt x="333" y="109"/>
                </a:lnTo>
                <a:lnTo>
                  <a:pt x="314" y="115"/>
                </a:lnTo>
                <a:lnTo>
                  <a:pt x="295" y="122"/>
                </a:lnTo>
                <a:lnTo>
                  <a:pt x="278" y="129"/>
                </a:lnTo>
                <a:lnTo>
                  <a:pt x="261" y="137"/>
                </a:lnTo>
                <a:lnTo>
                  <a:pt x="246" y="145"/>
                </a:lnTo>
                <a:lnTo>
                  <a:pt x="231" y="155"/>
                </a:lnTo>
                <a:lnTo>
                  <a:pt x="218" y="166"/>
                </a:lnTo>
                <a:lnTo>
                  <a:pt x="205" y="176"/>
                </a:lnTo>
                <a:lnTo>
                  <a:pt x="193" y="187"/>
                </a:lnTo>
                <a:lnTo>
                  <a:pt x="187" y="195"/>
                </a:lnTo>
                <a:lnTo>
                  <a:pt x="180" y="203"/>
                </a:lnTo>
                <a:lnTo>
                  <a:pt x="175" y="210"/>
                </a:lnTo>
                <a:lnTo>
                  <a:pt x="170" y="219"/>
                </a:lnTo>
                <a:lnTo>
                  <a:pt x="166" y="227"/>
                </a:lnTo>
                <a:lnTo>
                  <a:pt x="161" y="237"/>
                </a:lnTo>
                <a:lnTo>
                  <a:pt x="158" y="246"/>
                </a:lnTo>
                <a:lnTo>
                  <a:pt x="155" y="255"/>
                </a:lnTo>
                <a:lnTo>
                  <a:pt x="153" y="265"/>
                </a:lnTo>
                <a:lnTo>
                  <a:pt x="151" y="278"/>
                </a:lnTo>
                <a:lnTo>
                  <a:pt x="148" y="292"/>
                </a:lnTo>
                <a:lnTo>
                  <a:pt x="146" y="306"/>
                </a:lnTo>
                <a:lnTo>
                  <a:pt x="145" y="325"/>
                </a:lnTo>
                <a:lnTo>
                  <a:pt x="145" y="344"/>
                </a:lnTo>
                <a:lnTo>
                  <a:pt x="144" y="364"/>
                </a:lnTo>
                <a:lnTo>
                  <a:pt x="144" y="386"/>
                </a:lnTo>
                <a:lnTo>
                  <a:pt x="144" y="739"/>
                </a:lnTo>
                <a:lnTo>
                  <a:pt x="0" y="739"/>
                </a:lnTo>
                <a:lnTo>
                  <a:pt x="0" y="15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71880" y="1117440"/>
            <a:ext cx="171360" cy="109800"/>
          </a:xfrm>
          <a:custGeom>
            <a:avLst/>
            <a:gdLst/>
            <a:ahLst/>
            <a:rect l="l" t="t" r="r" b="b"/>
            <a:pathLst>
              <a:path w="1194" h="764">
                <a:moveTo>
                  <a:pt x="1194" y="412"/>
                </a:moveTo>
                <a:lnTo>
                  <a:pt x="153" y="412"/>
                </a:lnTo>
                <a:lnTo>
                  <a:pt x="154" y="426"/>
                </a:lnTo>
                <a:lnTo>
                  <a:pt x="158" y="441"/>
                </a:lnTo>
                <a:lnTo>
                  <a:pt x="162" y="454"/>
                </a:lnTo>
                <a:lnTo>
                  <a:pt x="166" y="467"/>
                </a:lnTo>
                <a:lnTo>
                  <a:pt x="171" y="481"/>
                </a:lnTo>
                <a:lnTo>
                  <a:pt x="178" y="494"/>
                </a:lnTo>
                <a:lnTo>
                  <a:pt x="185" y="506"/>
                </a:lnTo>
                <a:lnTo>
                  <a:pt x="194" y="519"/>
                </a:lnTo>
                <a:lnTo>
                  <a:pt x="202" y="530"/>
                </a:lnTo>
                <a:lnTo>
                  <a:pt x="212" y="541"/>
                </a:lnTo>
                <a:lnTo>
                  <a:pt x="223" y="553"/>
                </a:lnTo>
                <a:lnTo>
                  <a:pt x="234" y="563"/>
                </a:lnTo>
                <a:lnTo>
                  <a:pt x="247" y="573"/>
                </a:lnTo>
                <a:lnTo>
                  <a:pt x="260" y="584"/>
                </a:lnTo>
                <a:lnTo>
                  <a:pt x="274" y="593"/>
                </a:lnTo>
                <a:lnTo>
                  <a:pt x="289" y="603"/>
                </a:lnTo>
                <a:lnTo>
                  <a:pt x="305" y="611"/>
                </a:lnTo>
                <a:lnTo>
                  <a:pt x="321" y="620"/>
                </a:lnTo>
                <a:lnTo>
                  <a:pt x="337" y="627"/>
                </a:lnTo>
                <a:lnTo>
                  <a:pt x="354" y="634"/>
                </a:lnTo>
                <a:lnTo>
                  <a:pt x="372" y="641"/>
                </a:lnTo>
                <a:lnTo>
                  <a:pt x="389" y="647"/>
                </a:lnTo>
                <a:lnTo>
                  <a:pt x="408" y="652"/>
                </a:lnTo>
                <a:lnTo>
                  <a:pt x="427" y="657"/>
                </a:lnTo>
                <a:lnTo>
                  <a:pt x="446" y="662"/>
                </a:lnTo>
                <a:lnTo>
                  <a:pt x="466" y="665"/>
                </a:lnTo>
                <a:lnTo>
                  <a:pt x="486" y="668"/>
                </a:lnTo>
                <a:lnTo>
                  <a:pt x="508" y="670"/>
                </a:lnTo>
                <a:lnTo>
                  <a:pt x="529" y="672"/>
                </a:lnTo>
                <a:lnTo>
                  <a:pt x="550" y="674"/>
                </a:lnTo>
                <a:lnTo>
                  <a:pt x="573" y="674"/>
                </a:lnTo>
                <a:lnTo>
                  <a:pt x="595" y="675"/>
                </a:lnTo>
                <a:lnTo>
                  <a:pt x="627" y="674"/>
                </a:lnTo>
                <a:lnTo>
                  <a:pt x="658" y="672"/>
                </a:lnTo>
                <a:lnTo>
                  <a:pt x="689" y="669"/>
                </a:lnTo>
                <a:lnTo>
                  <a:pt x="719" y="665"/>
                </a:lnTo>
                <a:lnTo>
                  <a:pt x="748" y="658"/>
                </a:lnTo>
                <a:lnTo>
                  <a:pt x="776" y="651"/>
                </a:lnTo>
                <a:lnTo>
                  <a:pt x="802" y="642"/>
                </a:lnTo>
                <a:lnTo>
                  <a:pt x="829" y="633"/>
                </a:lnTo>
                <a:lnTo>
                  <a:pt x="855" y="622"/>
                </a:lnTo>
                <a:lnTo>
                  <a:pt x="878" y="609"/>
                </a:lnTo>
                <a:lnTo>
                  <a:pt x="901" y="596"/>
                </a:lnTo>
                <a:lnTo>
                  <a:pt x="921" y="583"/>
                </a:lnTo>
                <a:lnTo>
                  <a:pt x="940" y="568"/>
                </a:lnTo>
                <a:lnTo>
                  <a:pt x="958" y="551"/>
                </a:lnTo>
                <a:lnTo>
                  <a:pt x="974" y="533"/>
                </a:lnTo>
                <a:lnTo>
                  <a:pt x="989" y="515"/>
                </a:lnTo>
                <a:lnTo>
                  <a:pt x="1158" y="515"/>
                </a:lnTo>
                <a:lnTo>
                  <a:pt x="1147" y="530"/>
                </a:lnTo>
                <a:lnTo>
                  <a:pt x="1137" y="544"/>
                </a:lnTo>
                <a:lnTo>
                  <a:pt x="1126" y="558"/>
                </a:lnTo>
                <a:lnTo>
                  <a:pt x="1114" y="572"/>
                </a:lnTo>
                <a:lnTo>
                  <a:pt x="1101" y="585"/>
                </a:lnTo>
                <a:lnTo>
                  <a:pt x="1089" y="597"/>
                </a:lnTo>
                <a:lnTo>
                  <a:pt x="1076" y="609"/>
                </a:lnTo>
                <a:lnTo>
                  <a:pt x="1062" y="621"/>
                </a:lnTo>
                <a:lnTo>
                  <a:pt x="1048" y="633"/>
                </a:lnTo>
                <a:lnTo>
                  <a:pt x="1033" y="643"/>
                </a:lnTo>
                <a:lnTo>
                  <a:pt x="1017" y="654"/>
                </a:lnTo>
                <a:lnTo>
                  <a:pt x="1002" y="664"/>
                </a:lnTo>
                <a:lnTo>
                  <a:pt x="985" y="673"/>
                </a:lnTo>
                <a:lnTo>
                  <a:pt x="969" y="683"/>
                </a:lnTo>
                <a:lnTo>
                  <a:pt x="952" y="691"/>
                </a:lnTo>
                <a:lnTo>
                  <a:pt x="934" y="700"/>
                </a:lnTo>
                <a:lnTo>
                  <a:pt x="916" y="707"/>
                </a:lnTo>
                <a:lnTo>
                  <a:pt x="896" y="715"/>
                </a:lnTo>
                <a:lnTo>
                  <a:pt x="878" y="721"/>
                </a:lnTo>
                <a:lnTo>
                  <a:pt x="859" y="728"/>
                </a:lnTo>
                <a:lnTo>
                  <a:pt x="839" y="733"/>
                </a:lnTo>
                <a:lnTo>
                  <a:pt x="820" y="738"/>
                </a:lnTo>
                <a:lnTo>
                  <a:pt x="798" y="744"/>
                </a:lnTo>
                <a:lnTo>
                  <a:pt x="778" y="748"/>
                </a:lnTo>
                <a:lnTo>
                  <a:pt x="757" y="751"/>
                </a:lnTo>
                <a:lnTo>
                  <a:pt x="735" y="755"/>
                </a:lnTo>
                <a:lnTo>
                  <a:pt x="714" y="758"/>
                </a:lnTo>
                <a:lnTo>
                  <a:pt x="691" y="760"/>
                </a:lnTo>
                <a:lnTo>
                  <a:pt x="647" y="763"/>
                </a:lnTo>
                <a:lnTo>
                  <a:pt x="600" y="764"/>
                </a:lnTo>
                <a:lnTo>
                  <a:pt x="569" y="764"/>
                </a:lnTo>
                <a:lnTo>
                  <a:pt x="538" y="762"/>
                </a:lnTo>
                <a:lnTo>
                  <a:pt x="508" y="760"/>
                </a:lnTo>
                <a:lnTo>
                  <a:pt x="479" y="757"/>
                </a:lnTo>
                <a:lnTo>
                  <a:pt x="450" y="753"/>
                </a:lnTo>
                <a:lnTo>
                  <a:pt x="421" y="748"/>
                </a:lnTo>
                <a:lnTo>
                  <a:pt x="395" y="743"/>
                </a:lnTo>
                <a:lnTo>
                  <a:pt x="367" y="736"/>
                </a:lnTo>
                <a:lnTo>
                  <a:pt x="341" y="729"/>
                </a:lnTo>
                <a:lnTo>
                  <a:pt x="316" y="720"/>
                </a:lnTo>
                <a:lnTo>
                  <a:pt x="290" y="711"/>
                </a:lnTo>
                <a:lnTo>
                  <a:pt x="265" y="701"/>
                </a:lnTo>
                <a:lnTo>
                  <a:pt x="242" y="689"/>
                </a:lnTo>
                <a:lnTo>
                  <a:pt x="218" y="678"/>
                </a:lnTo>
                <a:lnTo>
                  <a:pt x="196" y="665"/>
                </a:lnTo>
                <a:lnTo>
                  <a:pt x="174" y="652"/>
                </a:lnTo>
                <a:lnTo>
                  <a:pt x="152" y="637"/>
                </a:lnTo>
                <a:lnTo>
                  <a:pt x="133" y="623"/>
                </a:lnTo>
                <a:lnTo>
                  <a:pt x="115" y="608"/>
                </a:lnTo>
                <a:lnTo>
                  <a:pt x="98" y="592"/>
                </a:lnTo>
                <a:lnTo>
                  <a:pt x="82" y="577"/>
                </a:lnTo>
                <a:lnTo>
                  <a:pt x="68" y="561"/>
                </a:lnTo>
                <a:lnTo>
                  <a:pt x="54" y="544"/>
                </a:lnTo>
                <a:lnTo>
                  <a:pt x="43" y="528"/>
                </a:lnTo>
                <a:lnTo>
                  <a:pt x="33" y="511"/>
                </a:lnTo>
                <a:lnTo>
                  <a:pt x="24" y="493"/>
                </a:lnTo>
                <a:lnTo>
                  <a:pt x="17" y="476"/>
                </a:lnTo>
                <a:lnTo>
                  <a:pt x="10" y="458"/>
                </a:lnTo>
                <a:lnTo>
                  <a:pt x="6" y="438"/>
                </a:lnTo>
                <a:lnTo>
                  <a:pt x="2" y="420"/>
                </a:lnTo>
                <a:lnTo>
                  <a:pt x="1" y="401"/>
                </a:lnTo>
                <a:lnTo>
                  <a:pt x="0" y="381"/>
                </a:lnTo>
                <a:lnTo>
                  <a:pt x="1" y="361"/>
                </a:lnTo>
                <a:lnTo>
                  <a:pt x="2" y="341"/>
                </a:lnTo>
                <a:lnTo>
                  <a:pt x="6" y="321"/>
                </a:lnTo>
                <a:lnTo>
                  <a:pt x="10" y="302"/>
                </a:lnTo>
                <a:lnTo>
                  <a:pt x="17" y="284"/>
                </a:lnTo>
                <a:lnTo>
                  <a:pt x="23" y="266"/>
                </a:lnTo>
                <a:lnTo>
                  <a:pt x="32" y="247"/>
                </a:lnTo>
                <a:lnTo>
                  <a:pt x="42" y="230"/>
                </a:lnTo>
                <a:lnTo>
                  <a:pt x="53" y="213"/>
                </a:lnTo>
                <a:lnTo>
                  <a:pt x="66" y="197"/>
                </a:lnTo>
                <a:lnTo>
                  <a:pt x="80" y="181"/>
                </a:lnTo>
                <a:lnTo>
                  <a:pt x="96" y="165"/>
                </a:lnTo>
                <a:lnTo>
                  <a:pt x="112" y="150"/>
                </a:lnTo>
                <a:lnTo>
                  <a:pt x="130" y="136"/>
                </a:lnTo>
                <a:lnTo>
                  <a:pt x="149" y="121"/>
                </a:lnTo>
                <a:lnTo>
                  <a:pt x="170" y="109"/>
                </a:lnTo>
                <a:lnTo>
                  <a:pt x="192" y="95"/>
                </a:lnTo>
                <a:lnTo>
                  <a:pt x="214" y="83"/>
                </a:lnTo>
                <a:lnTo>
                  <a:pt x="237" y="71"/>
                </a:lnTo>
                <a:lnTo>
                  <a:pt x="261" y="61"/>
                </a:lnTo>
                <a:lnTo>
                  <a:pt x="286" y="51"/>
                </a:lnTo>
                <a:lnTo>
                  <a:pt x="311" y="42"/>
                </a:lnTo>
                <a:lnTo>
                  <a:pt x="337" y="34"/>
                </a:lnTo>
                <a:lnTo>
                  <a:pt x="364" y="28"/>
                </a:lnTo>
                <a:lnTo>
                  <a:pt x="391" y="21"/>
                </a:lnTo>
                <a:lnTo>
                  <a:pt x="420" y="16"/>
                </a:lnTo>
                <a:lnTo>
                  <a:pt x="449" y="10"/>
                </a:lnTo>
                <a:lnTo>
                  <a:pt x="479" y="7"/>
                </a:lnTo>
                <a:lnTo>
                  <a:pt x="510" y="4"/>
                </a:lnTo>
                <a:lnTo>
                  <a:pt x="541" y="2"/>
                </a:lnTo>
                <a:lnTo>
                  <a:pt x="573" y="1"/>
                </a:lnTo>
                <a:lnTo>
                  <a:pt x="606" y="0"/>
                </a:lnTo>
                <a:lnTo>
                  <a:pt x="638" y="1"/>
                </a:lnTo>
                <a:lnTo>
                  <a:pt x="669" y="2"/>
                </a:lnTo>
                <a:lnTo>
                  <a:pt x="700" y="4"/>
                </a:lnTo>
                <a:lnTo>
                  <a:pt x="730" y="7"/>
                </a:lnTo>
                <a:lnTo>
                  <a:pt x="759" y="12"/>
                </a:lnTo>
                <a:lnTo>
                  <a:pt x="788" y="16"/>
                </a:lnTo>
                <a:lnTo>
                  <a:pt x="815" y="22"/>
                </a:lnTo>
                <a:lnTo>
                  <a:pt x="842" y="29"/>
                </a:lnTo>
                <a:lnTo>
                  <a:pt x="869" y="36"/>
                </a:lnTo>
                <a:lnTo>
                  <a:pt x="893" y="45"/>
                </a:lnTo>
                <a:lnTo>
                  <a:pt x="918" y="53"/>
                </a:lnTo>
                <a:lnTo>
                  <a:pt x="942" y="64"/>
                </a:lnTo>
                <a:lnTo>
                  <a:pt x="966" y="75"/>
                </a:lnTo>
                <a:lnTo>
                  <a:pt x="987" y="86"/>
                </a:lnTo>
                <a:lnTo>
                  <a:pt x="1010" y="99"/>
                </a:lnTo>
                <a:lnTo>
                  <a:pt x="1030" y="113"/>
                </a:lnTo>
                <a:lnTo>
                  <a:pt x="1050" y="127"/>
                </a:lnTo>
                <a:lnTo>
                  <a:pt x="1068" y="142"/>
                </a:lnTo>
                <a:lnTo>
                  <a:pt x="1086" y="157"/>
                </a:lnTo>
                <a:lnTo>
                  <a:pt x="1102" y="173"/>
                </a:lnTo>
                <a:lnTo>
                  <a:pt x="1116" y="190"/>
                </a:lnTo>
                <a:lnTo>
                  <a:pt x="1130" y="207"/>
                </a:lnTo>
                <a:lnTo>
                  <a:pt x="1142" y="224"/>
                </a:lnTo>
                <a:lnTo>
                  <a:pt x="1154" y="242"/>
                </a:lnTo>
                <a:lnTo>
                  <a:pt x="1163" y="260"/>
                </a:lnTo>
                <a:lnTo>
                  <a:pt x="1172" y="279"/>
                </a:lnTo>
                <a:lnTo>
                  <a:pt x="1178" y="299"/>
                </a:lnTo>
                <a:lnTo>
                  <a:pt x="1185" y="319"/>
                </a:lnTo>
                <a:lnTo>
                  <a:pt x="1189" y="340"/>
                </a:lnTo>
                <a:lnTo>
                  <a:pt x="1192" y="361"/>
                </a:lnTo>
                <a:lnTo>
                  <a:pt x="1194" y="383"/>
                </a:lnTo>
                <a:lnTo>
                  <a:pt x="1194" y="404"/>
                </a:lnTo>
                <a:lnTo>
                  <a:pt x="1194" y="412"/>
                </a:lnTo>
                <a:close/>
                <a:moveTo>
                  <a:pt x="1031" y="333"/>
                </a:moveTo>
                <a:lnTo>
                  <a:pt x="1026" y="318"/>
                </a:lnTo>
                <a:lnTo>
                  <a:pt x="1019" y="303"/>
                </a:lnTo>
                <a:lnTo>
                  <a:pt x="1013" y="289"/>
                </a:lnTo>
                <a:lnTo>
                  <a:pt x="1005" y="276"/>
                </a:lnTo>
                <a:lnTo>
                  <a:pt x="998" y="262"/>
                </a:lnTo>
                <a:lnTo>
                  <a:pt x="989" y="250"/>
                </a:lnTo>
                <a:lnTo>
                  <a:pt x="981" y="238"/>
                </a:lnTo>
                <a:lnTo>
                  <a:pt x="971" y="226"/>
                </a:lnTo>
                <a:lnTo>
                  <a:pt x="962" y="215"/>
                </a:lnTo>
                <a:lnTo>
                  <a:pt x="951" y="204"/>
                </a:lnTo>
                <a:lnTo>
                  <a:pt x="940" y="194"/>
                </a:lnTo>
                <a:lnTo>
                  <a:pt x="928" y="184"/>
                </a:lnTo>
                <a:lnTo>
                  <a:pt x="916" y="175"/>
                </a:lnTo>
                <a:lnTo>
                  <a:pt x="904" y="165"/>
                </a:lnTo>
                <a:lnTo>
                  <a:pt x="890" y="158"/>
                </a:lnTo>
                <a:lnTo>
                  <a:pt x="876" y="149"/>
                </a:lnTo>
                <a:lnTo>
                  <a:pt x="862" y="142"/>
                </a:lnTo>
                <a:lnTo>
                  <a:pt x="847" y="135"/>
                </a:lnTo>
                <a:lnTo>
                  <a:pt x="832" y="129"/>
                </a:lnTo>
                <a:lnTo>
                  <a:pt x="816" y="123"/>
                </a:lnTo>
                <a:lnTo>
                  <a:pt x="799" y="117"/>
                </a:lnTo>
                <a:lnTo>
                  <a:pt x="783" y="112"/>
                </a:lnTo>
                <a:lnTo>
                  <a:pt x="765" y="108"/>
                </a:lnTo>
                <a:lnTo>
                  <a:pt x="747" y="103"/>
                </a:lnTo>
                <a:lnTo>
                  <a:pt x="729" y="100"/>
                </a:lnTo>
                <a:lnTo>
                  <a:pt x="710" y="97"/>
                </a:lnTo>
                <a:lnTo>
                  <a:pt x="690" y="94"/>
                </a:lnTo>
                <a:lnTo>
                  <a:pt x="670" y="92"/>
                </a:lnTo>
                <a:lnTo>
                  <a:pt x="628" y="88"/>
                </a:lnTo>
                <a:lnTo>
                  <a:pt x="584" y="87"/>
                </a:lnTo>
                <a:lnTo>
                  <a:pt x="563" y="88"/>
                </a:lnTo>
                <a:lnTo>
                  <a:pt x="543" y="88"/>
                </a:lnTo>
                <a:lnTo>
                  <a:pt x="523" y="91"/>
                </a:lnTo>
                <a:lnTo>
                  <a:pt x="504" y="92"/>
                </a:lnTo>
                <a:lnTo>
                  <a:pt x="484" y="95"/>
                </a:lnTo>
                <a:lnTo>
                  <a:pt x="465" y="97"/>
                </a:lnTo>
                <a:lnTo>
                  <a:pt x="447" y="100"/>
                </a:lnTo>
                <a:lnTo>
                  <a:pt x="429" y="104"/>
                </a:lnTo>
                <a:lnTo>
                  <a:pt x="412" y="109"/>
                </a:lnTo>
                <a:lnTo>
                  <a:pt x="395" y="114"/>
                </a:lnTo>
                <a:lnTo>
                  <a:pt x="378" y="119"/>
                </a:lnTo>
                <a:lnTo>
                  <a:pt x="362" y="125"/>
                </a:lnTo>
                <a:lnTo>
                  <a:pt x="345" y="131"/>
                </a:lnTo>
                <a:lnTo>
                  <a:pt x="329" y="139"/>
                </a:lnTo>
                <a:lnTo>
                  <a:pt x="315" y="146"/>
                </a:lnTo>
                <a:lnTo>
                  <a:pt x="300" y="153"/>
                </a:lnTo>
                <a:lnTo>
                  <a:pt x="286" y="162"/>
                </a:lnTo>
                <a:lnTo>
                  <a:pt x="272" y="172"/>
                </a:lnTo>
                <a:lnTo>
                  <a:pt x="259" y="180"/>
                </a:lnTo>
                <a:lnTo>
                  <a:pt x="247" y="190"/>
                </a:lnTo>
                <a:lnTo>
                  <a:pt x="236" y="200"/>
                </a:lnTo>
                <a:lnTo>
                  <a:pt x="225" y="210"/>
                </a:lnTo>
                <a:lnTo>
                  <a:pt x="215" y="221"/>
                </a:lnTo>
                <a:lnTo>
                  <a:pt x="206" y="231"/>
                </a:lnTo>
                <a:lnTo>
                  <a:pt x="197" y="243"/>
                </a:lnTo>
                <a:lnTo>
                  <a:pt x="190" y="255"/>
                </a:lnTo>
                <a:lnTo>
                  <a:pt x="182" y="267"/>
                </a:lnTo>
                <a:lnTo>
                  <a:pt x="176" y="279"/>
                </a:lnTo>
                <a:lnTo>
                  <a:pt x="170" y="292"/>
                </a:lnTo>
                <a:lnTo>
                  <a:pt x="165" y="305"/>
                </a:lnTo>
                <a:lnTo>
                  <a:pt x="161" y="319"/>
                </a:lnTo>
                <a:lnTo>
                  <a:pt x="158" y="333"/>
                </a:lnTo>
                <a:lnTo>
                  <a:pt x="1031" y="333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90760" y="1165320"/>
            <a:ext cx="71280" cy="12600"/>
          </a:xfrm>
          <a:prstGeom prst="rect">
            <a:avLst/>
          </a:pr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1360" y="1117440"/>
            <a:ext cx="169920" cy="109800"/>
          </a:xfrm>
          <a:custGeom>
            <a:avLst/>
            <a:gdLst/>
            <a:ahLst/>
            <a:rect l="l" t="t" r="r" b="b"/>
            <a:pathLst>
              <a:path w="1178" h="759">
                <a:moveTo>
                  <a:pt x="1034" y="374"/>
                </a:moveTo>
                <a:lnTo>
                  <a:pt x="1033" y="359"/>
                </a:lnTo>
                <a:lnTo>
                  <a:pt x="1032" y="345"/>
                </a:lnTo>
                <a:lnTo>
                  <a:pt x="1028" y="331"/>
                </a:lnTo>
                <a:lnTo>
                  <a:pt x="1025" y="317"/>
                </a:lnTo>
                <a:lnTo>
                  <a:pt x="1021" y="304"/>
                </a:lnTo>
                <a:lnTo>
                  <a:pt x="1015" y="291"/>
                </a:lnTo>
                <a:lnTo>
                  <a:pt x="1008" y="278"/>
                </a:lnTo>
                <a:lnTo>
                  <a:pt x="1001" y="266"/>
                </a:lnTo>
                <a:lnTo>
                  <a:pt x="992" y="253"/>
                </a:lnTo>
                <a:lnTo>
                  <a:pt x="982" y="241"/>
                </a:lnTo>
                <a:lnTo>
                  <a:pt x="972" y="228"/>
                </a:lnTo>
                <a:lnTo>
                  <a:pt x="960" y="217"/>
                </a:lnTo>
                <a:lnTo>
                  <a:pt x="947" y="206"/>
                </a:lnTo>
                <a:lnTo>
                  <a:pt x="933" y="194"/>
                </a:lnTo>
                <a:lnTo>
                  <a:pt x="918" y="184"/>
                </a:lnTo>
                <a:lnTo>
                  <a:pt x="902" y="172"/>
                </a:lnTo>
                <a:lnTo>
                  <a:pt x="885" y="162"/>
                </a:lnTo>
                <a:lnTo>
                  <a:pt x="869" y="152"/>
                </a:lnTo>
                <a:lnTo>
                  <a:pt x="852" y="143"/>
                </a:lnTo>
                <a:lnTo>
                  <a:pt x="834" y="135"/>
                </a:lnTo>
                <a:lnTo>
                  <a:pt x="816" y="127"/>
                </a:lnTo>
                <a:lnTo>
                  <a:pt x="799" y="120"/>
                </a:lnTo>
                <a:lnTo>
                  <a:pt x="780" y="113"/>
                </a:lnTo>
                <a:lnTo>
                  <a:pt x="761" y="108"/>
                </a:lnTo>
                <a:lnTo>
                  <a:pt x="742" y="103"/>
                </a:lnTo>
                <a:lnTo>
                  <a:pt x="723" y="98"/>
                </a:lnTo>
                <a:lnTo>
                  <a:pt x="703" y="95"/>
                </a:lnTo>
                <a:lnTo>
                  <a:pt x="684" y="92"/>
                </a:lnTo>
                <a:lnTo>
                  <a:pt x="663" y="90"/>
                </a:lnTo>
                <a:lnTo>
                  <a:pt x="642" y="88"/>
                </a:lnTo>
                <a:lnTo>
                  <a:pt x="622" y="87"/>
                </a:lnTo>
                <a:lnTo>
                  <a:pt x="600" y="87"/>
                </a:lnTo>
                <a:lnTo>
                  <a:pt x="577" y="87"/>
                </a:lnTo>
                <a:lnTo>
                  <a:pt x="554" y="88"/>
                </a:lnTo>
                <a:lnTo>
                  <a:pt x="532" y="90"/>
                </a:lnTo>
                <a:lnTo>
                  <a:pt x="511" y="92"/>
                </a:lnTo>
                <a:lnTo>
                  <a:pt x="489" y="95"/>
                </a:lnTo>
                <a:lnTo>
                  <a:pt x="469" y="98"/>
                </a:lnTo>
                <a:lnTo>
                  <a:pt x="449" y="103"/>
                </a:lnTo>
                <a:lnTo>
                  <a:pt x="428" y="108"/>
                </a:lnTo>
                <a:lnTo>
                  <a:pt x="409" y="113"/>
                </a:lnTo>
                <a:lnTo>
                  <a:pt x="390" y="120"/>
                </a:lnTo>
                <a:lnTo>
                  <a:pt x="371" y="127"/>
                </a:lnTo>
                <a:lnTo>
                  <a:pt x="353" y="135"/>
                </a:lnTo>
                <a:lnTo>
                  <a:pt x="334" y="143"/>
                </a:lnTo>
                <a:lnTo>
                  <a:pt x="317" y="152"/>
                </a:lnTo>
                <a:lnTo>
                  <a:pt x="300" y="162"/>
                </a:lnTo>
                <a:lnTo>
                  <a:pt x="284" y="172"/>
                </a:lnTo>
                <a:lnTo>
                  <a:pt x="268" y="184"/>
                </a:lnTo>
                <a:lnTo>
                  <a:pt x="253" y="194"/>
                </a:lnTo>
                <a:lnTo>
                  <a:pt x="239" y="206"/>
                </a:lnTo>
                <a:lnTo>
                  <a:pt x="227" y="218"/>
                </a:lnTo>
                <a:lnTo>
                  <a:pt x="215" y="230"/>
                </a:lnTo>
                <a:lnTo>
                  <a:pt x="204" y="242"/>
                </a:lnTo>
                <a:lnTo>
                  <a:pt x="195" y="255"/>
                </a:lnTo>
                <a:lnTo>
                  <a:pt x="186" y="268"/>
                </a:lnTo>
                <a:lnTo>
                  <a:pt x="179" y="282"/>
                </a:lnTo>
                <a:lnTo>
                  <a:pt x="172" y="296"/>
                </a:lnTo>
                <a:lnTo>
                  <a:pt x="166" y="310"/>
                </a:lnTo>
                <a:lnTo>
                  <a:pt x="161" y="325"/>
                </a:lnTo>
                <a:lnTo>
                  <a:pt x="158" y="339"/>
                </a:lnTo>
                <a:lnTo>
                  <a:pt x="155" y="354"/>
                </a:lnTo>
                <a:lnTo>
                  <a:pt x="154" y="369"/>
                </a:lnTo>
                <a:lnTo>
                  <a:pt x="153" y="385"/>
                </a:lnTo>
                <a:lnTo>
                  <a:pt x="154" y="400"/>
                </a:lnTo>
                <a:lnTo>
                  <a:pt x="155" y="415"/>
                </a:lnTo>
                <a:lnTo>
                  <a:pt x="158" y="429"/>
                </a:lnTo>
                <a:lnTo>
                  <a:pt x="161" y="443"/>
                </a:lnTo>
                <a:lnTo>
                  <a:pt x="166" y="457"/>
                </a:lnTo>
                <a:lnTo>
                  <a:pt x="171" y="471"/>
                </a:lnTo>
                <a:lnTo>
                  <a:pt x="179" y="484"/>
                </a:lnTo>
                <a:lnTo>
                  <a:pt x="186" y="496"/>
                </a:lnTo>
                <a:lnTo>
                  <a:pt x="195" y="509"/>
                </a:lnTo>
                <a:lnTo>
                  <a:pt x="204" y="522"/>
                </a:lnTo>
                <a:lnTo>
                  <a:pt x="215" y="534"/>
                </a:lnTo>
                <a:lnTo>
                  <a:pt x="227" y="545"/>
                </a:lnTo>
                <a:lnTo>
                  <a:pt x="239" y="556"/>
                </a:lnTo>
                <a:lnTo>
                  <a:pt x="253" y="568"/>
                </a:lnTo>
                <a:lnTo>
                  <a:pt x="267" y="579"/>
                </a:lnTo>
                <a:lnTo>
                  <a:pt x="283" y="589"/>
                </a:lnTo>
                <a:lnTo>
                  <a:pt x="299" y="599"/>
                </a:lnTo>
                <a:lnTo>
                  <a:pt x="316" y="608"/>
                </a:lnTo>
                <a:lnTo>
                  <a:pt x="333" y="617"/>
                </a:lnTo>
                <a:lnTo>
                  <a:pt x="351" y="625"/>
                </a:lnTo>
                <a:lnTo>
                  <a:pt x="370" y="633"/>
                </a:lnTo>
                <a:lnTo>
                  <a:pt x="388" y="639"/>
                </a:lnTo>
                <a:lnTo>
                  <a:pt x="407" y="646"/>
                </a:lnTo>
                <a:lnTo>
                  <a:pt x="426" y="651"/>
                </a:lnTo>
                <a:lnTo>
                  <a:pt x="447" y="656"/>
                </a:lnTo>
                <a:lnTo>
                  <a:pt x="466" y="661"/>
                </a:lnTo>
                <a:lnTo>
                  <a:pt x="487" y="664"/>
                </a:lnTo>
                <a:lnTo>
                  <a:pt x="507" y="667"/>
                </a:lnTo>
                <a:lnTo>
                  <a:pt x="529" y="669"/>
                </a:lnTo>
                <a:lnTo>
                  <a:pt x="551" y="671"/>
                </a:lnTo>
                <a:lnTo>
                  <a:pt x="574" y="672"/>
                </a:lnTo>
                <a:lnTo>
                  <a:pt x="596" y="672"/>
                </a:lnTo>
                <a:lnTo>
                  <a:pt x="617" y="672"/>
                </a:lnTo>
                <a:lnTo>
                  <a:pt x="639" y="671"/>
                </a:lnTo>
                <a:lnTo>
                  <a:pt x="660" y="669"/>
                </a:lnTo>
                <a:lnTo>
                  <a:pt x="681" y="667"/>
                </a:lnTo>
                <a:lnTo>
                  <a:pt x="702" y="664"/>
                </a:lnTo>
                <a:lnTo>
                  <a:pt x="722" y="660"/>
                </a:lnTo>
                <a:lnTo>
                  <a:pt x="741" y="655"/>
                </a:lnTo>
                <a:lnTo>
                  <a:pt x="760" y="650"/>
                </a:lnTo>
                <a:lnTo>
                  <a:pt x="780" y="645"/>
                </a:lnTo>
                <a:lnTo>
                  <a:pt x="799" y="638"/>
                </a:lnTo>
                <a:lnTo>
                  <a:pt x="817" y="631"/>
                </a:lnTo>
                <a:lnTo>
                  <a:pt x="834" y="623"/>
                </a:lnTo>
                <a:lnTo>
                  <a:pt x="852" y="615"/>
                </a:lnTo>
                <a:lnTo>
                  <a:pt x="869" y="605"/>
                </a:lnTo>
                <a:lnTo>
                  <a:pt x="886" y="596"/>
                </a:lnTo>
                <a:lnTo>
                  <a:pt x="902" y="585"/>
                </a:lnTo>
                <a:lnTo>
                  <a:pt x="918" y="573"/>
                </a:lnTo>
                <a:lnTo>
                  <a:pt x="933" y="563"/>
                </a:lnTo>
                <a:lnTo>
                  <a:pt x="947" y="551"/>
                </a:lnTo>
                <a:lnTo>
                  <a:pt x="960" y="538"/>
                </a:lnTo>
                <a:lnTo>
                  <a:pt x="972" y="526"/>
                </a:lnTo>
                <a:lnTo>
                  <a:pt x="982" y="513"/>
                </a:lnTo>
                <a:lnTo>
                  <a:pt x="992" y="501"/>
                </a:lnTo>
                <a:lnTo>
                  <a:pt x="1001" y="488"/>
                </a:lnTo>
                <a:lnTo>
                  <a:pt x="1008" y="475"/>
                </a:lnTo>
                <a:lnTo>
                  <a:pt x="1015" y="461"/>
                </a:lnTo>
                <a:lnTo>
                  <a:pt x="1021" y="447"/>
                </a:lnTo>
                <a:lnTo>
                  <a:pt x="1025" y="432"/>
                </a:lnTo>
                <a:lnTo>
                  <a:pt x="1028" y="418"/>
                </a:lnTo>
                <a:lnTo>
                  <a:pt x="1032" y="404"/>
                </a:lnTo>
                <a:lnTo>
                  <a:pt x="1033" y="389"/>
                </a:lnTo>
                <a:lnTo>
                  <a:pt x="1034" y="374"/>
                </a:lnTo>
                <a:close/>
                <a:moveTo>
                  <a:pt x="1034" y="625"/>
                </a:moveTo>
                <a:lnTo>
                  <a:pt x="1016" y="640"/>
                </a:lnTo>
                <a:lnTo>
                  <a:pt x="995" y="654"/>
                </a:lnTo>
                <a:lnTo>
                  <a:pt x="975" y="668"/>
                </a:lnTo>
                <a:lnTo>
                  <a:pt x="952" y="681"/>
                </a:lnTo>
                <a:lnTo>
                  <a:pt x="928" y="693"/>
                </a:lnTo>
                <a:lnTo>
                  <a:pt x="902" y="703"/>
                </a:lnTo>
                <a:lnTo>
                  <a:pt x="875" y="714"/>
                </a:lnTo>
                <a:lnTo>
                  <a:pt x="846" y="724"/>
                </a:lnTo>
                <a:lnTo>
                  <a:pt x="816" y="731"/>
                </a:lnTo>
                <a:lnTo>
                  <a:pt x="786" y="739"/>
                </a:lnTo>
                <a:lnTo>
                  <a:pt x="755" y="745"/>
                </a:lnTo>
                <a:lnTo>
                  <a:pt x="723" y="749"/>
                </a:lnTo>
                <a:lnTo>
                  <a:pt x="691" y="754"/>
                </a:lnTo>
                <a:lnTo>
                  <a:pt x="659" y="757"/>
                </a:lnTo>
                <a:lnTo>
                  <a:pt x="626" y="758"/>
                </a:lnTo>
                <a:lnTo>
                  <a:pt x="592" y="759"/>
                </a:lnTo>
                <a:lnTo>
                  <a:pt x="560" y="758"/>
                </a:lnTo>
                <a:lnTo>
                  <a:pt x="530" y="757"/>
                </a:lnTo>
                <a:lnTo>
                  <a:pt x="500" y="755"/>
                </a:lnTo>
                <a:lnTo>
                  <a:pt x="470" y="751"/>
                </a:lnTo>
                <a:lnTo>
                  <a:pt x="441" y="748"/>
                </a:lnTo>
                <a:lnTo>
                  <a:pt x="413" y="743"/>
                </a:lnTo>
                <a:lnTo>
                  <a:pt x="386" y="738"/>
                </a:lnTo>
                <a:lnTo>
                  <a:pt x="359" y="731"/>
                </a:lnTo>
                <a:lnTo>
                  <a:pt x="333" y="724"/>
                </a:lnTo>
                <a:lnTo>
                  <a:pt x="308" y="716"/>
                </a:lnTo>
                <a:lnTo>
                  <a:pt x="283" y="708"/>
                </a:lnTo>
                <a:lnTo>
                  <a:pt x="259" y="697"/>
                </a:lnTo>
                <a:lnTo>
                  <a:pt x="235" y="686"/>
                </a:lnTo>
                <a:lnTo>
                  <a:pt x="213" y="676"/>
                </a:lnTo>
                <a:lnTo>
                  <a:pt x="190" y="663"/>
                </a:lnTo>
                <a:lnTo>
                  <a:pt x="169" y="650"/>
                </a:lnTo>
                <a:lnTo>
                  <a:pt x="149" y="636"/>
                </a:lnTo>
                <a:lnTo>
                  <a:pt x="129" y="622"/>
                </a:lnTo>
                <a:lnTo>
                  <a:pt x="111" y="607"/>
                </a:lnTo>
                <a:lnTo>
                  <a:pt x="95" y="592"/>
                </a:lnTo>
                <a:lnTo>
                  <a:pt x="79" y="576"/>
                </a:lnTo>
                <a:lnTo>
                  <a:pt x="66" y="561"/>
                </a:lnTo>
                <a:lnTo>
                  <a:pt x="54" y="544"/>
                </a:lnTo>
                <a:lnTo>
                  <a:pt x="42" y="528"/>
                </a:lnTo>
                <a:lnTo>
                  <a:pt x="32" y="511"/>
                </a:lnTo>
                <a:lnTo>
                  <a:pt x="24" y="494"/>
                </a:lnTo>
                <a:lnTo>
                  <a:pt x="16" y="476"/>
                </a:lnTo>
                <a:lnTo>
                  <a:pt x="11" y="458"/>
                </a:lnTo>
                <a:lnTo>
                  <a:pt x="6" y="440"/>
                </a:lnTo>
                <a:lnTo>
                  <a:pt x="2" y="421"/>
                </a:lnTo>
                <a:lnTo>
                  <a:pt x="0" y="401"/>
                </a:lnTo>
                <a:lnTo>
                  <a:pt x="0" y="381"/>
                </a:lnTo>
                <a:lnTo>
                  <a:pt x="0" y="361"/>
                </a:lnTo>
                <a:lnTo>
                  <a:pt x="2" y="342"/>
                </a:lnTo>
                <a:lnTo>
                  <a:pt x="6" y="322"/>
                </a:lnTo>
                <a:lnTo>
                  <a:pt x="11" y="303"/>
                </a:lnTo>
                <a:lnTo>
                  <a:pt x="17" y="285"/>
                </a:lnTo>
                <a:lnTo>
                  <a:pt x="24" y="267"/>
                </a:lnTo>
                <a:lnTo>
                  <a:pt x="33" y="249"/>
                </a:lnTo>
                <a:lnTo>
                  <a:pt x="43" y="232"/>
                </a:lnTo>
                <a:lnTo>
                  <a:pt x="55" y="216"/>
                </a:lnTo>
                <a:lnTo>
                  <a:pt x="67" y="199"/>
                </a:lnTo>
                <a:lnTo>
                  <a:pt x="81" y="183"/>
                </a:lnTo>
                <a:lnTo>
                  <a:pt x="97" y="168"/>
                </a:lnTo>
                <a:lnTo>
                  <a:pt x="113" y="153"/>
                </a:lnTo>
                <a:lnTo>
                  <a:pt x="133" y="138"/>
                </a:lnTo>
                <a:lnTo>
                  <a:pt x="152" y="123"/>
                </a:lnTo>
                <a:lnTo>
                  <a:pt x="172" y="109"/>
                </a:lnTo>
                <a:lnTo>
                  <a:pt x="195" y="96"/>
                </a:lnTo>
                <a:lnTo>
                  <a:pt x="217" y="83"/>
                </a:lnTo>
                <a:lnTo>
                  <a:pt x="240" y="73"/>
                </a:lnTo>
                <a:lnTo>
                  <a:pt x="264" y="62"/>
                </a:lnTo>
                <a:lnTo>
                  <a:pt x="288" y="52"/>
                </a:lnTo>
                <a:lnTo>
                  <a:pt x="314" y="43"/>
                </a:lnTo>
                <a:lnTo>
                  <a:pt x="340" y="35"/>
                </a:lnTo>
                <a:lnTo>
                  <a:pt x="366" y="28"/>
                </a:lnTo>
                <a:lnTo>
                  <a:pt x="394" y="21"/>
                </a:lnTo>
                <a:lnTo>
                  <a:pt x="422" y="16"/>
                </a:lnTo>
                <a:lnTo>
                  <a:pt x="451" y="11"/>
                </a:lnTo>
                <a:lnTo>
                  <a:pt x="480" y="8"/>
                </a:lnTo>
                <a:lnTo>
                  <a:pt x="511" y="4"/>
                </a:lnTo>
                <a:lnTo>
                  <a:pt x="540" y="2"/>
                </a:lnTo>
                <a:lnTo>
                  <a:pt x="572" y="1"/>
                </a:lnTo>
                <a:lnTo>
                  <a:pt x="605" y="0"/>
                </a:lnTo>
                <a:lnTo>
                  <a:pt x="638" y="1"/>
                </a:lnTo>
                <a:lnTo>
                  <a:pt x="670" y="2"/>
                </a:lnTo>
                <a:lnTo>
                  <a:pt x="702" y="5"/>
                </a:lnTo>
                <a:lnTo>
                  <a:pt x="732" y="9"/>
                </a:lnTo>
                <a:lnTo>
                  <a:pt x="763" y="14"/>
                </a:lnTo>
                <a:lnTo>
                  <a:pt x="791" y="19"/>
                </a:lnTo>
                <a:lnTo>
                  <a:pt x="820" y="27"/>
                </a:lnTo>
                <a:lnTo>
                  <a:pt x="849" y="34"/>
                </a:lnTo>
                <a:lnTo>
                  <a:pt x="876" y="43"/>
                </a:lnTo>
                <a:lnTo>
                  <a:pt x="902" y="53"/>
                </a:lnTo>
                <a:lnTo>
                  <a:pt x="927" y="64"/>
                </a:lnTo>
                <a:lnTo>
                  <a:pt x="950" y="76"/>
                </a:lnTo>
                <a:lnTo>
                  <a:pt x="973" y="89"/>
                </a:lnTo>
                <a:lnTo>
                  <a:pt x="994" y="101"/>
                </a:lnTo>
                <a:lnTo>
                  <a:pt x="1015" y="116"/>
                </a:lnTo>
                <a:lnTo>
                  <a:pt x="1034" y="131"/>
                </a:lnTo>
                <a:lnTo>
                  <a:pt x="1034" y="16"/>
                </a:lnTo>
                <a:lnTo>
                  <a:pt x="1178" y="16"/>
                </a:lnTo>
                <a:lnTo>
                  <a:pt x="1178" y="740"/>
                </a:lnTo>
                <a:lnTo>
                  <a:pt x="1034" y="740"/>
                </a:lnTo>
                <a:lnTo>
                  <a:pt x="1034" y="625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741760" y="1085760"/>
            <a:ext cx="21960" cy="138240"/>
          </a:xfrm>
          <a:prstGeom prst="rect">
            <a:avLst/>
          </a:pr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22400" y="1117440"/>
            <a:ext cx="171720" cy="140040"/>
          </a:xfrm>
          <a:custGeom>
            <a:avLst/>
            <a:gdLst/>
            <a:ahLst/>
            <a:rect l="l" t="t" r="r" b="b"/>
            <a:pathLst>
              <a:path w="1180" h="973">
                <a:moveTo>
                  <a:pt x="0" y="16"/>
                </a:moveTo>
                <a:lnTo>
                  <a:pt x="146" y="16"/>
                </a:lnTo>
                <a:lnTo>
                  <a:pt x="146" y="135"/>
                </a:lnTo>
                <a:lnTo>
                  <a:pt x="162" y="120"/>
                </a:lnTo>
                <a:lnTo>
                  <a:pt x="181" y="106"/>
                </a:lnTo>
                <a:lnTo>
                  <a:pt x="201" y="92"/>
                </a:lnTo>
                <a:lnTo>
                  <a:pt x="222" y="79"/>
                </a:lnTo>
                <a:lnTo>
                  <a:pt x="246" y="67"/>
                </a:lnTo>
                <a:lnTo>
                  <a:pt x="270" y="57"/>
                </a:lnTo>
                <a:lnTo>
                  <a:pt x="297" y="46"/>
                </a:lnTo>
                <a:lnTo>
                  <a:pt x="326" y="36"/>
                </a:lnTo>
                <a:lnTo>
                  <a:pt x="356" y="28"/>
                </a:lnTo>
                <a:lnTo>
                  <a:pt x="386" y="20"/>
                </a:lnTo>
                <a:lnTo>
                  <a:pt x="415" y="15"/>
                </a:lnTo>
                <a:lnTo>
                  <a:pt x="446" y="10"/>
                </a:lnTo>
                <a:lnTo>
                  <a:pt x="478" y="5"/>
                </a:lnTo>
                <a:lnTo>
                  <a:pt x="509" y="2"/>
                </a:lnTo>
                <a:lnTo>
                  <a:pt x="542" y="1"/>
                </a:lnTo>
                <a:lnTo>
                  <a:pt x="574" y="0"/>
                </a:lnTo>
                <a:lnTo>
                  <a:pt x="608" y="1"/>
                </a:lnTo>
                <a:lnTo>
                  <a:pt x="639" y="2"/>
                </a:lnTo>
                <a:lnTo>
                  <a:pt x="670" y="4"/>
                </a:lnTo>
                <a:lnTo>
                  <a:pt x="700" y="8"/>
                </a:lnTo>
                <a:lnTo>
                  <a:pt x="729" y="11"/>
                </a:lnTo>
                <a:lnTo>
                  <a:pt x="758" y="16"/>
                </a:lnTo>
                <a:lnTo>
                  <a:pt x="787" y="21"/>
                </a:lnTo>
                <a:lnTo>
                  <a:pt x="814" y="28"/>
                </a:lnTo>
                <a:lnTo>
                  <a:pt x="840" y="35"/>
                </a:lnTo>
                <a:lnTo>
                  <a:pt x="867" y="43"/>
                </a:lnTo>
                <a:lnTo>
                  <a:pt x="892" y="51"/>
                </a:lnTo>
                <a:lnTo>
                  <a:pt x="916" y="62"/>
                </a:lnTo>
                <a:lnTo>
                  <a:pt x="941" y="73"/>
                </a:lnTo>
                <a:lnTo>
                  <a:pt x="963" y="83"/>
                </a:lnTo>
                <a:lnTo>
                  <a:pt x="986" y="96"/>
                </a:lnTo>
                <a:lnTo>
                  <a:pt x="1008" y="109"/>
                </a:lnTo>
                <a:lnTo>
                  <a:pt x="1028" y="123"/>
                </a:lnTo>
                <a:lnTo>
                  <a:pt x="1047" y="138"/>
                </a:lnTo>
                <a:lnTo>
                  <a:pt x="1066" y="152"/>
                </a:lnTo>
                <a:lnTo>
                  <a:pt x="1083" y="167"/>
                </a:lnTo>
                <a:lnTo>
                  <a:pt x="1099" y="183"/>
                </a:lnTo>
                <a:lnTo>
                  <a:pt x="1113" y="199"/>
                </a:lnTo>
                <a:lnTo>
                  <a:pt x="1125" y="215"/>
                </a:lnTo>
                <a:lnTo>
                  <a:pt x="1136" y="232"/>
                </a:lnTo>
                <a:lnTo>
                  <a:pt x="1147" y="249"/>
                </a:lnTo>
                <a:lnTo>
                  <a:pt x="1155" y="267"/>
                </a:lnTo>
                <a:lnTo>
                  <a:pt x="1163" y="284"/>
                </a:lnTo>
                <a:lnTo>
                  <a:pt x="1168" y="303"/>
                </a:lnTo>
                <a:lnTo>
                  <a:pt x="1173" y="322"/>
                </a:lnTo>
                <a:lnTo>
                  <a:pt x="1177" y="342"/>
                </a:lnTo>
                <a:lnTo>
                  <a:pt x="1179" y="361"/>
                </a:lnTo>
                <a:lnTo>
                  <a:pt x="1180" y="381"/>
                </a:lnTo>
                <a:lnTo>
                  <a:pt x="1179" y="400"/>
                </a:lnTo>
                <a:lnTo>
                  <a:pt x="1177" y="421"/>
                </a:lnTo>
                <a:lnTo>
                  <a:pt x="1173" y="439"/>
                </a:lnTo>
                <a:lnTo>
                  <a:pt x="1169" y="458"/>
                </a:lnTo>
                <a:lnTo>
                  <a:pt x="1163" y="476"/>
                </a:lnTo>
                <a:lnTo>
                  <a:pt x="1155" y="493"/>
                </a:lnTo>
                <a:lnTo>
                  <a:pt x="1147" y="511"/>
                </a:lnTo>
                <a:lnTo>
                  <a:pt x="1137" y="527"/>
                </a:lnTo>
                <a:lnTo>
                  <a:pt x="1125" y="544"/>
                </a:lnTo>
                <a:lnTo>
                  <a:pt x="1114" y="560"/>
                </a:lnTo>
                <a:lnTo>
                  <a:pt x="1099" y="576"/>
                </a:lnTo>
                <a:lnTo>
                  <a:pt x="1084" y="591"/>
                </a:lnTo>
                <a:lnTo>
                  <a:pt x="1068" y="606"/>
                </a:lnTo>
                <a:lnTo>
                  <a:pt x="1050" y="621"/>
                </a:lnTo>
                <a:lnTo>
                  <a:pt x="1030" y="636"/>
                </a:lnTo>
                <a:lnTo>
                  <a:pt x="1010" y="650"/>
                </a:lnTo>
                <a:lnTo>
                  <a:pt x="989" y="663"/>
                </a:lnTo>
                <a:lnTo>
                  <a:pt x="966" y="676"/>
                </a:lnTo>
                <a:lnTo>
                  <a:pt x="943" y="686"/>
                </a:lnTo>
                <a:lnTo>
                  <a:pt x="919" y="697"/>
                </a:lnTo>
                <a:lnTo>
                  <a:pt x="896" y="707"/>
                </a:lnTo>
                <a:lnTo>
                  <a:pt x="871" y="716"/>
                </a:lnTo>
                <a:lnTo>
                  <a:pt x="846" y="724"/>
                </a:lnTo>
                <a:lnTo>
                  <a:pt x="819" y="731"/>
                </a:lnTo>
                <a:lnTo>
                  <a:pt x="792" y="738"/>
                </a:lnTo>
                <a:lnTo>
                  <a:pt x="765" y="743"/>
                </a:lnTo>
                <a:lnTo>
                  <a:pt x="737" y="748"/>
                </a:lnTo>
                <a:lnTo>
                  <a:pt x="708" y="751"/>
                </a:lnTo>
                <a:lnTo>
                  <a:pt x="679" y="755"/>
                </a:lnTo>
                <a:lnTo>
                  <a:pt x="649" y="757"/>
                </a:lnTo>
                <a:lnTo>
                  <a:pt x="618" y="758"/>
                </a:lnTo>
                <a:lnTo>
                  <a:pt x="586" y="759"/>
                </a:lnTo>
                <a:lnTo>
                  <a:pt x="552" y="758"/>
                </a:lnTo>
                <a:lnTo>
                  <a:pt x="518" y="757"/>
                </a:lnTo>
                <a:lnTo>
                  <a:pt x="485" y="754"/>
                </a:lnTo>
                <a:lnTo>
                  <a:pt x="453" y="750"/>
                </a:lnTo>
                <a:lnTo>
                  <a:pt x="422" y="745"/>
                </a:lnTo>
                <a:lnTo>
                  <a:pt x="391" y="740"/>
                </a:lnTo>
                <a:lnTo>
                  <a:pt x="362" y="732"/>
                </a:lnTo>
                <a:lnTo>
                  <a:pt x="333" y="725"/>
                </a:lnTo>
                <a:lnTo>
                  <a:pt x="305" y="715"/>
                </a:lnTo>
                <a:lnTo>
                  <a:pt x="279" y="706"/>
                </a:lnTo>
                <a:lnTo>
                  <a:pt x="254" y="695"/>
                </a:lnTo>
                <a:lnTo>
                  <a:pt x="230" y="682"/>
                </a:lnTo>
                <a:lnTo>
                  <a:pt x="207" y="669"/>
                </a:lnTo>
                <a:lnTo>
                  <a:pt x="186" y="655"/>
                </a:lnTo>
                <a:lnTo>
                  <a:pt x="166" y="640"/>
                </a:lnTo>
                <a:lnTo>
                  <a:pt x="146" y="625"/>
                </a:lnTo>
                <a:lnTo>
                  <a:pt x="146" y="675"/>
                </a:lnTo>
                <a:lnTo>
                  <a:pt x="146" y="782"/>
                </a:lnTo>
                <a:lnTo>
                  <a:pt x="146" y="973"/>
                </a:lnTo>
                <a:lnTo>
                  <a:pt x="0" y="973"/>
                </a:lnTo>
                <a:lnTo>
                  <a:pt x="0" y="16"/>
                </a:lnTo>
                <a:close/>
                <a:moveTo>
                  <a:pt x="146" y="374"/>
                </a:moveTo>
                <a:lnTo>
                  <a:pt x="146" y="389"/>
                </a:lnTo>
                <a:lnTo>
                  <a:pt x="147" y="404"/>
                </a:lnTo>
                <a:lnTo>
                  <a:pt x="151" y="418"/>
                </a:lnTo>
                <a:lnTo>
                  <a:pt x="154" y="432"/>
                </a:lnTo>
                <a:lnTo>
                  <a:pt x="158" y="447"/>
                </a:lnTo>
                <a:lnTo>
                  <a:pt x="164" y="461"/>
                </a:lnTo>
                <a:lnTo>
                  <a:pt x="171" y="475"/>
                </a:lnTo>
                <a:lnTo>
                  <a:pt x="178" y="488"/>
                </a:lnTo>
                <a:lnTo>
                  <a:pt x="187" y="501"/>
                </a:lnTo>
                <a:lnTo>
                  <a:pt x="197" y="513"/>
                </a:lnTo>
                <a:lnTo>
                  <a:pt x="207" y="526"/>
                </a:lnTo>
                <a:lnTo>
                  <a:pt x="219" y="538"/>
                </a:lnTo>
                <a:lnTo>
                  <a:pt x="232" y="551"/>
                </a:lnTo>
                <a:lnTo>
                  <a:pt x="246" y="563"/>
                </a:lnTo>
                <a:lnTo>
                  <a:pt x="261" y="573"/>
                </a:lnTo>
                <a:lnTo>
                  <a:pt x="276" y="585"/>
                </a:lnTo>
                <a:lnTo>
                  <a:pt x="293" y="596"/>
                </a:lnTo>
                <a:lnTo>
                  <a:pt x="309" y="605"/>
                </a:lnTo>
                <a:lnTo>
                  <a:pt x="326" y="615"/>
                </a:lnTo>
                <a:lnTo>
                  <a:pt x="344" y="623"/>
                </a:lnTo>
                <a:lnTo>
                  <a:pt x="362" y="631"/>
                </a:lnTo>
                <a:lnTo>
                  <a:pt x="380" y="638"/>
                </a:lnTo>
                <a:lnTo>
                  <a:pt x="398" y="645"/>
                </a:lnTo>
                <a:lnTo>
                  <a:pt x="418" y="650"/>
                </a:lnTo>
                <a:lnTo>
                  <a:pt x="437" y="655"/>
                </a:lnTo>
                <a:lnTo>
                  <a:pt x="457" y="660"/>
                </a:lnTo>
                <a:lnTo>
                  <a:pt x="476" y="664"/>
                </a:lnTo>
                <a:lnTo>
                  <a:pt x="498" y="667"/>
                </a:lnTo>
                <a:lnTo>
                  <a:pt x="518" y="669"/>
                </a:lnTo>
                <a:lnTo>
                  <a:pt x="539" y="671"/>
                </a:lnTo>
                <a:lnTo>
                  <a:pt x="561" y="672"/>
                </a:lnTo>
                <a:lnTo>
                  <a:pt x="582" y="672"/>
                </a:lnTo>
                <a:lnTo>
                  <a:pt x="604" y="672"/>
                </a:lnTo>
                <a:lnTo>
                  <a:pt x="627" y="671"/>
                </a:lnTo>
                <a:lnTo>
                  <a:pt x="648" y="669"/>
                </a:lnTo>
                <a:lnTo>
                  <a:pt x="670" y="667"/>
                </a:lnTo>
                <a:lnTo>
                  <a:pt x="691" y="664"/>
                </a:lnTo>
                <a:lnTo>
                  <a:pt x="711" y="661"/>
                </a:lnTo>
                <a:lnTo>
                  <a:pt x="731" y="656"/>
                </a:lnTo>
                <a:lnTo>
                  <a:pt x="751" y="651"/>
                </a:lnTo>
                <a:lnTo>
                  <a:pt x="770" y="646"/>
                </a:lnTo>
                <a:lnTo>
                  <a:pt x="789" y="639"/>
                </a:lnTo>
                <a:lnTo>
                  <a:pt x="807" y="633"/>
                </a:lnTo>
                <a:lnTo>
                  <a:pt x="825" y="625"/>
                </a:lnTo>
                <a:lnTo>
                  <a:pt x="844" y="617"/>
                </a:lnTo>
                <a:lnTo>
                  <a:pt x="861" y="608"/>
                </a:lnTo>
                <a:lnTo>
                  <a:pt x="878" y="599"/>
                </a:lnTo>
                <a:lnTo>
                  <a:pt x="894" y="589"/>
                </a:lnTo>
                <a:lnTo>
                  <a:pt x="910" y="579"/>
                </a:lnTo>
                <a:lnTo>
                  <a:pt x="925" y="568"/>
                </a:lnTo>
                <a:lnTo>
                  <a:pt x="939" y="556"/>
                </a:lnTo>
                <a:lnTo>
                  <a:pt x="950" y="545"/>
                </a:lnTo>
                <a:lnTo>
                  <a:pt x="962" y="534"/>
                </a:lnTo>
                <a:lnTo>
                  <a:pt x="973" y="522"/>
                </a:lnTo>
                <a:lnTo>
                  <a:pt x="982" y="509"/>
                </a:lnTo>
                <a:lnTo>
                  <a:pt x="992" y="496"/>
                </a:lnTo>
                <a:lnTo>
                  <a:pt x="999" y="484"/>
                </a:lnTo>
                <a:lnTo>
                  <a:pt x="1006" y="471"/>
                </a:lnTo>
                <a:lnTo>
                  <a:pt x="1011" y="457"/>
                </a:lnTo>
                <a:lnTo>
                  <a:pt x="1015" y="443"/>
                </a:lnTo>
                <a:lnTo>
                  <a:pt x="1020" y="429"/>
                </a:lnTo>
                <a:lnTo>
                  <a:pt x="1022" y="415"/>
                </a:lnTo>
                <a:lnTo>
                  <a:pt x="1024" y="400"/>
                </a:lnTo>
                <a:lnTo>
                  <a:pt x="1024" y="385"/>
                </a:lnTo>
                <a:lnTo>
                  <a:pt x="1024" y="369"/>
                </a:lnTo>
                <a:lnTo>
                  <a:pt x="1022" y="354"/>
                </a:lnTo>
                <a:lnTo>
                  <a:pt x="1020" y="339"/>
                </a:lnTo>
                <a:lnTo>
                  <a:pt x="1015" y="325"/>
                </a:lnTo>
                <a:lnTo>
                  <a:pt x="1011" y="310"/>
                </a:lnTo>
                <a:lnTo>
                  <a:pt x="1006" y="296"/>
                </a:lnTo>
                <a:lnTo>
                  <a:pt x="998" y="282"/>
                </a:lnTo>
                <a:lnTo>
                  <a:pt x="991" y="268"/>
                </a:lnTo>
                <a:lnTo>
                  <a:pt x="982" y="255"/>
                </a:lnTo>
                <a:lnTo>
                  <a:pt x="973" y="242"/>
                </a:lnTo>
                <a:lnTo>
                  <a:pt x="962" y="230"/>
                </a:lnTo>
                <a:lnTo>
                  <a:pt x="950" y="218"/>
                </a:lnTo>
                <a:lnTo>
                  <a:pt x="938" y="206"/>
                </a:lnTo>
                <a:lnTo>
                  <a:pt x="924" y="194"/>
                </a:lnTo>
                <a:lnTo>
                  <a:pt x="909" y="184"/>
                </a:lnTo>
                <a:lnTo>
                  <a:pt x="894" y="172"/>
                </a:lnTo>
                <a:lnTo>
                  <a:pt x="877" y="162"/>
                </a:lnTo>
                <a:lnTo>
                  <a:pt x="860" y="152"/>
                </a:lnTo>
                <a:lnTo>
                  <a:pt x="842" y="143"/>
                </a:lnTo>
                <a:lnTo>
                  <a:pt x="824" y="135"/>
                </a:lnTo>
                <a:lnTo>
                  <a:pt x="806" y="127"/>
                </a:lnTo>
                <a:lnTo>
                  <a:pt x="788" y="120"/>
                </a:lnTo>
                <a:lnTo>
                  <a:pt x="769" y="113"/>
                </a:lnTo>
                <a:lnTo>
                  <a:pt x="749" y="108"/>
                </a:lnTo>
                <a:lnTo>
                  <a:pt x="729" y="103"/>
                </a:lnTo>
                <a:lnTo>
                  <a:pt x="709" y="98"/>
                </a:lnTo>
                <a:lnTo>
                  <a:pt x="688" y="95"/>
                </a:lnTo>
                <a:lnTo>
                  <a:pt x="666" y="92"/>
                </a:lnTo>
                <a:lnTo>
                  <a:pt x="645" y="90"/>
                </a:lnTo>
                <a:lnTo>
                  <a:pt x="623" y="88"/>
                </a:lnTo>
                <a:lnTo>
                  <a:pt x="600" y="87"/>
                </a:lnTo>
                <a:lnTo>
                  <a:pt x="577" y="87"/>
                </a:lnTo>
                <a:lnTo>
                  <a:pt x="555" y="87"/>
                </a:lnTo>
                <a:lnTo>
                  <a:pt x="535" y="88"/>
                </a:lnTo>
                <a:lnTo>
                  <a:pt x="515" y="90"/>
                </a:lnTo>
                <a:lnTo>
                  <a:pt x="494" y="92"/>
                </a:lnTo>
                <a:lnTo>
                  <a:pt x="474" y="95"/>
                </a:lnTo>
                <a:lnTo>
                  <a:pt x="455" y="98"/>
                </a:lnTo>
                <a:lnTo>
                  <a:pt x="436" y="103"/>
                </a:lnTo>
                <a:lnTo>
                  <a:pt x="416" y="108"/>
                </a:lnTo>
                <a:lnTo>
                  <a:pt x="397" y="114"/>
                </a:lnTo>
                <a:lnTo>
                  <a:pt x="379" y="121"/>
                </a:lnTo>
                <a:lnTo>
                  <a:pt x="361" y="127"/>
                </a:lnTo>
                <a:lnTo>
                  <a:pt x="344" y="135"/>
                </a:lnTo>
                <a:lnTo>
                  <a:pt x="326" y="143"/>
                </a:lnTo>
                <a:lnTo>
                  <a:pt x="309" y="153"/>
                </a:lnTo>
                <a:lnTo>
                  <a:pt x="293" y="162"/>
                </a:lnTo>
                <a:lnTo>
                  <a:pt x="276" y="173"/>
                </a:lnTo>
                <a:lnTo>
                  <a:pt x="261" y="184"/>
                </a:lnTo>
                <a:lnTo>
                  <a:pt x="246" y="194"/>
                </a:lnTo>
                <a:lnTo>
                  <a:pt x="232" y="206"/>
                </a:lnTo>
                <a:lnTo>
                  <a:pt x="219" y="218"/>
                </a:lnTo>
                <a:lnTo>
                  <a:pt x="207" y="230"/>
                </a:lnTo>
                <a:lnTo>
                  <a:pt x="197" y="241"/>
                </a:lnTo>
                <a:lnTo>
                  <a:pt x="187" y="253"/>
                </a:lnTo>
                <a:lnTo>
                  <a:pt x="178" y="266"/>
                </a:lnTo>
                <a:lnTo>
                  <a:pt x="171" y="279"/>
                </a:lnTo>
                <a:lnTo>
                  <a:pt x="164" y="291"/>
                </a:lnTo>
                <a:lnTo>
                  <a:pt x="158" y="304"/>
                </a:lnTo>
                <a:lnTo>
                  <a:pt x="154" y="318"/>
                </a:lnTo>
                <a:lnTo>
                  <a:pt x="151" y="331"/>
                </a:lnTo>
                <a:lnTo>
                  <a:pt x="147" y="345"/>
                </a:lnTo>
                <a:lnTo>
                  <a:pt x="146" y="359"/>
                </a:lnTo>
                <a:lnTo>
                  <a:pt x="146" y="374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36960" y="1117440"/>
            <a:ext cx="171360" cy="109800"/>
          </a:xfrm>
          <a:custGeom>
            <a:avLst/>
            <a:gdLst/>
            <a:ahLst/>
            <a:rect l="l" t="t" r="r" b="b"/>
            <a:pathLst>
              <a:path w="1194" h="764">
                <a:moveTo>
                  <a:pt x="1194" y="412"/>
                </a:moveTo>
                <a:lnTo>
                  <a:pt x="152" y="412"/>
                </a:lnTo>
                <a:lnTo>
                  <a:pt x="155" y="426"/>
                </a:lnTo>
                <a:lnTo>
                  <a:pt x="158" y="441"/>
                </a:lnTo>
                <a:lnTo>
                  <a:pt x="161" y="454"/>
                </a:lnTo>
                <a:lnTo>
                  <a:pt x="166" y="467"/>
                </a:lnTo>
                <a:lnTo>
                  <a:pt x="172" y="481"/>
                </a:lnTo>
                <a:lnTo>
                  <a:pt x="178" y="494"/>
                </a:lnTo>
                <a:lnTo>
                  <a:pt x="185" y="506"/>
                </a:lnTo>
                <a:lnTo>
                  <a:pt x="193" y="519"/>
                </a:lnTo>
                <a:lnTo>
                  <a:pt x="203" y="530"/>
                </a:lnTo>
                <a:lnTo>
                  <a:pt x="212" y="541"/>
                </a:lnTo>
                <a:lnTo>
                  <a:pt x="223" y="553"/>
                </a:lnTo>
                <a:lnTo>
                  <a:pt x="235" y="563"/>
                </a:lnTo>
                <a:lnTo>
                  <a:pt x="246" y="573"/>
                </a:lnTo>
                <a:lnTo>
                  <a:pt x="260" y="584"/>
                </a:lnTo>
                <a:lnTo>
                  <a:pt x="274" y="593"/>
                </a:lnTo>
                <a:lnTo>
                  <a:pt x="289" y="603"/>
                </a:lnTo>
                <a:lnTo>
                  <a:pt x="304" y="611"/>
                </a:lnTo>
                <a:lnTo>
                  <a:pt x="320" y="620"/>
                </a:lnTo>
                <a:lnTo>
                  <a:pt x="337" y="627"/>
                </a:lnTo>
                <a:lnTo>
                  <a:pt x="354" y="634"/>
                </a:lnTo>
                <a:lnTo>
                  <a:pt x="371" y="641"/>
                </a:lnTo>
                <a:lnTo>
                  <a:pt x="389" y="647"/>
                </a:lnTo>
                <a:lnTo>
                  <a:pt x="408" y="652"/>
                </a:lnTo>
                <a:lnTo>
                  <a:pt x="427" y="657"/>
                </a:lnTo>
                <a:lnTo>
                  <a:pt x="446" y="662"/>
                </a:lnTo>
                <a:lnTo>
                  <a:pt x="466" y="665"/>
                </a:lnTo>
                <a:lnTo>
                  <a:pt x="487" y="668"/>
                </a:lnTo>
                <a:lnTo>
                  <a:pt x="507" y="670"/>
                </a:lnTo>
                <a:lnTo>
                  <a:pt x="528" y="672"/>
                </a:lnTo>
                <a:lnTo>
                  <a:pt x="550" y="674"/>
                </a:lnTo>
                <a:lnTo>
                  <a:pt x="572" y="674"/>
                </a:lnTo>
                <a:lnTo>
                  <a:pt x="595" y="675"/>
                </a:lnTo>
                <a:lnTo>
                  <a:pt x="627" y="674"/>
                </a:lnTo>
                <a:lnTo>
                  <a:pt x="658" y="672"/>
                </a:lnTo>
                <a:lnTo>
                  <a:pt x="689" y="669"/>
                </a:lnTo>
                <a:lnTo>
                  <a:pt x="718" y="665"/>
                </a:lnTo>
                <a:lnTo>
                  <a:pt x="747" y="658"/>
                </a:lnTo>
                <a:lnTo>
                  <a:pt x="776" y="651"/>
                </a:lnTo>
                <a:lnTo>
                  <a:pt x="803" y="642"/>
                </a:lnTo>
                <a:lnTo>
                  <a:pt x="829" y="633"/>
                </a:lnTo>
                <a:lnTo>
                  <a:pt x="854" y="622"/>
                </a:lnTo>
                <a:lnTo>
                  <a:pt x="877" y="609"/>
                </a:lnTo>
                <a:lnTo>
                  <a:pt x="900" y="596"/>
                </a:lnTo>
                <a:lnTo>
                  <a:pt x="921" y="583"/>
                </a:lnTo>
                <a:lnTo>
                  <a:pt x="940" y="568"/>
                </a:lnTo>
                <a:lnTo>
                  <a:pt x="958" y="551"/>
                </a:lnTo>
                <a:lnTo>
                  <a:pt x="974" y="533"/>
                </a:lnTo>
                <a:lnTo>
                  <a:pt x="989" y="515"/>
                </a:lnTo>
                <a:lnTo>
                  <a:pt x="1157" y="515"/>
                </a:lnTo>
                <a:lnTo>
                  <a:pt x="1147" y="530"/>
                </a:lnTo>
                <a:lnTo>
                  <a:pt x="1137" y="544"/>
                </a:lnTo>
                <a:lnTo>
                  <a:pt x="1125" y="558"/>
                </a:lnTo>
                <a:lnTo>
                  <a:pt x="1113" y="572"/>
                </a:lnTo>
                <a:lnTo>
                  <a:pt x="1102" y="585"/>
                </a:lnTo>
                <a:lnTo>
                  <a:pt x="1089" y="597"/>
                </a:lnTo>
                <a:lnTo>
                  <a:pt x="1075" y="609"/>
                </a:lnTo>
                <a:lnTo>
                  <a:pt x="1061" y="621"/>
                </a:lnTo>
                <a:lnTo>
                  <a:pt x="1047" y="633"/>
                </a:lnTo>
                <a:lnTo>
                  <a:pt x="1032" y="643"/>
                </a:lnTo>
                <a:lnTo>
                  <a:pt x="1017" y="654"/>
                </a:lnTo>
                <a:lnTo>
                  <a:pt x="1001" y="664"/>
                </a:lnTo>
                <a:lnTo>
                  <a:pt x="985" y="673"/>
                </a:lnTo>
                <a:lnTo>
                  <a:pt x="968" y="683"/>
                </a:lnTo>
                <a:lnTo>
                  <a:pt x="951" y="691"/>
                </a:lnTo>
                <a:lnTo>
                  <a:pt x="934" y="700"/>
                </a:lnTo>
                <a:lnTo>
                  <a:pt x="915" y="707"/>
                </a:lnTo>
                <a:lnTo>
                  <a:pt x="897" y="715"/>
                </a:lnTo>
                <a:lnTo>
                  <a:pt x="877" y="721"/>
                </a:lnTo>
                <a:lnTo>
                  <a:pt x="858" y="728"/>
                </a:lnTo>
                <a:lnTo>
                  <a:pt x="839" y="733"/>
                </a:lnTo>
                <a:lnTo>
                  <a:pt x="819" y="738"/>
                </a:lnTo>
                <a:lnTo>
                  <a:pt x="798" y="744"/>
                </a:lnTo>
                <a:lnTo>
                  <a:pt x="778" y="748"/>
                </a:lnTo>
                <a:lnTo>
                  <a:pt x="757" y="751"/>
                </a:lnTo>
                <a:lnTo>
                  <a:pt x="735" y="755"/>
                </a:lnTo>
                <a:lnTo>
                  <a:pt x="713" y="758"/>
                </a:lnTo>
                <a:lnTo>
                  <a:pt x="692" y="760"/>
                </a:lnTo>
                <a:lnTo>
                  <a:pt x="646" y="763"/>
                </a:lnTo>
                <a:lnTo>
                  <a:pt x="600" y="764"/>
                </a:lnTo>
                <a:lnTo>
                  <a:pt x="568" y="764"/>
                </a:lnTo>
                <a:lnTo>
                  <a:pt x="538" y="762"/>
                </a:lnTo>
                <a:lnTo>
                  <a:pt x="508" y="760"/>
                </a:lnTo>
                <a:lnTo>
                  <a:pt x="478" y="757"/>
                </a:lnTo>
                <a:lnTo>
                  <a:pt x="449" y="753"/>
                </a:lnTo>
                <a:lnTo>
                  <a:pt x="421" y="748"/>
                </a:lnTo>
                <a:lnTo>
                  <a:pt x="394" y="743"/>
                </a:lnTo>
                <a:lnTo>
                  <a:pt x="367" y="736"/>
                </a:lnTo>
                <a:lnTo>
                  <a:pt x="340" y="729"/>
                </a:lnTo>
                <a:lnTo>
                  <a:pt x="315" y="720"/>
                </a:lnTo>
                <a:lnTo>
                  <a:pt x="290" y="711"/>
                </a:lnTo>
                <a:lnTo>
                  <a:pt x="266" y="701"/>
                </a:lnTo>
                <a:lnTo>
                  <a:pt x="241" y="689"/>
                </a:lnTo>
                <a:lnTo>
                  <a:pt x="217" y="678"/>
                </a:lnTo>
                <a:lnTo>
                  <a:pt x="195" y="665"/>
                </a:lnTo>
                <a:lnTo>
                  <a:pt x="174" y="652"/>
                </a:lnTo>
                <a:lnTo>
                  <a:pt x="152" y="637"/>
                </a:lnTo>
                <a:lnTo>
                  <a:pt x="132" y="623"/>
                </a:lnTo>
                <a:lnTo>
                  <a:pt x="114" y="608"/>
                </a:lnTo>
                <a:lnTo>
                  <a:pt x="97" y="592"/>
                </a:lnTo>
                <a:lnTo>
                  <a:pt x="82" y="577"/>
                </a:lnTo>
                <a:lnTo>
                  <a:pt x="67" y="561"/>
                </a:lnTo>
                <a:lnTo>
                  <a:pt x="54" y="544"/>
                </a:lnTo>
                <a:lnTo>
                  <a:pt x="42" y="528"/>
                </a:lnTo>
                <a:lnTo>
                  <a:pt x="33" y="511"/>
                </a:lnTo>
                <a:lnTo>
                  <a:pt x="23" y="493"/>
                </a:lnTo>
                <a:lnTo>
                  <a:pt x="16" y="476"/>
                </a:lnTo>
                <a:lnTo>
                  <a:pt x="10" y="458"/>
                </a:lnTo>
                <a:lnTo>
                  <a:pt x="5" y="438"/>
                </a:lnTo>
                <a:lnTo>
                  <a:pt x="2" y="420"/>
                </a:lnTo>
                <a:lnTo>
                  <a:pt x="0" y="401"/>
                </a:lnTo>
                <a:lnTo>
                  <a:pt x="0" y="381"/>
                </a:lnTo>
                <a:lnTo>
                  <a:pt x="0" y="361"/>
                </a:lnTo>
                <a:lnTo>
                  <a:pt x="2" y="341"/>
                </a:lnTo>
                <a:lnTo>
                  <a:pt x="5" y="321"/>
                </a:lnTo>
                <a:lnTo>
                  <a:pt x="9" y="302"/>
                </a:lnTo>
                <a:lnTo>
                  <a:pt x="16" y="284"/>
                </a:lnTo>
                <a:lnTo>
                  <a:pt x="23" y="266"/>
                </a:lnTo>
                <a:lnTo>
                  <a:pt x="32" y="247"/>
                </a:lnTo>
                <a:lnTo>
                  <a:pt x="41" y="230"/>
                </a:lnTo>
                <a:lnTo>
                  <a:pt x="53" y="213"/>
                </a:lnTo>
                <a:lnTo>
                  <a:pt x="66" y="197"/>
                </a:lnTo>
                <a:lnTo>
                  <a:pt x="80" y="181"/>
                </a:lnTo>
                <a:lnTo>
                  <a:pt x="95" y="165"/>
                </a:lnTo>
                <a:lnTo>
                  <a:pt x="112" y="150"/>
                </a:lnTo>
                <a:lnTo>
                  <a:pt x="130" y="136"/>
                </a:lnTo>
                <a:lnTo>
                  <a:pt x="149" y="121"/>
                </a:lnTo>
                <a:lnTo>
                  <a:pt x="169" y="109"/>
                </a:lnTo>
                <a:lnTo>
                  <a:pt x="191" y="95"/>
                </a:lnTo>
                <a:lnTo>
                  <a:pt x="213" y="83"/>
                </a:lnTo>
                <a:lnTo>
                  <a:pt x="237" y="71"/>
                </a:lnTo>
                <a:lnTo>
                  <a:pt x="260" y="61"/>
                </a:lnTo>
                <a:lnTo>
                  <a:pt x="285" y="51"/>
                </a:lnTo>
                <a:lnTo>
                  <a:pt x="310" y="42"/>
                </a:lnTo>
                <a:lnTo>
                  <a:pt x="337" y="34"/>
                </a:lnTo>
                <a:lnTo>
                  <a:pt x="364" y="28"/>
                </a:lnTo>
                <a:lnTo>
                  <a:pt x="392" y="21"/>
                </a:lnTo>
                <a:lnTo>
                  <a:pt x="419" y="16"/>
                </a:lnTo>
                <a:lnTo>
                  <a:pt x="449" y="10"/>
                </a:lnTo>
                <a:lnTo>
                  <a:pt x="479" y="7"/>
                </a:lnTo>
                <a:lnTo>
                  <a:pt x="509" y="4"/>
                </a:lnTo>
                <a:lnTo>
                  <a:pt x="541" y="2"/>
                </a:lnTo>
                <a:lnTo>
                  <a:pt x="573" y="1"/>
                </a:lnTo>
                <a:lnTo>
                  <a:pt x="605" y="0"/>
                </a:lnTo>
                <a:lnTo>
                  <a:pt x="637" y="1"/>
                </a:lnTo>
                <a:lnTo>
                  <a:pt x="669" y="2"/>
                </a:lnTo>
                <a:lnTo>
                  <a:pt x="700" y="4"/>
                </a:lnTo>
                <a:lnTo>
                  <a:pt x="730" y="7"/>
                </a:lnTo>
                <a:lnTo>
                  <a:pt x="759" y="12"/>
                </a:lnTo>
                <a:lnTo>
                  <a:pt x="788" y="16"/>
                </a:lnTo>
                <a:lnTo>
                  <a:pt x="814" y="22"/>
                </a:lnTo>
                <a:lnTo>
                  <a:pt x="842" y="29"/>
                </a:lnTo>
                <a:lnTo>
                  <a:pt x="868" y="36"/>
                </a:lnTo>
                <a:lnTo>
                  <a:pt x="893" y="45"/>
                </a:lnTo>
                <a:lnTo>
                  <a:pt x="918" y="53"/>
                </a:lnTo>
                <a:lnTo>
                  <a:pt x="941" y="64"/>
                </a:lnTo>
                <a:lnTo>
                  <a:pt x="965" y="75"/>
                </a:lnTo>
                <a:lnTo>
                  <a:pt x="987" y="86"/>
                </a:lnTo>
                <a:lnTo>
                  <a:pt x="1009" y="99"/>
                </a:lnTo>
                <a:lnTo>
                  <a:pt x="1030" y="113"/>
                </a:lnTo>
                <a:lnTo>
                  <a:pt x="1049" y="127"/>
                </a:lnTo>
                <a:lnTo>
                  <a:pt x="1068" y="142"/>
                </a:lnTo>
                <a:lnTo>
                  <a:pt x="1086" y="157"/>
                </a:lnTo>
                <a:lnTo>
                  <a:pt x="1102" y="173"/>
                </a:lnTo>
                <a:lnTo>
                  <a:pt x="1116" y="190"/>
                </a:lnTo>
                <a:lnTo>
                  <a:pt x="1130" y="207"/>
                </a:lnTo>
                <a:lnTo>
                  <a:pt x="1142" y="224"/>
                </a:lnTo>
                <a:lnTo>
                  <a:pt x="1153" y="242"/>
                </a:lnTo>
                <a:lnTo>
                  <a:pt x="1162" y="260"/>
                </a:lnTo>
                <a:lnTo>
                  <a:pt x="1171" y="279"/>
                </a:lnTo>
                <a:lnTo>
                  <a:pt x="1178" y="299"/>
                </a:lnTo>
                <a:lnTo>
                  <a:pt x="1184" y="319"/>
                </a:lnTo>
                <a:lnTo>
                  <a:pt x="1188" y="340"/>
                </a:lnTo>
                <a:lnTo>
                  <a:pt x="1191" y="361"/>
                </a:lnTo>
                <a:lnTo>
                  <a:pt x="1193" y="383"/>
                </a:lnTo>
                <a:lnTo>
                  <a:pt x="1194" y="404"/>
                </a:lnTo>
                <a:lnTo>
                  <a:pt x="1194" y="412"/>
                </a:lnTo>
                <a:close/>
                <a:moveTo>
                  <a:pt x="1030" y="333"/>
                </a:moveTo>
                <a:lnTo>
                  <a:pt x="1025" y="318"/>
                </a:lnTo>
                <a:lnTo>
                  <a:pt x="1019" y="303"/>
                </a:lnTo>
                <a:lnTo>
                  <a:pt x="1012" y="289"/>
                </a:lnTo>
                <a:lnTo>
                  <a:pt x="1005" y="276"/>
                </a:lnTo>
                <a:lnTo>
                  <a:pt x="997" y="262"/>
                </a:lnTo>
                <a:lnTo>
                  <a:pt x="989" y="250"/>
                </a:lnTo>
                <a:lnTo>
                  <a:pt x="980" y="238"/>
                </a:lnTo>
                <a:lnTo>
                  <a:pt x="971" y="226"/>
                </a:lnTo>
                <a:lnTo>
                  <a:pt x="961" y="215"/>
                </a:lnTo>
                <a:lnTo>
                  <a:pt x="951" y="204"/>
                </a:lnTo>
                <a:lnTo>
                  <a:pt x="939" y="194"/>
                </a:lnTo>
                <a:lnTo>
                  <a:pt x="928" y="184"/>
                </a:lnTo>
                <a:lnTo>
                  <a:pt x="916" y="175"/>
                </a:lnTo>
                <a:lnTo>
                  <a:pt x="903" y="165"/>
                </a:lnTo>
                <a:lnTo>
                  <a:pt x="890" y="158"/>
                </a:lnTo>
                <a:lnTo>
                  <a:pt x="876" y="149"/>
                </a:lnTo>
                <a:lnTo>
                  <a:pt x="862" y="142"/>
                </a:lnTo>
                <a:lnTo>
                  <a:pt x="847" y="135"/>
                </a:lnTo>
                <a:lnTo>
                  <a:pt x="831" y="129"/>
                </a:lnTo>
                <a:lnTo>
                  <a:pt x="815" y="123"/>
                </a:lnTo>
                <a:lnTo>
                  <a:pt x="799" y="117"/>
                </a:lnTo>
                <a:lnTo>
                  <a:pt x="782" y="112"/>
                </a:lnTo>
                <a:lnTo>
                  <a:pt x="765" y="108"/>
                </a:lnTo>
                <a:lnTo>
                  <a:pt x="747" y="103"/>
                </a:lnTo>
                <a:lnTo>
                  <a:pt x="728" y="100"/>
                </a:lnTo>
                <a:lnTo>
                  <a:pt x="710" y="97"/>
                </a:lnTo>
                <a:lnTo>
                  <a:pt x="689" y="94"/>
                </a:lnTo>
                <a:lnTo>
                  <a:pt x="669" y="92"/>
                </a:lnTo>
                <a:lnTo>
                  <a:pt x="627" y="88"/>
                </a:lnTo>
                <a:lnTo>
                  <a:pt x="584" y="87"/>
                </a:lnTo>
                <a:lnTo>
                  <a:pt x="562" y="88"/>
                </a:lnTo>
                <a:lnTo>
                  <a:pt x="542" y="88"/>
                </a:lnTo>
                <a:lnTo>
                  <a:pt x="523" y="91"/>
                </a:lnTo>
                <a:lnTo>
                  <a:pt x="503" y="92"/>
                </a:lnTo>
                <a:lnTo>
                  <a:pt x="483" y="95"/>
                </a:lnTo>
                <a:lnTo>
                  <a:pt x="465" y="97"/>
                </a:lnTo>
                <a:lnTo>
                  <a:pt x="447" y="100"/>
                </a:lnTo>
                <a:lnTo>
                  <a:pt x="429" y="104"/>
                </a:lnTo>
                <a:lnTo>
                  <a:pt x="411" y="109"/>
                </a:lnTo>
                <a:lnTo>
                  <a:pt x="394" y="114"/>
                </a:lnTo>
                <a:lnTo>
                  <a:pt x="377" y="119"/>
                </a:lnTo>
                <a:lnTo>
                  <a:pt x="361" y="125"/>
                </a:lnTo>
                <a:lnTo>
                  <a:pt x="345" y="131"/>
                </a:lnTo>
                <a:lnTo>
                  <a:pt x="330" y="139"/>
                </a:lnTo>
                <a:lnTo>
                  <a:pt x="314" y="146"/>
                </a:lnTo>
                <a:lnTo>
                  <a:pt x="300" y="153"/>
                </a:lnTo>
                <a:lnTo>
                  <a:pt x="285" y="162"/>
                </a:lnTo>
                <a:lnTo>
                  <a:pt x="272" y="172"/>
                </a:lnTo>
                <a:lnTo>
                  <a:pt x="259" y="180"/>
                </a:lnTo>
                <a:lnTo>
                  <a:pt x="246" y="190"/>
                </a:lnTo>
                <a:lnTo>
                  <a:pt x="236" y="200"/>
                </a:lnTo>
                <a:lnTo>
                  <a:pt x="225" y="210"/>
                </a:lnTo>
                <a:lnTo>
                  <a:pt x="214" y="221"/>
                </a:lnTo>
                <a:lnTo>
                  <a:pt x="206" y="231"/>
                </a:lnTo>
                <a:lnTo>
                  <a:pt x="197" y="243"/>
                </a:lnTo>
                <a:lnTo>
                  <a:pt x="189" y="255"/>
                </a:lnTo>
                <a:lnTo>
                  <a:pt x="182" y="267"/>
                </a:lnTo>
                <a:lnTo>
                  <a:pt x="176" y="279"/>
                </a:lnTo>
                <a:lnTo>
                  <a:pt x="169" y="292"/>
                </a:lnTo>
                <a:lnTo>
                  <a:pt x="165" y="305"/>
                </a:lnTo>
                <a:lnTo>
                  <a:pt x="160" y="319"/>
                </a:lnTo>
                <a:lnTo>
                  <a:pt x="157" y="333"/>
                </a:lnTo>
                <a:lnTo>
                  <a:pt x="1030" y="333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49720" y="1117440"/>
            <a:ext cx="104760" cy="109800"/>
          </a:xfrm>
          <a:custGeom>
            <a:avLst/>
            <a:gdLst/>
            <a:ahLst/>
            <a:rect l="l" t="t" r="r" b="b"/>
            <a:pathLst>
              <a:path w="732" h="761">
                <a:moveTo>
                  <a:pt x="0" y="514"/>
                </a:moveTo>
                <a:lnTo>
                  <a:pt x="152" y="514"/>
                </a:lnTo>
                <a:lnTo>
                  <a:pt x="152" y="517"/>
                </a:lnTo>
                <a:lnTo>
                  <a:pt x="153" y="534"/>
                </a:lnTo>
                <a:lnTo>
                  <a:pt x="156" y="549"/>
                </a:lnTo>
                <a:lnTo>
                  <a:pt x="161" y="565"/>
                </a:lnTo>
                <a:lnTo>
                  <a:pt x="168" y="578"/>
                </a:lnTo>
                <a:lnTo>
                  <a:pt x="176" y="592"/>
                </a:lnTo>
                <a:lnTo>
                  <a:pt x="187" y="605"/>
                </a:lnTo>
                <a:lnTo>
                  <a:pt x="200" y="617"/>
                </a:lnTo>
                <a:lnTo>
                  <a:pt x="215" y="629"/>
                </a:lnTo>
                <a:lnTo>
                  <a:pt x="230" y="639"/>
                </a:lnTo>
                <a:lnTo>
                  <a:pt x="247" y="648"/>
                </a:lnTo>
                <a:lnTo>
                  <a:pt x="265" y="655"/>
                </a:lnTo>
                <a:lnTo>
                  <a:pt x="283" y="662"/>
                </a:lnTo>
                <a:lnTo>
                  <a:pt x="303" y="667"/>
                </a:lnTo>
                <a:lnTo>
                  <a:pt x="324" y="670"/>
                </a:lnTo>
                <a:lnTo>
                  <a:pt x="345" y="672"/>
                </a:lnTo>
                <a:lnTo>
                  <a:pt x="367" y="673"/>
                </a:lnTo>
                <a:lnTo>
                  <a:pt x="389" y="672"/>
                </a:lnTo>
                <a:lnTo>
                  <a:pt x="409" y="671"/>
                </a:lnTo>
                <a:lnTo>
                  <a:pt x="428" y="668"/>
                </a:lnTo>
                <a:lnTo>
                  <a:pt x="447" y="665"/>
                </a:lnTo>
                <a:lnTo>
                  <a:pt x="464" y="660"/>
                </a:lnTo>
                <a:lnTo>
                  <a:pt x="482" y="654"/>
                </a:lnTo>
                <a:lnTo>
                  <a:pt x="498" y="647"/>
                </a:lnTo>
                <a:lnTo>
                  <a:pt x="513" y="639"/>
                </a:lnTo>
                <a:lnTo>
                  <a:pt x="525" y="630"/>
                </a:lnTo>
                <a:lnTo>
                  <a:pt x="537" y="621"/>
                </a:lnTo>
                <a:lnTo>
                  <a:pt x="547" y="610"/>
                </a:lnTo>
                <a:lnTo>
                  <a:pt x="555" y="600"/>
                </a:lnTo>
                <a:lnTo>
                  <a:pt x="562" y="589"/>
                </a:lnTo>
                <a:lnTo>
                  <a:pt x="566" y="577"/>
                </a:lnTo>
                <a:lnTo>
                  <a:pt x="569" y="566"/>
                </a:lnTo>
                <a:lnTo>
                  <a:pt x="570" y="553"/>
                </a:lnTo>
                <a:lnTo>
                  <a:pt x="569" y="540"/>
                </a:lnTo>
                <a:lnTo>
                  <a:pt x="567" y="528"/>
                </a:lnTo>
                <a:lnTo>
                  <a:pt x="564" y="517"/>
                </a:lnTo>
                <a:lnTo>
                  <a:pt x="558" y="506"/>
                </a:lnTo>
                <a:lnTo>
                  <a:pt x="552" y="496"/>
                </a:lnTo>
                <a:lnTo>
                  <a:pt x="545" y="487"/>
                </a:lnTo>
                <a:lnTo>
                  <a:pt x="535" y="477"/>
                </a:lnTo>
                <a:lnTo>
                  <a:pt x="524" y="470"/>
                </a:lnTo>
                <a:lnTo>
                  <a:pt x="511" y="461"/>
                </a:lnTo>
                <a:lnTo>
                  <a:pt x="497" y="454"/>
                </a:lnTo>
                <a:lnTo>
                  <a:pt x="479" y="446"/>
                </a:lnTo>
                <a:lnTo>
                  <a:pt x="460" y="439"/>
                </a:lnTo>
                <a:lnTo>
                  <a:pt x="438" y="431"/>
                </a:lnTo>
                <a:lnTo>
                  <a:pt x="414" y="424"/>
                </a:lnTo>
                <a:lnTo>
                  <a:pt x="388" y="417"/>
                </a:lnTo>
                <a:lnTo>
                  <a:pt x="359" y="410"/>
                </a:lnTo>
                <a:lnTo>
                  <a:pt x="313" y="399"/>
                </a:lnTo>
                <a:lnTo>
                  <a:pt x="271" y="388"/>
                </a:lnTo>
                <a:lnTo>
                  <a:pt x="234" y="378"/>
                </a:lnTo>
                <a:lnTo>
                  <a:pt x="200" y="367"/>
                </a:lnTo>
                <a:lnTo>
                  <a:pt x="171" y="355"/>
                </a:lnTo>
                <a:lnTo>
                  <a:pt x="145" y="345"/>
                </a:lnTo>
                <a:lnTo>
                  <a:pt x="135" y="339"/>
                </a:lnTo>
                <a:lnTo>
                  <a:pt x="125" y="334"/>
                </a:lnTo>
                <a:lnTo>
                  <a:pt x="116" y="329"/>
                </a:lnTo>
                <a:lnTo>
                  <a:pt x="108" y="322"/>
                </a:lnTo>
                <a:lnTo>
                  <a:pt x="94" y="311"/>
                </a:lnTo>
                <a:lnTo>
                  <a:pt x="82" y="299"/>
                </a:lnTo>
                <a:lnTo>
                  <a:pt x="73" y="285"/>
                </a:lnTo>
                <a:lnTo>
                  <a:pt x="64" y="270"/>
                </a:lnTo>
                <a:lnTo>
                  <a:pt x="58" y="255"/>
                </a:lnTo>
                <a:lnTo>
                  <a:pt x="53" y="238"/>
                </a:lnTo>
                <a:lnTo>
                  <a:pt x="50" y="221"/>
                </a:lnTo>
                <a:lnTo>
                  <a:pt x="49" y="203"/>
                </a:lnTo>
                <a:lnTo>
                  <a:pt x="50" y="192"/>
                </a:lnTo>
                <a:lnTo>
                  <a:pt x="51" y="182"/>
                </a:lnTo>
                <a:lnTo>
                  <a:pt x="52" y="172"/>
                </a:lnTo>
                <a:lnTo>
                  <a:pt x="56" y="162"/>
                </a:lnTo>
                <a:lnTo>
                  <a:pt x="59" y="153"/>
                </a:lnTo>
                <a:lnTo>
                  <a:pt x="63" y="143"/>
                </a:lnTo>
                <a:lnTo>
                  <a:pt x="68" y="133"/>
                </a:lnTo>
                <a:lnTo>
                  <a:pt x="74" y="125"/>
                </a:lnTo>
                <a:lnTo>
                  <a:pt x="80" y="115"/>
                </a:lnTo>
                <a:lnTo>
                  <a:pt x="88" y="107"/>
                </a:lnTo>
                <a:lnTo>
                  <a:pt x="96" y="98"/>
                </a:lnTo>
                <a:lnTo>
                  <a:pt x="105" y="90"/>
                </a:lnTo>
                <a:lnTo>
                  <a:pt x="114" y="82"/>
                </a:lnTo>
                <a:lnTo>
                  <a:pt x="125" y="74"/>
                </a:lnTo>
                <a:lnTo>
                  <a:pt x="136" y="66"/>
                </a:lnTo>
                <a:lnTo>
                  <a:pt x="147" y="59"/>
                </a:lnTo>
                <a:lnTo>
                  <a:pt x="160" y="52"/>
                </a:lnTo>
                <a:lnTo>
                  <a:pt x="173" y="45"/>
                </a:lnTo>
                <a:lnTo>
                  <a:pt x="186" y="38"/>
                </a:lnTo>
                <a:lnTo>
                  <a:pt x="199" y="33"/>
                </a:lnTo>
                <a:lnTo>
                  <a:pt x="212" y="28"/>
                </a:lnTo>
                <a:lnTo>
                  <a:pt x="226" y="22"/>
                </a:lnTo>
                <a:lnTo>
                  <a:pt x="241" y="18"/>
                </a:lnTo>
                <a:lnTo>
                  <a:pt x="256" y="15"/>
                </a:lnTo>
                <a:lnTo>
                  <a:pt x="286" y="8"/>
                </a:lnTo>
                <a:lnTo>
                  <a:pt x="318" y="3"/>
                </a:lnTo>
                <a:lnTo>
                  <a:pt x="350" y="1"/>
                </a:lnTo>
                <a:lnTo>
                  <a:pt x="385" y="0"/>
                </a:lnTo>
                <a:lnTo>
                  <a:pt x="421" y="0"/>
                </a:lnTo>
                <a:lnTo>
                  <a:pt x="455" y="3"/>
                </a:lnTo>
                <a:lnTo>
                  <a:pt x="487" y="7"/>
                </a:lnTo>
                <a:lnTo>
                  <a:pt x="518" y="13"/>
                </a:lnTo>
                <a:lnTo>
                  <a:pt x="546" y="20"/>
                </a:lnTo>
                <a:lnTo>
                  <a:pt x="572" y="29"/>
                </a:lnTo>
                <a:lnTo>
                  <a:pt x="585" y="34"/>
                </a:lnTo>
                <a:lnTo>
                  <a:pt x="597" y="39"/>
                </a:lnTo>
                <a:lnTo>
                  <a:pt x="609" y="46"/>
                </a:lnTo>
                <a:lnTo>
                  <a:pt x="620" y="52"/>
                </a:lnTo>
                <a:lnTo>
                  <a:pt x="630" y="59"/>
                </a:lnTo>
                <a:lnTo>
                  <a:pt x="641" y="66"/>
                </a:lnTo>
                <a:lnTo>
                  <a:pt x="649" y="74"/>
                </a:lnTo>
                <a:lnTo>
                  <a:pt x="659" y="81"/>
                </a:lnTo>
                <a:lnTo>
                  <a:pt x="666" y="90"/>
                </a:lnTo>
                <a:lnTo>
                  <a:pt x="674" y="98"/>
                </a:lnTo>
                <a:lnTo>
                  <a:pt x="680" y="107"/>
                </a:lnTo>
                <a:lnTo>
                  <a:pt x="687" y="115"/>
                </a:lnTo>
                <a:lnTo>
                  <a:pt x="692" y="125"/>
                </a:lnTo>
                <a:lnTo>
                  <a:pt x="697" y="134"/>
                </a:lnTo>
                <a:lnTo>
                  <a:pt x="701" y="144"/>
                </a:lnTo>
                <a:lnTo>
                  <a:pt x="705" y="155"/>
                </a:lnTo>
                <a:lnTo>
                  <a:pt x="708" y="165"/>
                </a:lnTo>
                <a:lnTo>
                  <a:pt x="710" y="176"/>
                </a:lnTo>
                <a:lnTo>
                  <a:pt x="712" y="188"/>
                </a:lnTo>
                <a:lnTo>
                  <a:pt x="713" y="198"/>
                </a:lnTo>
                <a:lnTo>
                  <a:pt x="555" y="198"/>
                </a:lnTo>
                <a:lnTo>
                  <a:pt x="553" y="187"/>
                </a:lnTo>
                <a:lnTo>
                  <a:pt x="550" y="175"/>
                </a:lnTo>
                <a:lnTo>
                  <a:pt x="546" y="163"/>
                </a:lnTo>
                <a:lnTo>
                  <a:pt x="539" y="154"/>
                </a:lnTo>
                <a:lnTo>
                  <a:pt x="532" y="144"/>
                </a:lnTo>
                <a:lnTo>
                  <a:pt x="524" y="134"/>
                </a:lnTo>
                <a:lnTo>
                  <a:pt x="514" y="127"/>
                </a:lnTo>
                <a:lnTo>
                  <a:pt x="503" y="119"/>
                </a:lnTo>
                <a:lnTo>
                  <a:pt x="491" y="113"/>
                </a:lnTo>
                <a:lnTo>
                  <a:pt x="477" y="107"/>
                </a:lnTo>
                <a:lnTo>
                  <a:pt x="463" y="102"/>
                </a:lnTo>
                <a:lnTo>
                  <a:pt x="447" y="98"/>
                </a:lnTo>
                <a:lnTo>
                  <a:pt x="431" y="95"/>
                </a:lnTo>
                <a:lnTo>
                  <a:pt x="414" y="93"/>
                </a:lnTo>
                <a:lnTo>
                  <a:pt x="395" y="92"/>
                </a:lnTo>
                <a:lnTo>
                  <a:pt x="376" y="91"/>
                </a:lnTo>
                <a:lnTo>
                  <a:pt x="358" y="92"/>
                </a:lnTo>
                <a:lnTo>
                  <a:pt x="341" y="93"/>
                </a:lnTo>
                <a:lnTo>
                  <a:pt x="325" y="95"/>
                </a:lnTo>
                <a:lnTo>
                  <a:pt x="310" y="98"/>
                </a:lnTo>
                <a:lnTo>
                  <a:pt x="295" y="102"/>
                </a:lnTo>
                <a:lnTo>
                  <a:pt x="281" y="108"/>
                </a:lnTo>
                <a:lnTo>
                  <a:pt x="267" y="114"/>
                </a:lnTo>
                <a:lnTo>
                  <a:pt x="255" y="122"/>
                </a:lnTo>
                <a:lnTo>
                  <a:pt x="243" y="129"/>
                </a:lnTo>
                <a:lnTo>
                  <a:pt x="234" y="138"/>
                </a:lnTo>
                <a:lnTo>
                  <a:pt x="225" y="146"/>
                </a:lnTo>
                <a:lnTo>
                  <a:pt x="219" y="156"/>
                </a:lnTo>
                <a:lnTo>
                  <a:pt x="214" y="165"/>
                </a:lnTo>
                <a:lnTo>
                  <a:pt x="209" y="176"/>
                </a:lnTo>
                <a:lnTo>
                  <a:pt x="207" y="187"/>
                </a:lnTo>
                <a:lnTo>
                  <a:pt x="206" y="197"/>
                </a:lnTo>
                <a:lnTo>
                  <a:pt x="207" y="206"/>
                </a:lnTo>
                <a:lnTo>
                  <a:pt x="208" y="213"/>
                </a:lnTo>
                <a:lnTo>
                  <a:pt x="209" y="221"/>
                </a:lnTo>
                <a:lnTo>
                  <a:pt x="211" y="227"/>
                </a:lnTo>
                <a:lnTo>
                  <a:pt x="215" y="234"/>
                </a:lnTo>
                <a:lnTo>
                  <a:pt x="218" y="240"/>
                </a:lnTo>
                <a:lnTo>
                  <a:pt x="222" y="246"/>
                </a:lnTo>
                <a:lnTo>
                  <a:pt x="226" y="252"/>
                </a:lnTo>
                <a:lnTo>
                  <a:pt x="232" y="257"/>
                </a:lnTo>
                <a:lnTo>
                  <a:pt x="238" y="262"/>
                </a:lnTo>
                <a:lnTo>
                  <a:pt x="246" y="268"/>
                </a:lnTo>
                <a:lnTo>
                  <a:pt x="253" y="273"/>
                </a:lnTo>
                <a:lnTo>
                  <a:pt x="262" y="277"/>
                </a:lnTo>
                <a:lnTo>
                  <a:pt x="271" y="283"/>
                </a:lnTo>
                <a:lnTo>
                  <a:pt x="281" y="287"/>
                </a:lnTo>
                <a:lnTo>
                  <a:pt x="293" y="291"/>
                </a:lnTo>
                <a:lnTo>
                  <a:pt x="303" y="296"/>
                </a:lnTo>
                <a:lnTo>
                  <a:pt x="316" y="300"/>
                </a:lnTo>
                <a:lnTo>
                  <a:pt x="329" y="304"/>
                </a:lnTo>
                <a:lnTo>
                  <a:pt x="344" y="307"/>
                </a:lnTo>
                <a:lnTo>
                  <a:pt x="360" y="312"/>
                </a:lnTo>
                <a:lnTo>
                  <a:pt x="377" y="316"/>
                </a:lnTo>
                <a:lnTo>
                  <a:pt x="395" y="319"/>
                </a:lnTo>
                <a:lnTo>
                  <a:pt x="415" y="323"/>
                </a:lnTo>
                <a:lnTo>
                  <a:pt x="435" y="327"/>
                </a:lnTo>
                <a:lnTo>
                  <a:pt x="452" y="331"/>
                </a:lnTo>
                <a:lnTo>
                  <a:pt x="468" y="334"/>
                </a:lnTo>
                <a:lnTo>
                  <a:pt x="482" y="336"/>
                </a:lnTo>
                <a:lnTo>
                  <a:pt x="494" y="339"/>
                </a:lnTo>
                <a:lnTo>
                  <a:pt x="505" y="341"/>
                </a:lnTo>
                <a:lnTo>
                  <a:pt x="515" y="344"/>
                </a:lnTo>
                <a:lnTo>
                  <a:pt x="522" y="346"/>
                </a:lnTo>
                <a:lnTo>
                  <a:pt x="549" y="353"/>
                </a:lnTo>
                <a:lnTo>
                  <a:pt x="573" y="362"/>
                </a:lnTo>
                <a:lnTo>
                  <a:pt x="596" y="370"/>
                </a:lnTo>
                <a:lnTo>
                  <a:pt x="616" y="379"/>
                </a:lnTo>
                <a:lnTo>
                  <a:pt x="635" y="389"/>
                </a:lnTo>
                <a:lnTo>
                  <a:pt x="652" y="400"/>
                </a:lnTo>
                <a:lnTo>
                  <a:pt x="667" y="411"/>
                </a:lnTo>
                <a:lnTo>
                  <a:pt x="681" y="423"/>
                </a:lnTo>
                <a:lnTo>
                  <a:pt x="693" y="435"/>
                </a:lnTo>
                <a:lnTo>
                  <a:pt x="704" y="448"/>
                </a:lnTo>
                <a:lnTo>
                  <a:pt x="712" y="462"/>
                </a:lnTo>
                <a:lnTo>
                  <a:pt x="720" y="477"/>
                </a:lnTo>
                <a:lnTo>
                  <a:pt x="725" y="493"/>
                </a:lnTo>
                <a:lnTo>
                  <a:pt x="729" y="509"/>
                </a:lnTo>
                <a:lnTo>
                  <a:pt x="731" y="527"/>
                </a:lnTo>
                <a:lnTo>
                  <a:pt x="732" y="545"/>
                </a:lnTo>
                <a:lnTo>
                  <a:pt x="731" y="556"/>
                </a:lnTo>
                <a:lnTo>
                  <a:pt x="730" y="568"/>
                </a:lnTo>
                <a:lnTo>
                  <a:pt x="728" y="578"/>
                </a:lnTo>
                <a:lnTo>
                  <a:pt x="726" y="589"/>
                </a:lnTo>
                <a:lnTo>
                  <a:pt x="722" y="600"/>
                </a:lnTo>
                <a:lnTo>
                  <a:pt x="718" y="610"/>
                </a:lnTo>
                <a:lnTo>
                  <a:pt x="712" y="620"/>
                </a:lnTo>
                <a:lnTo>
                  <a:pt x="706" y="631"/>
                </a:lnTo>
                <a:lnTo>
                  <a:pt x="699" y="640"/>
                </a:lnTo>
                <a:lnTo>
                  <a:pt x="692" y="649"/>
                </a:lnTo>
                <a:lnTo>
                  <a:pt x="683" y="658"/>
                </a:lnTo>
                <a:lnTo>
                  <a:pt x="674" y="667"/>
                </a:lnTo>
                <a:lnTo>
                  <a:pt x="664" y="676"/>
                </a:lnTo>
                <a:lnTo>
                  <a:pt x="652" y="684"/>
                </a:lnTo>
                <a:lnTo>
                  <a:pt x="641" y="692"/>
                </a:lnTo>
                <a:lnTo>
                  <a:pt x="629" y="700"/>
                </a:lnTo>
                <a:lnTo>
                  <a:pt x="615" y="706"/>
                </a:lnTo>
                <a:lnTo>
                  <a:pt x="601" y="714"/>
                </a:lnTo>
                <a:lnTo>
                  <a:pt x="587" y="720"/>
                </a:lnTo>
                <a:lnTo>
                  <a:pt x="573" y="727"/>
                </a:lnTo>
                <a:lnTo>
                  <a:pt x="558" y="732"/>
                </a:lnTo>
                <a:lnTo>
                  <a:pt x="542" y="736"/>
                </a:lnTo>
                <a:lnTo>
                  <a:pt x="526" y="742"/>
                </a:lnTo>
                <a:lnTo>
                  <a:pt x="510" y="745"/>
                </a:lnTo>
                <a:lnTo>
                  <a:pt x="494" y="749"/>
                </a:lnTo>
                <a:lnTo>
                  <a:pt x="477" y="752"/>
                </a:lnTo>
                <a:lnTo>
                  <a:pt x="459" y="755"/>
                </a:lnTo>
                <a:lnTo>
                  <a:pt x="441" y="757"/>
                </a:lnTo>
                <a:lnTo>
                  <a:pt x="404" y="760"/>
                </a:lnTo>
                <a:lnTo>
                  <a:pt x="365" y="761"/>
                </a:lnTo>
                <a:lnTo>
                  <a:pt x="345" y="761"/>
                </a:lnTo>
                <a:lnTo>
                  <a:pt x="326" y="760"/>
                </a:lnTo>
                <a:lnTo>
                  <a:pt x="306" y="759"/>
                </a:lnTo>
                <a:lnTo>
                  <a:pt x="288" y="757"/>
                </a:lnTo>
                <a:lnTo>
                  <a:pt x="270" y="755"/>
                </a:lnTo>
                <a:lnTo>
                  <a:pt x="252" y="751"/>
                </a:lnTo>
                <a:lnTo>
                  <a:pt x="235" y="748"/>
                </a:lnTo>
                <a:lnTo>
                  <a:pt x="219" y="744"/>
                </a:lnTo>
                <a:lnTo>
                  <a:pt x="203" y="740"/>
                </a:lnTo>
                <a:lnTo>
                  <a:pt x="187" y="734"/>
                </a:lnTo>
                <a:lnTo>
                  <a:pt x="172" y="729"/>
                </a:lnTo>
                <a:lnTo>
                  <a:pt x="157" y="724"/>
                </a:lnTo>
                <a:lnTo>
                  <a:pt x="143" y="717"/>
                </a:lnTo>
                <a:lnTo>
                  <a:pt x="129" y="710"/>
                </a:lnTo>
                <a:lnTo>
                  <a:pt x="116" y="702"/>
                </a:lnTo>
                <a:lnTo>
                  <a:pt x="104" y="694"/>
                </a:lnTo>
                <a:lnTo>
                  <a:pt x="92" y="685"/>
                </a:lnTo>
                <a:lnTo>
                  <a:pt x="80" y="677"/>
                </a:lnTo>
                <a:lnTo>
                  <a:pt x="70" y="667"/>
                </a:lnTo>
                <a:lnTo>
                  <a:pt x="60" y="657"/>
                </a:lnTo>
                <a:lnTo>
                  <a:pt x="51" y="648"/>
                </a:lnTo>
                <a:lnTo>
                  <a:pt x="43" y="637"/>
                </a:lnTo>
                <a:lnTo>
                  <a:pt x="35" y="626"/>
                </a:lnTo>
                <a:lnTo>
                  <a:pt x="29" y="616"/>
                </a:lnTo>
                <a:lnTo>
                  <a:pt x="22" y="604"/>
                </a:lnTo>
                <a:lnTo>
                  <a:pt x="17" y="592"/>
                </a:lnTo>
                <a:lnTo>
                  <a:pt x="13" y="581"/>
                </a:lnTo>
                <a:lnTo>
                  <a:pt x="9" y="568"/>
                </a:lnTo>
                <a:lnTo>
                  <a:pt x="5" y="555"/>
                </a:lnTo>
                <a:lnTo>
                  <a:pt x="3" y="541"/>
                </a:lnTo>
                <a:lnTo>
                  <a:pt x="1" y="528"/>
                </a:lnTo>
                <a:lnTo>
                  <a:pt x="0" y="514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481120" y="1063800"/>
            <a:ext cx="974880" cy="204480"/>
          </a:xfrm>
          <a:prstGeom prst="rect">
            <a:avLst/>
          </a:prstGeom>
          <a:solidFill>
            <a:srgbClr val="cbd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02000" y="1076400"/>
            <a:ext cx="196920" cy="137880"/>
          </a:xfrm>
          <a:custGeom>
            <a:avLst/>
            <a:gdLst/>
            <a:ahLst/>
            <a:rect l="l" t="t" r="r" b="b"/>
            <a:pathLst>
              <a:path w="1365" h="957">
                <a:moveTo>
                  <a:pt x="159" y="957"/>
                </a:moveTo>
                <a:lnTo>
                  <a:pt x="0" y="957"/>
                </a:lnTo>
                <a:lnTo>
                  <a:pt x="593" y="0"/>
                </a:lnTo>
                <a:lnTo>
                  <a:pt x="773" y="0"/>
                </a:lnTo>
                <a:lnTo>
                  <a:pt x="1365" y="957"/>
                </a:lnTo>
                <a:lnTo>
                  <a:pt x="1204" y="957"/>
                </a:lnTo>
                <a:lnTo>
                  <a:pt x="1022" y="657"/>
                </a:lnTo>
                <a:lnTo>
                  <a:pt x="342" y="657"/>
                </a:lnTo>
                <a:lnTo>
                  <a:pt x="159" y="957"/>
                </a:lnTo>
                <a:close/>
                <a:moveTo>
                  <a:pt x="968" y="571"/>
                </a:moveTo>
                <a:lnTo>
                  <a:pt x="679" y="89"/>
                </a:lnTo>
                <a:lnTo>
                  <a:pt x="394" y="571"/>
                </a:lnTo>
                <a:lnTo>
                  <a:pt x="968" y="571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38520" y="1076400"/>
            <a:ext cx="22320" cy="137880"/>
          </a:xfrm>
          <a:prstGeom prst="rect">
            <a:avLst/>
          </a:pr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108080"/>
            <a:ext cx="171360" cy="139680"/>
          </a:xfrm>
          <a:custGeom>
            <a:avLst/>
            <a:gdLst/>
            <a:ahLst/>
            <a:rect l="l" t="t" r="r" b="b"/>
            <a:pathLst>
              <a:path w="1179" h="973">
                <a:moveTo>
                  <a:pt x="0" y="15"/>
                </a:moveTo>
                <a:lnTo>
                  <a:pt x="146" y="15"/>
                </a:lnTo>
                <a:lnTo>
                  <a:pt x="146" y="133"/>
                </a:lnTo>
                <a:lnTo>
                  <a:pt x="162" y="118"/>
                </a:lnTo>
                <a:lnTo>
                  <a:pt x="180" y="104"/>
                </a:lnTo>
                <a:lnTo>
                  <a:pt x="200" y="91"/>
                </a:lnTo>
                <a:lnTo>
                  <a:pt x="222" y="79"/>
                </a:lnTo>
                <a:lnTo>
                  <a:pt x="245" y="67"/>
                </a:lnTo>
                <a:lnTo>
                  <a:pt x="271" y="55"/>
                </a:lnTo>
                <a:lnTo>
                  <a:pt x="297" y="46"/>
                </a:lnTo>
                <a:lnTo>
                  <a:pt x="325" y="36"/>
                </a:lnTo>
                <a:lnTo>
                  <a:pt x="355" y="27"/>
                </a:lnTo>
                <a:lnTo>
                  <a:pt x="385" y="20"/>
                </a:lnTo>
                <a:lnTo>
                  <a:pt x="415" y="14"/>
                </a:lnTo>
                <a:lnTo>
                  <a:pt x="446" y="8"/>
                </a:lnTo>
                <a:lnTo>
                  <a:pt x="478" y="4"/>
                </a:lnTo>
                <a:lnTo>
                  <a:pt x="509" y="2"/>
                </a:lnTo>
                <a:lnTo>
                  <a:pt x="542" y="0"/>
                </a:lnTo>
                <a:lnTo>
                  <a:pt x="574" y="0"/>
                </a:lnTo>
                <a:lnTo>
                  <a:pt x="607" y="0"/>
                </a:lnTo>
                <a:lnTo>
                  <a:pt x="638" y="1"/>
                </a:lnTo>
                <a:lnTo>
                  <a:pt x="669" y="3"/>
                </a:lnTo>
                <a:lnTo>
                  <a:pt x="700" y="6"/>
                </a:lnTo>
                <a:lnTo>
                  <a:pt x="729" y="10"/>
                </a:lnTo>
                <a:lnTo>
                  <a:pt x="758" y="15"/>
                </a:lnTo>
                <a:lnTo>
                  <a:pt x="786" y="20"/>
                </a:lnTo>
                <a:lnTo>
                  <a:pt x="813" y="26"/>
                </a:lnTo>
                <a:lnTo>
                  <a:pt x="840" y="34"/>
                </a:lnTo>
                <a:lnTo>
                  <a:pt x="867" y="42"/>
                </a:lnTo>
                <a:lnTo>
                  <a:pt x="891" y="51"/>
                </a:lnTo>
                <a:lnTo>
                  <a:pt x="916" y="60"/>
                </a:lnTo>
                <a:lnTo>
                  <a:pt x="940" y="71"/>
                </a:lnTo>
                <a:lnTo>
                  <a:pt x="964" y="83"/>
                </a:lnTo>
                <a:lnTo>
                  <a:pt x="986" y="95"/>
                </a:lnTo>
                <a:lnTo>
                  <a:pt x="1007" y="108"/>
                </a:lnTo>
                <a:lnTo>
                  <a:pt x="1028" y="122"/>
                </a:lnTo>
                <a:lnTo>
                  <a:pt x="1048" y="136"/>
                </a:lnTo>
                <a:lnTo>
                  <a:pt x="1066" y="151"/>
                </a:lnTo>
                <a:lnTo>
                  <a:pt x="1082" y="166"/>
                </a:lnTo>
                <a:lnTo>
                  <a:pt x="1098" y="181"/>
                </a:lnTo>
                <a:lnTo>
                  <a:pt x="1112" y="197"/>
                </a:lnTo>
                <a:lnTo>
                  <a:pt x="1125" y="214"/>
                </a:lnTo>
                <a:lnTo>
                  <a:pt x="1136" y="230"/>
                </a:lnTo>
                <a:lnTo>
                  <a:pt x="1146" y="247"/>
                </a:lnTo>
                <a:lnTo>
                  <a:pt x="1155" y="265"/>
                </a:lnTo>
                <a:lnTo>
                  <a:pt x="1162" y="284"/>
                </a:lnTo>
                <a:lnTo>
                  <a:pt x="1169" y="302"/>
                </a:lnTo>
                <a:lnTo>
                  <a:pt x="1173" y="321"/>
                </a:lnTo>
                <a:lnTo>
                  <a:pt x="1176" y="340"/>
                </a:lnTo>
                <a:lnTo>
                  <a:pt x="1178" y="360"/>
                </a:lnTo>
                <a:lnTo>
                  <a:pt x="1179" y="380"/>
                </a:lnTo>
                <a:lnTo>
                  <a:pt x="1178" y="400"/>
                </a:lnTo>
                <a:lnTo>
                  <a:pt x="1176" y="419"/>
                </a:lnTo>
                <a:lnTo>
                  <a:pt x="1173" y="438"/>
                </a:lnTo>
                <a:lnTo>
                  <a:pt x="1169" y="456"/>
                </a:lnTo>
                <a:lnTo>
                  <a:pt x="1162" y="475"/>
                </a:lnTo>
                <a:lnTo>
                  <a:pt x="1155" y="493"/>
                </a:lnTo>
                <a:lnTo>
                  <a:pt x="1146" y="510"/>
                </a:lnTo>
                <a:lnTo>
                  <a:pt x="1137" y="527"/>
                </a:lnTo>
                <a:lnTo>
                  <a:pt x="1125" y="543"/>
                </a:lnTo>
                <a:lnTo>
                  <a:pt x="1113" y="560"/>
                </a:lnTo>
                <a:lnTo>
                  <a:pt x="1099" y="575"/>
                </a:lnTo>
                <a:lnTo>
                  <a:pt x="1083" y="591"/>
                </a:lnTo>
                <a:lnTo>
                  <a:pt x="1067" y="606"/>
                </a:lnTo>
                <a:lnTo>
                  <a:pt x="1049" y="621"/>
                </a:lnTo>
                <a:lnTo>
                  <a:pt x="1030" y="635"/>
                </a:lnTo>
                <a:lnTo>
                  <a:pt x="1010" y="649"/>
                </a:lnTo>
                <a:lnTo>
                  <a:pt x="988" y="661"/>
                </a:lnTo>
                <a:lnTo>
                  <a:pt x="966" y="674"/>
                </a:lnTo>
                <a:lnTo>
                  <a:pt x="943" y="686"/>
                </a:lnTo>
                <a:lnTo>
                  <a:pt x="920" y="697"/>
                </a:lnTo>
                <a:lnTo>
                  <a:pt x="895" y="706"/>
                </a:lnTo>
                <a:lnTo>
                  <a:pt x="871" y="715"/>
                </a:lnTo>
                <a:lnTo>
                  <a:pt x="845" y="723"/>
                </a:lnTo>
                <a:lnTo>
                  <a:pt x="819" y="731"/>
                </a:lnTo>
                <a:lnTo>
                  <a:pt x="792" y="737"/>
                </a:lnTo>
                <a:lnTo>
                  <a:pt x="765" y="742"/>
                </a:lnTo>
                <a:lnTo>
                  <a:pt x="736" y="747"/>
                </a:lnTo>
                <a:lnTo>
                  <a:pt x="707" y="751"/>
                </a:lnTo>
                <a:lnTo>
                  <a:pt x="679" y="754"/>
                </a:lnTo>
                <a:lnTo>
                  <a:pt x="649" y="756"/>
                </a:lnTo>
                <a:lnTo>
                  <a:pt x="618" y="757"/>
                </a:lnTo>
                <a:lnTo>
                  <a:pt x="587" y="757"/>
                </a:lnTo>
                <a:lnTo>
                  <a:pt x="552" y="757"/>
                </a:lnTo>
                <a:lnTo>
                  <a:pt x="517" y="755"/>
                </a:lnTo>
                <a:lnTo>
                  <a:pt x="484" y="753"/>
                </a:lnTo>
                <a:lnTo>
                  <a:pt x="452" y="749"/>
                </a:lnTo>
                <a:lnTo>
                  <a:pt x="421" y="745"/>
                </a:lnTo>
                <a:lnTo>
                  <a:pt x="391" y="738"/>
                </a:lnTo>
                <a:lnTo>
                  <a:pt x="362" y="732"/>
                </a:lnTo>
                <a:lnTo>
                  <a:pt x="333" y="723"/>
                </a:lnTo>
                <a:lnTo>
                  <a:pt x="305" y="715"/>
                </a:lnTo>
                <a:lnTo>
                  <a:pt x="279" y="704"/>
                </a:lnTo>
                <a:lnTo>
                  <a:pt x="254" y="693"/>
                </a:lnTo>
                <a:lnTo>
                  <a:pt x="229" y="682"/>
                </a:lnTo>
                <a:lnTo>
                  <a:pt x="207" y="669"/>
                </a:lnTo>
                <a:lnTo>
                  <a:pt x="185" y="655"/>
                </a:lnTo>
                <a:lnTo>
                  <a:pt x="165" y="640"/>
                </a:lnTo>
                <a:lnTo>
                  <a:pt x="146" y="624"/>
                </a:lnTo>
                <a:lnTo>
                  <a:pt x="146" y="674"/>
                </a:lnTo>
                <a:lnTo>
                  <a:pt x="146" y="782"/>
                </a:lnTo>
                <a:lnTo>
                  <a:pt x="146" y="973"/>
                </a:lnTo>
                <a:lnTo>
                  <a:pt x="0" y="973"/>
                </a:lnTo>
                <a:lnTo>
                  <a:pt x="0" y="15"/>
                </a:lnTo>
                <a:close/>
                <a:moveTo>
                  <a:pt x="146" y="372"/>
                </a:moveTo>
                <a:lnTo>
                  <a:pt x="146" y="387"/>
                </a:lnTo>
                <a:lnTo>
                  <a:pt x="148" y="402"/>
                </a:lnTo>
                <a:lnTo>
                  <a:pt x="150" y="417"/>
                </a:lnTo>
                <a:lnTo>
                  <a:pt x="153" y="432"/>
                </a:lnTo>
                <a:lnTo>
                  <a:pt x="159" y="446"/>
                </a:lnTo>
                <a:lnTo>
                  <a:pt x="164" y="460"/>
                </a:lnTo>
                <a:lnTo>
                  <a:pt x="170" y="474"/>
                </a:lnTo>
                <a:lnTo>
                  <a:pt x="178" y="486"/>
                </a:lnTo>
                <a:lnTo>
                  <a:pt x="186" y="500"/>
                </a:lnTo>
                <a:lnTo>
                  <a:pt x="196" y="513"/>
                </a:lnTo>
                <a:lnTo>
                  <a:pt x="207" y="525"/>
                </a:lnTo>
                <a:lnTo>
                  <a:pt x="218" y="538"/>
                </a:lnTo>
                <a:lnTo>
                  <a:pt x="231" y="549"/>
                </a:lnTo>
                <a:lnTo>
                  <a:pt x="245" y="561"/>
                </a:lnTo>
                <a:lnTo>
                  <a:pt x="260" y="573"/>
                </a:lnTo>
                <a:lnTo>
                  <a:pt x="275" y="583"/>
                </a:lnTo>
                <a:lnTo>
                  <a:pt x="292" y="594"/>
                </a:lnTo>
                <a:lnTo>
                  <a:pt x="309" y="604"/>
                </a:lnTo>
                <a:lnTo>
                  <a:pt x="326" y="613"/>
                </a:lnTo>
                <a:lnTo>
                  <a:pt x="343" y="622"/>
                </a:lnTo>
                <a:lnTo>
                  <a:pt x="362" y="630"/>
                </a:lnTo>
                <a:lnTo>
                  <a:pt x="380" y="637"/>
                </a:lnTo>
                <a:lnTo>
                  <a:pt x="398" y="643"/>
                </a:lnTo>
                <a:lnTo>
                  <a:pt x="417" y="650"/>
                </a:lnTo>
                <a:lnTo>
                  <a:pt x="436" y="655"/>
                </a:lnTo>
                <a:lnTo>
                  <a:pt x="457" y="659"/>
                </a:lnTo>
                <a:lnTo>
                  <a:pt x="477" y="662"/>
                </a:lnTo>
                <a:lnTo>
                  <a:pt x="497" y="666"/>
                </a:lnTo>
                <a:lnTo>
                  <a:pt x="517" y="669"/>
                </a:lnTo>
                <a:lnTo>
                  <a:pt x="539" y="670"/>
                </a:lnTo>
                <a:lnTo>
                  <a:pt x="560" y="671"/>
                </a:lnTo>
                <a:lnTo>
                  <a:pt x="583" y="671"/>
                </a:lnTo>
                <a:lnTo>
                  <a:pt x="605" y="671"/>
                </a:lnTo>
                <a:lnTo>
                  <a:pt x="626" y="670"/>
                </a:lnTo>
                <a:lnTo>
                  <a:pt x="649" y="669"/>
                </a:lnTo>
                <a:lnTo>
                  <a:pt x="670" y="667"/>
                </a:lnTo>
                <a:lnTo>
                  <a:pt x="690" y="663"/>
                </a:lnTo>
                <a:lnTo>
                  <a:pt x="711" y="659"/>
                </a:lnTo>
                <a:lnTo>
                  <a:pt x="731" y="655"/>
                </a:lnTo>
                <a:lnTo>
                  <a:pt x="751" y="651"/>
                </a:lnTo>
                <a:lnTo>
                  <a:pt x="770" y="645"/>
                </a:lnTo>
                <a:lnTo>
                  <a:pt x="789" y="639"/>
                </a:lnTo>
                <a:lnTo>
                  <a:pt x="808" y="633"/>
                </a:lnTo>
                <a:lnTo>
                  <a:pt x="825" y="624"/>
                </a:lnTo>
                <a:lnTo>
                  <a:pt x="843" y="617"/>
                </a:lnTo>
                <a:lnTo>
                  <a:pt x="860" y="608"/>
                </a:lnTo>
                <a:lnTo>
                  <a:pt x="877" y="598"/>
                </a:lnTo>
                <a:lnTo>
                  <a:pt x="893" y="588"/>
                </a:lnTo>
                <a:lnTo>
                  <a:pt x="909" y="578"/>
                </a:lnTo>
                <a:lnTo>
                  <a:pt x="924" y="566"/>
                </a:lnTo>
                <a:lnTo>
                  <a:pt x="938" y="556"/>
                </a:lnTo>
                <a:lnTo>
                  <a:pt x="951" y="544"/>
                </a:lnTo>
                <a:lnTo>
                  <a:pt x="963" y="532"/>
                </a:lnTo>
                <a:lnTo>
                  <a:pt x="973" y="520"/>
                </a:lnTo>
                <a:lnTo>
                  <a:pt x="983" y="508"/>
                </a:lnTo>
                <a:lnTo>
                  <a:pt x="991" y="496"/>
                </a:lnTo>
                <a:lnTo>
                  <a:pt x="999" y="483"/>
                </a:lnTo>
                <a:lnTo>
                  <a:pt x="1005" y="469"/>
                </a:lnTo>
                <a:lnTo>
                  <a:pt x="1011" y="456"/>
                </a:lnTo>
                <a:lnTo>
                  <a:pt x="1015" y="443"/>
                </a:lnTo>
                <a:lnTo>
                  <a:pt x="1019" y="428"/>
                </a:lnTo>
                <a:lnTo>
                  <a:pt x="1021" y="414"/>
                </a:lnTo>
                <a:lnTo>
                  <a:pt x="1023" y="399"/>
                </a:lnTo>
                <a:lnTo>
                  <a:pt x="1023" y="384"/>
                </a:lnTo>
                <a:lnTo>
                  <a:pt x="1023" y="368"/>
                </a:lnTo>
                <a:lnTo>
                  <a:pt x="1021" y="353"/>
                </a:lnTo>
                <a:lnTo>
                  <a:pt x="1019" y="338"/>
                </a:lnTo>
                <a:lnTo>
                  <a:pt x="1015" y="323"/>
                </a:lnTo>
                <a:lnTo>
                  <a:pt x="1011" y="309"/>
                </a:lnTo>
                <a:lnTo>
                  <a:pt x="1005" y="294"/>
                </a:lnTo>
                <a:lnTo>
                  <a:pt x="999" y="280"/>
                </a:lnTo>
                <a:lnTo>
                  <a:pt x="990" y="268"/>
                </a:lnTo>
                <a:lnTo>
                  <a:pt x="982" y="255"/>
                </a:lnTo>
                <a:lnTo>
                  <a:pt x="972" y="242"/>
                </a:lnTo>
                <a:lnTo>
                  <a:pt x="962" y="229"/>
                </a:lnTo>
                <a:lnTo>
                  <a:pt x="950" y="216"/>
                </a:lnTo>
                <a:lnTo>
                  <a:pt x="937" y="205"/>
                </a:lnTo>
                <a:lnTo>
                  <a:pt x="923" y="193"/>
                </a:lnTo>
                <a:lnTo>
                  <a:pt x="908" y="182"/>
                </a:lnTo>
                <a:lnTo>
                  <a:pt x="893" y="171"/>
                </a:lnTo>
                <a:lnTo>
                  <a:pt x="876" y="161"/>
                </a:lnTo>
                <a:lnTo>
                  <a:pt x="859" y="151"/>
                </a:lnTo>
                <a:lnTo>
                  <a:pt x="842" y="142"/>
                </a:lnTo>
                <a:lnTo>
                  <a:pt x="824" y="134"/>
                </a:lnTo>
                <a:lnTo>
                  <a:pt x="806" y="126"/>
                </a:lnTo>
                <a:lnTo>
                  <a:pt x="788" y="119"/>
                </a:lnTo>
                <a:lnTo>
                  <a:pt x="768" y="113"/>
                </a:lnTo>
                <a:lnTo>
                  <a:pt x="749" y="106"/>
                </a:lnTo>
                <a:lnTo>
                  <a:pt x="729" y="102"/>
                </a:lnTo>
                <a:lnTo>
                  <a:pt x="709" y="98"/>
                </a:lnTo>
                <a:lnTo>
                  <a:pt x="687" y="94"/>
                </a:lnTo>
                <a:lnTo>
                  <a:pt x="666" y="90"/>
                </a:lnTo>
                <a:lnTo>
                  <a:pt x="644" y="88"/>
                </a:lnTo>
                <a:lnTo>
                  <a:pt x="622" y="87"/>
                </a:lnTo>
                <a:lnTo>
                  <a:pt x="600" y="86"/>
                </a:lnTo>
                <a:lnTo>
                  <a:pt x="576" y="85"/>
                </a:lnTo>
                <a:lnTo>
                  <a:pt x="556" y="86"/>
                </a:lnTo>
                <a:lnTo>
                  <a:pt x="534" y="87"/>
                </a:lnTo>
                <a:lnTo>
                  <a:pt x="514" y="88"/>
                </a:lnTo>
                <a:lnTo>
                  <a:pt x="494" y="90"/>
                </a:lnTo>
                <a:lnTo>
                  <a:pt x="474" y="94"/>
                </a:lnTo>
                <a:lnTo>
                  <a:pt x="454" y="98"/>
                </a:lnTo>
                <a:lnTo>
                  <a:pt x="435" y="102"/>
                </a:lnTo>
                <a:lnTo>
                  <a:pt x="416" y="107"/>
                </a:lnTo>
                <a:lnTo>
                  <a:pt x="397" y="113"/>
                </a:lnTo>
                <a:lnTo>
                  <a:pt x="379" y="119"/>
                </a:lnTo>
                <a:lnTo>
                  <a:pt x="360" y="127"/>
                </a:lnTo>
                <a:lnTo>
                  <a:pt x="343" y="134"/>
                </a:lnTo>
                <a:lnTo>
                  <a:pt x="325" y="143"/>
                </a:lnTo>
                <a:lnTo>
                  <a:pt x="308" y="151"/>
                </a:lnTo>
                <a:lnTo>
                  <a:pt x="292" y="161"/>
                </a:lnTo>
                <a:lnTo>
                  <a:pt x="275" y="171"/>
                </a:lnTo>
                <a:lnTo>
                  <a:pt x="260" y="182"/>
                </a:lnTo>
                <a:lnTo>
                  <a:pt x="245" y="194"/>
                </a:lnTo>
                <a:lnTo>
                  <a:pt x="231" y="205"/>
                </a:lnTo>
                <a:lnTo>
                  <a:pt x="218" y="216"/>
                </a:lnTo>
                <a:lnTo>
                  <a:pt x="207" y="228"/>
                </a:lnTo>
                <a:lnTo>
                  <a:pt x="196" y="240"/>
                </a:lnTo>
                <a:lnTo>
                  <a:pt x="186" y="253"/>
                </a:lnTo>
                <a:lnTo>
                  <a:pt x="178" y="264"/>
                </a:lnTo>
                <a:lnTo>
                  <a:pt x="170" y="277"/>
                </a:lnTo>
                <a:lnTo>
                  <a:pt x="164" y="290"/>
                </a:lnTo>
                <a:lnTo>
                  <a:pt x="159" y="304"/>
                </a:lnTo>
                <a:lnTo>
                  <a:pt x="153" y="317"/>
                </a:lnTo>
                <a:lnTo>
                  <a:pt x="150" y="330"/>
                </a:lnTo>
                <a:lnTo>
                  <a:pt x="148" y="344"/>
                </a:lnTo>
                <a:lnTo>
                  <a:pt x="146" y="358"/>
                </a:lnTo>
                <a:lnTo>
                  <a:pt x="146" y="372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33720" y="1106640"/>
            <a:ext cx="171360" cy="109440"/>
          </a:xfrm>
          <a:custGeom>
            <a:avLst/>
            <a:gdLst/>
            <a:ahLst/>
            <a:rect l="l" t="t" r="r" b="b"/>
            <a:pathLst>
              <a:path w="1195" h="763">
                <a:moveTo>
                  <a:pt x="1195" y="411"/>
                </a:moveTo>
                <a:lnTo>
                  <a:pt x="153" y="411"/>
                </a:lnTo>
                <a:lnTo>
                  <a:pt x="155" y="426"/>
                </a:lnTo>
                <a:lnTo>
                  <a:pt x="158" y="440"/>
                </a:lnTo>
                <a:lnTo>
                  <a:pt x="161" y="454"/>
                </a:lnTo>
                <a:lnTo>
                  <a:pt x="167" y="468"/>
                </a:lnTo>
                <a:lnTo>
                  <a:pt x="172" y="481"/>
                </a:lnTo>
                <a:lnTo>
                  <a:pt x="179" y="493"/>
                </a:lnTo>
                <a:lnTo>
                  <a:pt x="186" y="506"/>
                </a:lnTo>
                <a:lnTo>
                  <a:pt x="193" y="518"/>
                </a:lnTo>
                <a:lnTo>
                  <a:pt x="203" y="530"/>
                </a:lnTo>
                <a:lnTo>
                  <a:pt x="213" y="541"/>
                </a:lnTo>
                <a:lnTo>
                  <a:pt x="223" y="552"/>
                </a:lnTo>
                <a:lnTo>
                  <a:pt x="235" y="563"/>
                </a:lnTo>
                <a:lnTo>
                  <a:pt x="247" y="573"/>
                </a:lnTo>
                <a:lnTo>
                  <a:pt x="261" y="583"/>
                </a:lnTo>
                <a:lnTo>
                  <a:pt x="275" y="593"/>
                </a:lnTo>
                <a:lnTo>
                  <a:pt x="290" y="602"/>
                </a:lnTo>
                <a:lnTo>
                  <a:pt x="306" y="611"/>
                </a:lnTo>
                <a:lnTo>
                  <a:pt x="322" y="619"/>
                </a:lnTo>
                <a:lnTo>
                  <a:pt x="338" y="627"/>
                </a:lnTo>
                <a:lnTo>
                  <a:pt x="355" y="634"/>
                </a:lnTo>
                <a:lnTo>
                  <a:pt x="372" y="641"/>
                </a:lnTo>
                <a:lnTo>
                  <a:pt x="390" y="647"/>
                </a:lnTo>
                <a:lnTo>
                  <a:pt x="408" y="652"/>
                </a:lnTo>
                <a:lnTo>
                  <a:pt x="427" y="657"/>
                </a:lnTo>
                <a:lnTo>
                  <a:pt x="446" y="661"/>
                </a:lnTo>
                <a:lnTo>
                  <a:pt x="467" y="665"/>
                </a:lnTo>
                <a:lnTo>
                  <a:pt x="487" y="668"/>
                </a:lnTo>
                <a:lnTo>
                  <a:pt x="507" y="671"/>
                </a:lnTo>
                <a:lnTo>
                  <a:pt x="529" y="673"/>
                </a:lnTo>
                <a:lnTo>
                  <a:pt x="551" y="674"/>
                </a:lnTo>
                <a:lnTo>
                  <a:pt x="572" y="675"/>
                </a:lnTo>
                <a:lnTo>
                  <a:pt x="596" y="675"/>
                </a:lnTo>
                <a:lnTo>
                  <a:pt x="628" y="675"/>
                </a:lnTo>
                <a:lnTo>
                  <a:pt x="659" y="673"/>
                </a:lnTo>
                <a:lnTo>
                  <a:pt x="690" y="670"/>
                </a:lnTo>
                <a:lnTo>
                  <a:pt x="719" y="664"/>
                </a:lnTo>
                <a:lnTo>
                  <a:pt x="748" y="659"/>
                </a:lnTo>
                <a:lnTo>
                  <a:pt x="776" y="651"/>
                </a:lnTo>
                <a:lnTo>
                  <a:pt x="803" y="643"/>
                </a:lnTo>
                <a:lnTo>
                  <a:pt x="830" y="633"/>
                </a:lnTo>
                <a:lnTo>
                  <a:pt x="854" y="622"/>
                </a:lnTo>
                <a:lnTo>
                  <a:pt x="879" y="610"/>
                </a:lnTo>
                <a:lnTo>
                  <a:pt x="900" y="597"/>
                </a:lnTo>
                <a:lnTo>
                  <a:pt x="922" y="582"/>
                </a:lnTo>
                <a:lnTo>
                  <a:pt x="941" y="567"/>
                </a:lnTo>
                <a:lnTo>
                  <a:pt x="959" y="551"/>
                </a:lnTo>
                <a:lnTo>
                  <a:pt x="975" y="534"/>
                </a:lnTo>
                <a:lnTo>
                  <a:pt x="990" y="515"/>
                </a:lnTo>
                <a:lnTo>
                  <a:pt x="1158" y="515"/>
                </a:lnTo>
                <a:lnTo>
                  <a:pt x="1148" y="530"/>
                </a:lnTo>
                <a:lnTo>
                  <a:pt x="1137" y="545"/>
                </a:lnTo>
                <a:lnTo>
                  <a:pt x="1126" y="559"/>
                </a:lnTo>
                <a:lnTo>
                  <a:pt x="1114" y="571"/>
                </a:lnTo>
                <a:lnTo>
                  <a:pt x="1102" y="585"/>
                </a:lnTo>
                <a:lnTo>
                  <a:pt x="1089" y="597"/>
                </a:lnTo>
                <a:lnTo>
                  <a:pt x="1075" y="610"/>
                </a:lnTo>
                <a:lnTo>
                  <a:pt x="1063" y="622"/>
                </a:lnTo>
                <a:lnTo>
                  <a:pt x="1048" y="632"/>
                </a:lnTo>
                <a:lnTo>
                  <a:pt x="1033" y="644"/>
                </a:lnTo>
                <a:lnTo>
                  <a:pt x="1018" y="654"/>
                </a:lnTo>
                <a:lnTo>
                  <a:pt x="1002" y="664"/>
                </a:lnTo>
                <a:lnTo>
                  <a:pt x="986" y="674"/>
                </a:lnTo>
                <a:lnTo>
                  <a:pt x="969" y="682"/>
                </a:lnTo>
                <a:lnTo>
                  <a:pt x="952" y="691"/>
                </a:lnTo>
                <a:lnTo>
                  <a:pt x="934" y="699"/>
                </a:lnTo>
                <a:lnTo>
                  <a:pt x="916" y="707"/>
                </a:lnTo>
                <a:lnTo>
                  <a:pt x="897" y="714"/>
                </a:lnTo>
                <a:lnTo>
                  <a:pt x="878" y="722"/>
                </a:lnTo>
                <a:lnTo>
                  <a:pt x="859" y="727"/>
                </a:lnTo>
                <a:lnTo>
                  <a:pt x="839" y="734"/>
                </a:lnTo>
                <a:lnTo>
                  <a:pt x="819" y="739"/>
                </a:lnTo>
                <a:lnTo>
                  <a:pt x="799" y="743"/>
                </a:lnTo>
                <a:lnTo>
                  <a:pt x="779" y="747"/>
                </a:lnTo>
                <a:lnTo>
                  <a:pt x="757" y="752"/>
                </a:lnTo>
                <a:lnTo>
                  <a:pt x="736" y="755"/>
                </a:lnTo>
                <a:lnTo>
                  <a:pt x="714" y="758"/>
                </a:lnTo>
                <a:lnTo>
                  <a:pt x="692" y="760"/>
                </a:lnTo>
                <a:lnTo>
                  <a:pt x="647" y="762"/>
                </a:lnTo>
                <a:lnTo>
                  <a:pt x="600" y="763"/>
                </a:lnTo>
                <a:lnTo>
                  <a:pt x="569" y="763"/>
                </a:lnTo>
                <a:lnTo>
                  <a:pt x="538" y="762"/>
                </a:lnTo>
                <a:lnTo>
                  <a:pt x="508" y="760"/>
                </a:lnTo>
                <a:lnTo>
                  <a:pt x="479" y="757"/>
                </a:lnTo>
                <a:lnTo>
                  <a:pt x="450" y="753"/>
                </a:lnTo>
                <a:lnTo>
                  <a:pt x="422" y="749"/>
                </a:lnTo>
                <a:lnTo>
                  <a:pt x="394" y="742"/>
                </a:lnTo>
                <a:lnTo>
                  <a:pt x="367" y="736"/>
                </a:lnTo>
                <a:lnTo>
                  <a:pt x="341" y="728"/>
                </a:lnTo>
                <a:lnTo>
                  <a:pt x="315" y="720"/>
                </a:lnTo>
                <a:lnTo>
                  <a:pt x="291" y="711"/>
                </a:lnTo>
                <a:lnTo>
                  <a:pt x="266" y="700"/>
                </a:lnTo>
                <a:lnTo>
                  <a:pt x="241" y="690"/>
                </a:lnTo>
                <a:lnTo>
                  <a:pt x="219" y="678"/>
                </a:lnTo>
                <a:lnTo>
                  <a:pt x="196" y="665"/>
                </a:lnTo>
                <a:lnTo>
                  <a:pt x="174" y="651"/>
                </a:lnTo>
                <a:lnTo>
                  <a:pt x="153" y="638"/>
                </a:lnTo>
                <a:lnTo>
                  <a:pt x="133" y="623"/>
                </a:lnTo>
                <a:lnTo>
                  <a:pt x="114" y="608"/>
                </a:lnTo>
                <a:lnTo>
                  <a:pt x="97" y="593"/>
                </a:lnTo>
                <a:lnTo>
                  <a:pt x="82" y="577"/>
                </a:lnTo>
                <a:lnTo>
                  <a:pt x="67" y="561"/>
                </a:lnTo>
                <a:lnTo>
                  <a:pt x="55" y="545"/>
                </a:lnTo>
                <a:lnTo>
                  <a:pt x="43" y="528"/>
                </a:lnTo>
                <a:lnTo>
                  <a:pt x="33" y="511"/>
                </a:lnTo>
                <a:lnTo>
                  <a:pt x="25" y="493"/>
                </a:lnTo>
                <a:lnTo>
                  <a:pt x="17" y="475"/>
                </a:lnTo>
                <a:lnTo>
                  <a:pt x="11" y="457"/>
                </a:lnTo>
                <a:lnTo>
                  <a:pt x="6" y="439"/>
                </a:lnTo>
                <a:lnTo>
                  <a:pt x="2" y="420"/>
                </a:lnTo>
                <a:lnTo>
                  <a:pt x="0" y="401"/>
                </a:lnTo>
                <a:lnTo>
                  <a:pt x="0" y="381"/>
                </a:lnTo>
                <a:lnTo>
                  <a:pt x="0" y="361"/>
                </a:lnTo>
                <a:lnTo>
                  <a:pt x="2" y="341"/>
                </a:lnTo>
                <a:lnTo>
                  <a:pt x="6" y="322"/>
                </a:lnTo>
                <a:lnTo>
                  <a:pt x="11" y="302"/>
                </a:lnTo>
                <a:lnTo>
                  <a:pt x="16" y="283"/>
                </a:lnTo>
                <a:lnTo>
                  <a:pt x="24" y="265"/>
                </a:lnTo>
                <a:lnTo>
                  <a:pt x="32" y="248"/>
                </a:lnTo>
                <a:lnTo>
                  <a:pt x="43" y="230"/>
                </a:lnTo>
                <a:lnTo>
                  <a:pt x="54" y="214"/>
                </a:lnTo>
                <a:lnTo>
                  <a:pt x="66" y="197"/>
                </a:lnTo>
                <a:lnTo>
                  <a:pt x="80" y="181"/>
                </a:lnTo>
                <a:lnTo>
                  <a:pt x="95" y="166"/>
                </a:lnTo>
                <a:lnTo>
                  <a:pt x="112" y="151"/>
                </a:lnTo>
                <a:lnTo>
                  <a:pt x="130" y="136"/>
                </a:lnTo>
                <a:lnTo>
                  <a:pt x="150" y="122"/>
                </a:lnTo>
                <a:lnTo>
                  <a:pt x="170" y="108"/>
                </a:lnTo>
                <a:lnTo>
                  <a:pt x="192" y="95"/>
                </a:lnTo>
                <a:lnTo>
                  <a:pt x="214" y="83"/>
                </a:lnTo>
                <a:lnTo>
                  <a:pt x="237" y="72"/>
                </a:lnTo>
                <a:lnTo>
                  <a:pt x="262" y="61"/>
                </a:lnTo>
                <a:lnTo>
                  <a:pt x="286" y="52"/>
                </a:lnTo>
                <a:lnTo>
                  <a:pt x="311" y="42"/>
                </a:lnTo>
                <a:lnTo>
                  <a:pt x="338" y="35"/>
                </a:lnTo>
                <a:lnTo>
                  <a:pt x="364" y="27"/>
                </a:lnTo>
                <a:lnTo>
                  <a:pt x="392" y="21"/>
                </a:lnTo>
                <a:lnTo>
                  <a:pt x="421" y="15"/>
                </a:lnTo>
                <a:lnTo>
                  <a:pt x="450" y="11"/>
                </a:lnTo>
                <a:lnTo>
                  <a:pt x="480" y="7"/>
                </a:lnTo>
                <a:lnTo>
                  <a:pt x="509" y="4"/>
                </a:lnTo>
                <a:lnTo>
                  <a:pt x="542" y="1"/>
                </a:lnTo>
                <a:lnTo>
                  <a:pt x="574" y="0"/>
                </a:lnTo>
                <a:lnTo>
                  <a:pt x="606" y="0"/>
                </a:lnTo>
                <a:lnTo>
                  <a:pt x="639" y="0"/>
                </a:lnTo>
                <a:lnTo>
                  <a:pt x="670" y="1"/>
                </a:lnTo>
                <a:lnTo>
                  <a:pt x="701" y="5"/>
                </a:lnTo>
                <a:lnTo>
                  <a:pt x="730" y="7"/>
                </a:lnTo>
                <a:lnTo>
                  <a:pt x="759" y="11"/>
                </a:lnTo>
                <a:lnTo>
                  <a:pt x="788" y="16"/>
                </a:lnTo>
                <a:lnTo>
                  <a:pt x="816" y="22"/>
                </a:lnTo>
                <a:lnTo>
                  <a:pt x="843" y="28"/>
                </a:lnTo>
                <a:lnTo>
                  <a:pt x="868" y="36"/>
                </a:lnTo>
                <a:lnTo>
                  <a:pt x="894" y="44"/>
                </a:lnTo>
                <a:lnTo>
                  <a:pt x="918" y="54"/>
                </a:lnTo>
                <a:lnTo>
                  <a:pt x="943" y="63"/>
                </a:lnTo>
                <a:lnTo>
                  <a:pt x="965" y="74"/>
                </a:lnTo>
                <a:lnTo>
                  <a:pt x="988" y="86"/>
                </a:lnTo>
                <a:lnTo>
                  <a:pt x="1009" y="99"/>
                </a:lnTo>
                <a:lnTo>
                  <a:pt x="1031" y="112"/>
                </a:lnTo>
                <a:lnTo>
                  <a:pt x="1051" y="126"/>
                </a:lnTo>
                <a:lnTo>
                  <a:pt x="1069" y="141"/>
                </a:lnTo>
                <a:lnTo>
                  <a:pt x="1086" y="157"/>
                </a:lnTo>
                <a:lnTo>
                  <a:pt x="1102" y="173"/>
                </a:lnTo>
                <a:lnTo>
                  <a:pt x="1117" y="189"/>
                </a:lnTo>
                <a:lnTo>
                  <a:pt x="1131" y="206"/>
                </a:lnTo>
                <a:lnTo>
                  <a:pt x="1143" y="223"/>
                </a:lnTo>
                <a:lnTo>
                  <a:pt x="1153" y="242"/>
                </a:lnTo>
                <a:lnTo>
                  <a:pt x="1163" y="261"/>
                </a:lnTo>
                <a:lnTo>
                  <a:pt x="1171" y="279"/>
                </a:lnTo>
                <a:lnTo>
                  <a:pt x="1179" y="299"/>
                </a:lnTo>
                <a:lnTo>
                  <a:pt x="1184" y="319"/>
                </a:lnTo>
                <a:lnTo>
                  <a:pt x="1189" y="340"/>
                </a:lnTo>
                <a:lnTo>
                  <a:pt x="1192" y="361"/>
                </a:lnTo>
                <a:lnTo>
                  <a:pt x="1194" y="382"/>
                </a:lnTo>
                <a:lnTo>
                  <a:pt x="1195" y="405"/>
                </a:lnTo>
                <a:lnTo>
                  <a:pt x="1195" y="411"/>
                </a:lnTo>
                <a:close/>
                <a:moveTo>
                  <a:pt x="1032" y="333"/>
                </a:moveTo>
                <a:lnTo>
                  <a:pt x="1025" y="318"/>
                </a:lnTo>
                <a:lnTo>
                  <a:pt x="1020" y="303"/>
                </a:lnTo>
                <a:lnTo>
                  <a:pt x="1013" y="290"/>
                </a:lnTo>
                <a:lnTo>
                  <a:pt x="1006" y="276"/>
                </a:lnTo>
                <a:lnTo>
                  <a:pt x="998" y="263"/>
                </a:lnTo>
                <a:lnTo>
                  <a:pt x="990" y="250"/>
                </a:lnTo>
                <a:lnTo>
                  <a:pt x="981" y="237"/>
                </a:lnTo>
                <a:lnTo>
                  <a:pt x="972" y="226"/>
                </a:lnTo>
                <a:lnTo>
                  <a:pt x="961" y="215"/>
                </a:lnTo>
                <a:lnTo>
                  <a:pt x="952" y="204"/>
                </a:lnTo>
                <a:lnTo>
                  <a:pt x="940" y="194"/>
                </a:lnTo>
                <a:lnTo>
                  <a:pt x="929" y="184"/>
                </a:lnTo>
                <a:lnTo>
                  <a:pt x="916" y="174"/>
                </a:lnTo>
                <a:lnTo>
                  <a:pt x="903" y="166"/>
                </a:lnTo>
                <a:lnTo>
                  <a:pt x="891" y="157"/>
                </a:lnTo>
                <a:lnTo>
                  <a:pt x="877" y="149"/>
                </a:lnTo>
                <a:lnTo>
                  <a:pt x="863" y="142"/>
                </a:lnTo>
                <a:lnTo>
                  <a:pt x="848" y="135"/>
                </a:lnTo>
                <a:lnTo>
                  <a:pt x="832" y="128"/>
                </a:lnTo>
                <a:lnTo>
                  <a:pt x="816" y="122"/>
                </a:lnTo>
                <a:lnTo>
                  <a:pt x="800" y="117"/>
                </a:lnTo>
                <a:lnTo>
                  <a:pt x="783" y="111"/>
                </a:lnTo>
                <a:lnTo>
                  <a:pt x="766" y="107"/>
                </a:lnTo>
                <a:lnTo>
                  <a:pt x="748" y="103"/>
                </a:lnTo>
                <a:lnTo>
                  <a:pt x="729" y="100"/>
                </a:lnTo>
                <a:lnTo>
                  <a:pt x="710" y="96"/>
                </a:lnTo>
                <a:lnTo>
                  <a:pt x="690" y="94"/>
                </a:lnTo>
                <a:lnTo>
                  <a:pt x="671" y="92"/>
                </a:lnTo>
                <a:lnTo>
                  <a:pt x="628" y="89"/>
                </a:lnTo>
                <a:lnTo>
                  <a:pt x="584" y="88"/>
                </a:lnTo>
                <a:lnTo>
                  <a:pt x="564" y="88"/>
                </a:lnTo>
                <a:lnTo>
                  <a:pt x="544" y="89"/>
                </a:lnTo>
                <a:lnTo>
                  <a:pt x="523" y="90"/>
                </a:lnTo>
                <a:lnTo>
                  <a:pt x="503" y="92"/>
                </a:lnTo>
                <a:lnTo>
                  <a:pt x="484" y="94"/>
                </a:lnTo>
                <a:lnTo>
                  <a:pt x="466" y="97"/>
                </a:lnTo>
                <a:lnTo>
                  <a:pt x="448" y="101"/>
                </a:lnTo>
                <a:lnTo>
                  <a:pt x="429" y="104"/>
                </a:lnTo>
                <a:lnTo>
                  <a:pt x="411" y="109"/>
                </a:lnTo>
                <a:lnTo>
                  <a:pt x="394" y="113"/>
                </a:lnTo>
                <a:lnTo>
                  <a:pt x="378" y="119"/>
                </a:lnTo>
                <a:lnTo>
                  <a:pt x="361" y="125"/>
                </a:lnTo>
                <a:lnTo>
                  <a:pt x="345" y="132"/>
                </a:lnTo>
                <a:lnTo>
                  <a:pt x="330" y="138"/>
                </a:lnTo>
                <a:lnTo>
                  <a:pt x="315" y="146"/>
                </a:lnTo>
                <a:lnTo>
                  <a:pt x="300" y="154"/>
                </a:lnTo>
                <a:lnTo>
                  <a:pt x="285" y="163"/>
                </a:lnTo>
                <a:lnTo>
                  <a:pt x="272" y="171"/>
                </a:lnTo>
                <a:lnTo>
                  <a:pt x="260" y="181"/>
                </a:lnTo>
                <a:lnTo>
                  <a:pt x="247" y="190"/>
                </a:lnTo>
                <a:lnTo>
                  <a:pt x="236" y="200"/>
                </a:lnTo>
                <a:lnTo>
                  <a:pt x="225" y="211"/>
                </a:lnTo>
                <a:lnTo>
                  <a:pt x="215" y="221"/>
                </a:lnTo>
                <a:lnTo>
                  <a:pt x="206" y="232"/>
                </a:lnTo>
                <a:lnTo>
                  <a:pt x="198" y="244"/>
                </a:lnTo>
                <a:lnTo>
                  <a:pt x="189" y="255"/>
                </a:lnTo>
                <a:lnTo>
                  <a:pt x="183" y="267"/>
                </a:lnTo>
                <a:lnTo>
                  <a:pt x="176" y="280"/>
                </a:lnTo>
                <a:lnTo>
                  <a:pt x="170" y="293"/>
                </a:lnTo>
                <a:lnTo>
                  <a:pt x="166" y="306"/>
                </a:lnTo>
                <a:lnTo>
                  <a:pt x="161" y="319"/>
                </a:lnTo>
                <a:lnTo>
                  <a:pt x="157" y="333"/>
                </a:lnTo>
                <a:lnTo>
                  <a:pt x="1032" y="333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44680" y="1106640"/>
            <a:ext cx="106560" cy="109440"/>
          </a:xfrm>
          <a:custGeom>
            <a:avLst/>
            <a:gdLst/>
            <a:ahLst/>
            <a:rect l="l" t="t" r="r" b="b"/>
            <a:pathLst>
              <a:path w="732" h="761">
                <a:moveTo>
                  <a:pt x="0" y="515"/>
                </a:moveTo>
                <a:lnTo>
                  <a:pt x="152" y="515"/>
                </a:lnTo>
                <a:lnTo>
                  <a:pt x="152" y="518"/>
                </a:lnTo>
                <a:lnTo>
                  <a:pt x="153" y="534"/>
                </a:lnTo>
                <a:lnTo>
                  <a:pt x="155" y="550"/>
                </a:lnTo>
                <a:lnTo>
                  <a:pt x="161" y="565"/>
                </a:lnTo>
                <a:lnTo>
                  <a:pt x="167" y="579"/>
                </a:lnTo>
                <a:lnTo>
                  <a:pt x="176" y="593"/>
                </a:lnTo>
                <a:lnTo>
                  <a:pt x="186" y="606"/>
                </a:lnTo>
                <a:lnTo>
                  <a:pt x="199" y="618"/>
                </a:lnTo>
                <a:lnTo>
                  <a:pt x="214" y="629"/>
                </a:lnTo>
                <a:lnTo>
                  <a:pt x="230" y="640"/>
                </a:lnTo>
                <a:lnTo>
                  <a:pt x="246" y="649"/>
                </a:lnTo>
                <a:lnTo>
                  <a:pt x="264" y="657"/>
                </a:lnTo>
                <a:lnTo>
                  <a:pt x="282" y="663"/>
                </a:lnTo>
                <a:lnTo>
                  <a:pt x="303" y="667"/>
                </a:lnTo>
                <a:lnTo>
                  <a:pt x="323" y="672"/>
                </a:lnTo>
                <a:lnTo>
                  <a:pt x="344" y="674"/>
                </a:lnTo>
                <a:lnTo>
                  <a:pt x="367" y="674"/>
                </a:lnTo>
                <a:lnTo>
                  <a:pt x="388" y="674"/>
                </a:lnTo>
                <a:lnTo>
                  <a:pt x="408" y="672"/>
                </a:lnTo>
                <a:lnTo>
                  <a:pt x="428" y="670"/>
                </a:lnTo>
                <a:lnTo>
                  <a:pt x="447" y="665"/>
                </a:lnTo>
                <a:lnTo>
                  <a:pt x="464" y="661"/>
                </a:lnTo>
                <a:lnTo>
                  <a:pt x="481" y="655"/>
                </a:lnTo>
                <a:lnTo>
                  <a:pt x="497" y="648"/>
                </a:lnTo>
                <a:lnTo>
                  <a:pt x="512" y="640"/>
                </a:lnTo>
                <a:lnTo>
                  <a:pt x="525" y="631"/>
                </a:lnTo>
                <a:lnTo>
                  <a:pt x="537" y="622"/>
                </a:lnTo>
                <a:lnTo>
                  <a:pt x="547" y="612"/>
                </a:lnTo>
                <a:lnTo>
                  <a:pt x="555" y="601"/>
                </a:lnTo>
                <a:lnTo>
                  <a:pt x="561" y="591"/>
                </a:lnTo>
                <a:lnTo>
                  <a:pt x="565" y="579"/>
                </a:lnTo>
                <a:lnTo>
                  <a:pt x="569" y="566"/>
                </a:lnTo>
                <a:lnTo>
                  <a:pt x="570" y="553"/>
                </a:lnTo>
                <a:lnTo>
                  <a:pt x="569" y="542"/>
                </a:lnTo>
                <a:lnTo>
                  <a:pt x="566" y="529"/>
                </a:lnTo>
                <a:lnTo>
                  <a:pt x="563" y="518"/>
                </a:lnTo>
                <a:lnTo>
                  <a:pt x="558" y="507"/>
                </a:lnTo>
                <a:lnTo>
                  <a:pt x="552" y="497"/>
                </a:lnTo>
                <a:lnTo>
                  <a:pt x="544" y="487"/>
                </a:lnTo>
                <a:lnTo>
                  <a:pt x="534" y="479"/>
                </a:lnTo>
                <a:lnTo>
                  <a:pt x="524" y="470"/>
                </a:lnTo>
                <a:lnTo>
                  <a:pt x="511" y="463"/>
                </a:lnTo>
                <a:lnTo>
                  <a:pt x="496" y="455"/>
                </a:lnTo>
                <a:lnTo>
                  <a:pt x="479" y="447"/>
                </a:lnTo>
                <a:lnTo>
                  <a:pt x="460" y="439"/>
                </a:lnTo>
                <a:lnTo>
                  <a:pt x="438" y="433"/>
                </a:lnTo>
                <a:lnTo>
                  <a:pt x="414" y="425"/>
                </a:lnTo>
                <a:lnTo>
                  <a:pt x="387" y="418"/>
                </a:lnTo>
                <a:lnTo>
                  <a:pt x="358" y="411"/>
                </a:lnTo>
                <a:lnTo>
                  <a:pt x="312" y="401"/>
                </a:lnTo>
                <a:lnTo>
                  <a:pt x="271" y="389"/>
                </a:lnTo>
                <a:lnTo>
                  <a:pt x="233" y="378"/>
                </a:lnTo>
                <a:lnTo>
                  <a:pt x="200" y="368"/>
                </a:lnTo>
                <a:lnTo>
                  <a:pt x="170" y="357"/>
                </a:lnTo>
                <a:lnTo>
                  <a:pt x="146" y="346"/>
                </a:lnTo>
                <a:lnTo>
                  <a:pt x="134" y="340"/>
                </a:lnTo>
                <a:lnTo>
                  <a:pt x="124" y="334"/>
                </a:lnTo>
                <a:lnTo>
                  <a:pt x="116" y="329"/>
                </a:lnTo>
                <a:lnTo>
                  <a:pt x="107" y="324"/>
                </a:lnTo>
                <a:lnTo>
                  <a:pt x="93" y="312"/>
                </a:lnTo>
                <a:lnTo>
                  <a:pt x="82" y="299"/>
                </a:lnTo>
                <a:lnTo>
                  <a:pt x="72" y="285"/>
                </a:lnTo>
                <a:lnTo>
                  <a:pt x="64" y="272"/>
                </a:lnTo>
                <a:lnTo>
                  <a:pt x="57" y="256"/>
                </a:lnTo>
                <a:lnTo>
                  <a:pt x="53" y="240"/>
                </a:lnTo>
                <a:lnTo>
                  <a:pt x="50" y="222"/>
                </a:lnTo>
                <a:lnTo>
                  <a:pt x="49" y="203"/>
                </a:lnTo>
                <a:lnTo>
                  <a:pt x="50" y="194"/>
                </a:lnTo>
                <a:lnTo>
                  <a:pt x="51" y="183"/>
                </a:lnTo>
                <a:lnTo>
                  <a:pt x="53" y="173"/>
                </a:lnTo>
                <a:lnTo>
                  <a:pt x="55" y="163"/>
                </a:lnTo>
                <a:lnTo>
                  <a:pt x="58" y="153"/>
                </a:lnTo>
                <a:lnTo>
                  <a:pt x="63" y="143"/>
                </a:lnTo>
                <a:lnTo>
                  <a:pt x="68" y="135"/>
                </a:lnTo>
                <a:lnTo>
                  <a:pt x="73" y="125"/>
                </a:lnTo>
                <a:lnTo>
                  <a:pt x="80" y="117"/>
                </a:lnTo>
                <a:lnTo>
                  <a:pt x="87" y="108"/>
                </a:lnTo>
                <a:lnTo>
                  <a:pt x="96" y="100"/>
                </a:lnTo>
                <a:lnTo>
                  <a:pt x="104" y="91"/>
                </a:lnTo>
                <a:lnTo>
                  <a:pt x="114" y="83"/>
                </a:lnTo>
                <a:lnTo>
                  <a:pt x="124" y="75"/>
                </a:lnTo>
                <a:lnTo>
                  <a:pt x="135" y="68"/>
                </a:lnTo>
                <a:lnTo>
                  <a:pt x="147" y="60"/>
                </a:lnTo>
                <a:lnTo>
                  <a:pt x="160" y="53"/>
                </a:lnTo>
                <a:lnTo>
                  <a:pt x="173" y="46"/>
                </a:lnTo>
                <a:lnTo>
                  <a:pt x="185" y="40"/>
                </a:lnTo>
                <a:lnTo>
                  <a:pt x="199" y="34"/>
                </a:lnTo>
                <a:lnTo>
                  <a:pt x="212" y="28"/>
                </a:lnTo>
                <a:lnTo>
                  <a:pt x="227" y="24"/>
                </a:lnTo>
                <a:lnTo>
                  <a:pt x="241" y="20"/>
                </a:lnTo>
                <a:lnTo>
                  <a:pt x="256" y="15"/>
                </a:lnTo>
                <a:lnTo>
                  <a:pt x="286" y="9"/>
                </a:lnTo>
                <a:lnTo>
                  <a:pt x="318" y="5"/>
                </a:lnTo>
                <a:lnTo>
                  <a:pt x="351" y="2"/>
                </a:lnTo>
                <a:lnTo>
                  <a:pt x="385" y="0"/>
                </a:lnTo>
                <a:lnTo>
                  <a:pt x="420" y="2"/>
                </a:lnTo>
                <a:lnTo>
                  <a:pt x="454" y="4"/>
                </a:lnTo>
                <a:lnTo>
                  <a:pt x="487" y="8"/>
                </a:lnTo>
                <a:lnTo>
                  <a:pt x="517" y="13"/>
                </a:lnTo>
                <a:lnTo>
                  <a:pt x="546" y="21"/>
                </a:lnTo>
                <a:lnTo>
                  <a:pt x="572" y="30"/>
                </a:lnTo>
                <a:lnTo>
                  <a:pt x="585" y="36"/>
                </a:lnTo>
                <a:lnTo>
                  <a:pt x="596" y="41"/>
                </a:lnTo>
                <a:lnTo>
                  <a:pt x="608" y="46"/>
                </a:lnTo>
                <a:lnTo>
                  <a:pt x="620" y="53"/>
                </a:lnTo>
                <a:lnTo>
                  <a:pt x="631" y="60"/>
                </a:lnTo>
                <a:lnTo>
                  <a:pt x="640" y="67"/>
                </a:lnTo>
                <a:lnTo>
                  <a:pt x="650" y="74"/>
                </a:lnTo>
                <a:lnTo>
                  <a:pt x="658" y="83"/>
                </a:lnTo>
                <a:lnTo>
                  <a:pt x="666" y="90"/>
                </a:lnTo>
                <a:lnTo>
                  <a:pt x="673" y="99"/>
                </a:lnTo>
                <a:lnTo>
                  <a:pt x="681" y="107"/>
                </a:lnTo>
                <a:lnTo>
                  <a:pt x="686" y="117"/>
                </a:lnTo>
                <a:lnTo>
                  <a:pt x="691" y="125"/>
                </a:lnTo>
                <a:lnTo>
                  <a:pt x="697" y="135"/>
                </a:lnTo>
                <a:lnTo>
                  <a:pt x="701" y="146"/>
                </a:lnTo>
                <a:lnTo>
                  <a:pt x="704" y="155"/>
                </a:lnTo>
                <a:lnTo>
                  <a:pt x="707" y="166"/>
                </a:lnTo>
                <a:lnTo>
                  <a:pt x="711" y="178"/>
                </a:lnTo>
                <a:lnTo>
                  <a:pt x="712" y="188"/>
                </a:lnTo>
                <a:lnTo>
                  <a:pt x="713" y="200"/>
                </a:lnTo>
                <a:lnTo>
                  <a:pt x="555" y="200"/>
                </a:lnTo>
                <a:lnTo>
                  <a:pt x="553" y="187"/>
                </a:lnTo>
                <a:lnTo>
                  <a:pt x="549" y="175"/>
                </a:lnTo>
                <a:lnTo>
                  <a:pt x="545" y="165"/>
                </a:lnTo>
                <a:lnTo>
                  <a:pt x="539" y="154"/>
                </a:lnTo>
                <a:lnTo>
                  <a:pt x="532" y="145"/>
                </a:lnTo>
                <a:lnTo>
                  <a:pt x="524" y="136"/>
                </a:lnTo>
                <a:lnTo>
                  <a:pt x="514" y="127"/>
                </a:lnTo>
                <a:lnTo>
                  <a:pt x="502" y="120"/>
                </a:lnTo>
                <a:lnTo>
                  <a:pt x="491" y="114"/>
                </a:lnTo>
                <a:lnTo>
                  <a:pt x="477" y="108"/>
                </a:lnTo>
                <a:lnTo>
                  <a:pt x="463" y="103"/>
                </a:lnTo>
                <a:lnTo>
                  <a:pt x="448" y="99"/>
                </a:lnTo>
                <a:lnTo>
                  <a:pt x="431" y="95"/>
                </a:lnTo>
                <a:lnTo>
                  <a:pt x="414" y="93"/>
                </a:lnTo>
                <a:lnTo>
                  <a:pt x="395" y="92"/>
                </a:lnTo>
                <a:lnTo>
                  <a:pt x="375" y="92"/>
                </a:lnTo>
                <a:lnTo>
                  <a:pt x="357" y="92"/>
                </a:lnTo>
                <a:lnTo>
                  <a:pt x="340" y="94"/>
                </a:lnTo>
                <a:lnTo>
                  <a:pt x="324" y="96"/>
                </a:lnTo>
                <a:lnTo>
                  <a:pt x="309" y="100"/>
                </a:lnTo>
                <a:lnTo>
                  <a:pt x="294" y="104"/>
                </a:lnTo>
                <a:lnTo>
                  <a:pt x="280" y="109"/>
                </a:lnTo>
                <a:lnTo>
                  <a:pt x="268" y="116"/>
                </a:lnTo>
                <a:lnTo>
                  <a:pt x="255" y="122"/>
                </a:lnTo>
                <a:lnTo>
                  <a:pt x="243" y="131"/>
                </a:lnTo>
                <a:lnTo>
                  <a:pt x="233" y="139"/>
                </a:lnTo>
                <a:lnTo>
                  <a:pt x="225" y="148"/>
                </a:lnTo>
                <a:lnTo>
                  <a:pt x="218" y="157"/>
                </a:lnTo>
                <a:lnTo>
                  <a:pt x="213" y="167"/>
                </a:lnTo>
                <a:lnTo>
                  <a:pt x="209" y="177"/>
                </a:lnTo>
                <a:lnTo>
                  <a:pt x="207" y="187"/>
                </a:lnTo>
                <a:lnTo>
                  <a:pt x="207" y="199"/>
                </a:lnTo>
                <a:lnTo>
                  <a:pt x="207" y="206"/>
                </a:lnTo>
                <a:lnTo>
                  <a:pt x="208" y="214"/>
                </a:lnTo>
                <a:lnTo>
                  <a:pt x="209" y="221"/>
                </a:lnTo>
                <a:lnTo>
                  <a:pt x="211" y="228"/>
                </a:lnTo>
                <a:lnTo>
                  <a:pt x="214" y="235"/>
                </a:lnTo>
                <a:lnTo>
                  <a:pt x="217" y="242"/>
                </a:lnTo>
                <a:lnTo>
                  <a:pt x="222" y="247"/>
                </a:lnTo>
                <a:lnTo>
                  <a:pt x="226" y="253"/>
                </a:lnTo>
                <a:lnTo>
                  <a:pt x="231" y="259"/>
                </a:lnTo>
                <a:lnTo>
                  <a:pt x="238" y="264"/>
                </a:lnTo>
                <a:lnTo>
                  <a:pt x="245" y="268"/>
                </a:lnTo>
                <a:lnTo>
                  <a:pt x="253" y="274"/>
                </a:lnTo>
                <a:lnTo>
                  <a:pt x="261" y="279"/>
                </a:lnTo>
                <a:lnTo>
                  <a:pt x="271" y="283"/>
                </a:lnTo>
                <a:lnTo>
                  <a:pt x="281" y="289"/>
                </a:lnTo>
                <a:lnTo>
                  <a:pt x="292" y="293"/>
                </a:lnTo>
                <a:lnTo>
                  <a:pt x="303" y="297"/>
                </a:lnTo>
                <a:lnTo>
                  <a:pt x="316" y="300"/>
                </a:lnTo>
                <a:lnTo>
                  <a:pt x="329" y="305"/>
                </a:lnTo>
                <a:lnTo>
                  <a:pt x="343" y="309"/>
                </a:lnTo>
                <a:lnTo>
                  <a:pt x="359" y="313"/>
                </a:lnTo>
                <a:lnTo>
                  <a:pt x="376" y="316"/>
                </a:lnTo>
                <a:lnTo>
                  <a:pt x="396" y="321"/>
                </a:lnTo>
                <a:lnTo>
                  <a:pt x="415" y="324"/>
                </a:lnTo>
                <a:lnTo>
                  <a:pt x="434" y="328"/>
                </a:lnTo>
                <a:lnTo>
                  <a:pt x="451" y="331"/>
                </a:lnTo>
                <a:lnTo>
                  <a:pt x="467" y="334"/>
                </a:lnTo>
                <a:lnTo>
                  <a:pt x="481" y="338"/>
                </a:lnTo>
                <a:lnTo>
                  <a:pt x="494" y="340"/>
                </a:lnTo>
                <a:lnTo>
                  <a:pt x="506" y="342"/>
                </a:lnTo>
                <a:lnTo>
                  <a:pt x="514" y="344"/>
                </a:lnTo>
                <a:lnTo>
                  <a:pt x="522" y="346"/>
                </a:lnTo>
                <a:lnTo>
                  <a:pt x="548" y="354"/>
                </a:lnTo>
                <a:lnTo>
                  <a:pt x="573" y="362"/>
                </a:lnTo>
                <a:lnTo>
                  <a:pt x="595" y="371"/>
                </a:lnTo>
                <a:lnTo>
                  <a:pt x="616" y="380"/>
                </a:lnTo>
                <a:lnTo>
                  <a:pt x="635" y="390"/>
                </a:lnTo>
                <a:lnTo>
                  <a:pt x="652" y="401"/>
                </a:lnTo>
                <a:lnTo>
                  <a:pt x="668" y="411"/>
                </a:lnTo>
                <a:lnTo>
                  <a:pt x="681" y="423"/>
                </a:lnTo>
                <a:lnTo>
                  <a:pt x="694" y="436"/>
                </a:lnTo>
                <a:lnTo>
                  <a:pt x="703" y="449"/>
                </a:lnTo>
                <a:lnTo>
                  <a:pt x="712" y="464"/>
                </a:lnTo>
                <a:lnTo>
                  <a:pt x="719" y="479"/>
                </a:lnTo>
                <a:lnTo>
                  <a:pt x="724" y="494"/>
                </a:lnTo>
                <a:lnTo>
                  <a:pt x="729" y="511"/>
                </a:lnTo>
                <a:lnTo>
                  <a:pt x="731" y="528"/>
                </a:lnTo>
                <a:lnTo>
                  <a:pt x="732" y="546"/>
                </a:lnTo>
                <a:lnTo>
                  <a:pt x="732" y="558"/>
                </a:lnTo>
                <a:lnTo>
                  <a:pt x="730" y="568"/>
                </a:lnTo>
                <a:lnTo>
                  <a:pt x="729" y="580"/>
                </a:lnTo>
                <a:lnTo>
                  <a:pt x="726" y="591"/>
                </a:lnTo>
                <a:lnTo>
                  <a:pt x="721" y="601"/>
                </a:lnTo>
                <a:lnTo>
                  <a:pt x="717" y="611"/>
                </a:lnTo>
                <a:lnTo>
                  <a:pt x="712" y="622"/>
                </a:lnTo>
                <a:lnTo>
                  <a:pt x="706" y="631"/>
                </a:lnTo>
                <a:lnTo>
                  <a:pt x="699" y="641"/>
                </a:lnTo>
                <a:lnTo>
                  <a:pt x="691" y="650"/>
                </a:lnTo>
                <a:lnTo>
                  <a:pt x="683" y="659"/>
                </a:lnTo>
                <a:lnTo>
                  <a:pt x="673" y="667"/>
                </a:lnTo>
                <a:lnTo>
                  <a:pt x="664" y="676"/>
                </a:lnTo>
                <a:lnTo>
                  <a:pt x="652" y="685"/>
                </a:lnTo>
                <a:lnTo>
                  <a:pt x="640" y="693"/>
                </a:lnTo>
                <a:lnTo>
                  <a:pt x="628" y="701"/>
                </a:lnTo>
                <a:lnTo>
                  <a:pt x="615" y="708"/>
                </a:lnTo>
                <a:lnTo>
                  <a:pt x="602" y="714"/>
                </a:lnTo>
                <a:lnTo>
                  <a:pt x="587" y="721"/>
                </a:lnTo>
                <a:lnTo>
                  <a:pt x="573" y="727"/>
                </a:lnTo>
                <a:lnTo>
                  <a:pt x="558" y="733"/>
                </a:lnTo>
                <a:lnTo>
                  <a:pt x="542" y="738"/>
                </a:lnTo>
                <a:lnTo>
                  <a:pt x="527" y="742"/>
                </a:lnTo>
                <a:lnTo>
                  <a:pt x="510" y="746"/>
                </a:lnTo>
                <a:lnTo>
                  <a:pt x="494" y="750"/>
                </a:lnTo>
                <a:lnTo>
                  <a:pt x="477" y="753"/>
                </a:lnTo>
                <a:lnTo>
                  <a:pt x="459" y="756"/>
                </a:lnTo>
                <a:lnTo>
                  <a:pt x="440" y="758"/>
                </a:lnTo>
                <a:lnTo>
                  <a:pt x="404" y="760"/>
                </a:lnTo>
                <a:lnTo>
                  <a:pt x="365" y="761"/>
                </a:lnTo>
                <a:lnTo>
                  <a:pt x="344" y="761"/>
                </a:lnTo>
                <a:lnTo>
                  <a:pt x="325" y="760"/>
                </a:lnTo>
                <a:lnTo>
                  <a:pt x="306" y="759"/>
                </a:lnTo>
                <a:lnTo>
                  <a:pt x="288" y="757"/>
                </a:lnTo>
                <a:lnTo>
                  <a:pt x="270" y="755"/>
                </a:lnTo>
                <a:lnTo>
                  <a:pt x="252" y="752"/>
                </a:lnTo>
                <a:lnTo>
                  <a:pt x="234" y="749"/>
                </a:lnTo>
                <a:lnTo>
                  <a:pt x="218" y="745"/>
                </a:lnTo>
                <a:lnTo>
                  <a:pt x="202" y="740"/>
                </a:lnTo>
                <a:lnTo>
                  <a:pt x="186" y="736"/>
                </a:lnTo>
                <a:lnTo>
                  <a:pt x="171" y="730"/>
                </a:lnTo>
                <a:lnTo>
                  <a:pt x="156" y="724"/>
                </a:lnTo>
                <a:lnTo>
                  <a:pt x="143" y="718"/>
                </a:lnTo>
                <a:lnTo>
                  <a:pt x="129" y="710"/>
                </a:lnTo>
                <a:lnTo>
                  <a:pt x="116" y="703"/>
                </a:lnTo>
                <a:lnTo>
                  <a:pt x="103" y="695"/>
                </a:lnTo>
                <a:lnTo>
                  <a:pt x="91" y="687"/>
                </a:lnTo>
                <a:lnTo>
                  <a:pt x="81" y="677"/>
                </a:lnTo>
                <a:lnTo>
                  <a:pt x="70" y="669"/>
                </a:lnTo>
                <a:lnTo>
                  <a:pt x="60" y="659"/>
                </a:lnTo>
                <a:lnTo>
                  <a:pt x="51" y="648"/>
                </a:lnTo>
                <a:lnTo>
                  <a:pt x="42" y="639"/>
                </a:lnTo>
                <a:lnTo>
                  <a:pt x="35" y="628"/>
                </a:lnTo>
                <a:lnTo>
                  <a:pt x="28" y="616"/>
                </a:lnTo>
                <a:lnTo>
                  <a:pt x="22" y="605"/>
                </a:lnTo>
                <a:lnTo>
                  <a:pt x="17" y="593"/>
                </a:lnTo>
                <a:lnTo>
                  <a:pt x="12" y="581"/>
                </a:lnTo>
                <a:lnTo>
                  <a:pt x="8" y="568"/>
                </a:lnTo>
                <a:lnTo>
                  <a:pt x="5" y="555"/>
                </a:lnTo>
                <a:lnTo>
                  <a:pt x="3" y="543"/>
                </a:lnTo>
                <a:lnTo>
                  <a:pt x="1" y="529"/>
                </a:lnTo>
                <a:lnTo>
                  <a:pt x="0" y="515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74" name="marianne" descr=""/>
          <p:cNvPicPr/>
          <p:nvPr/>
        </p:nvPicPr>
        <p:blipFill>
          <a:blip r:embed="rId1"/>
          <a:stretch/>
        </p:blipFill>
        <p:spPr>
          <a:xfrm>
            <a:off x="0" y="0"/>
            <a:ext cx="990720" cy="66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Données : contexte national et européen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OVADI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nstance de validation des données du MAAP et du MEEDDM qui s’ouvre à d’autres ministèr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Le cadre de cohérence régional est une déclinaison locale des spécifications COVADI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NSPIR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tandardiser un certain nombre de données géographiqu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Données : groupes de production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érimètre : cadre de cohérenc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lot de données « métier » interministériel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emple : les MH, les STEP, les ERP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ilotés par un membre du CCPR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es données « métier » produites par un ministère sont pilotées par ce dernier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Données : espaces départementaux 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upport à l’interministérialité départemental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es données qui ne sont pas encore dans le cadre de cohérenc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emple : ZPPAUP, données sur la construction neuve, documents d’urbanisme…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e département est à l’initiative de la création de cet espace et de son alimentatio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240" y="153720"/>
            <a:ext cx="86900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Exemple de la gestion Prodige des Monuments Historiques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27" name=""/>
          <p:cNvSpPr/>
          <p:nvPr/>
        </p:nvSpPr>
        <p:spPr>
          <a:xfrm>
            <a:off x="179280" y="3600360"/>
            <a:ext cx="2673360" cy="7038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Saisie du périmètre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par le SDAP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5181480"/>
            <a:ext cx="2438280" cy="7038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Consolidation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par la DRAC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40000" y="3959280"/>
            <a:ext cx="3060720" cy="1136880"/>
          </a:xfrm>
          <a:prstGeom prst="rect">
            <a:avLst/>
          </a:prstGeom>
          <a:solidFill>
            <a:srgbClr val="ffe163"/>
          </a:solidFill>
          <a:ln w="468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720" rIns="108720" tIns="65520" bIns="65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  <a:ea typeface="Arial Unicode MS"/>
              </a:rPr>
              <a:t>Dépôt dans Prodige,</a:t>
            </a:r>
            <a:endParaRPr b="0" lang="en-US" sz="22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  <a:ea typeface="Arial Unicode MS"/>
              </a:rPr>
              <a:t> </a:t>
            </a:r>
            <a:r>
              <a:rPr b="1" lang="en-US" sz="2200" spc="-1" strike="noStrike">
                <a:solidFill>
                  <a:srgbClr val="000099"/>
                </a:solidFill>
                <a:latin typeface="Arial"/>
                <a:ea typeface="Arial Unicode MS"/>
              </a:rPr>
              <a:t>maintenance </a:t>
            </a:r>
            <a:endParaRPr b="0" lang="en-US" sz="2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  <a:ea typeface="Arial Unicode MS"/>
              </a:rPr>
              <a:t>	</a:t>
            </a:r>
            <a:r>
              <a:rPr b="1" lang="en-US" sz="2200" spc="-1" strike="noStrike">
                <a:solidFill>
                  <a:srgbClr val="000099"/>
                </a:solidFill>
                <a:latin typeface="Arial"/>
                <a:ea typeface="Arial Unicode MS"/>
              </a:rPr>
              <a:t>et mise à jour</a:t>
            </a:r>
            <a:endParaRPr b="0" lang="en-US" sz="2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53080" y="4495680"/>
            <a:ext cx="2424240" cy="7038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Téléchargement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par la DDT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2514600"/>
            <a:ext cx="3230640" cy="7038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Production de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Porter à connaissance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cxnSp>
        <p:nvCxnSpPr>
          <p:cNvPr id="132" name=""/>
          <p:cNvCxnSpPr>
            <a:stCxn id="127" idx="2"/>
            <a:endCxn id="128" idx="0"/>
          </p:cNvCxnSpPr>
          <p:nvPr/>
        </p:nvCxnSpPr>
        <p:spPr>
          <a:xfrm flipH="1" rot="16200000">
            <a:off x="1085040" y="4742280"/>
            <a:ext cx="870480" cy="8640"/>
          </a:xfrm>
          <a:prstGeom prst="bentConnector3">
            <a:avLst>
              <a:gd name="adj1" fmla="val 49979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8" idx="2"/>
            <a:endCxn id="129" idx="1"/>
          </p:cNvCxnSpPr>
          <p:nvPr/>
        </p:nvCxnSpPr>
        <p:spPr>
          <a:xfrm flipH="1" flipV="1" rot="5400000">
            <a:off x="1699200" y="4373640"/>
            <a:ext cx="1343880" cy="1694880"/>
          </a:xfrm>
          <a:prstGeom prst="bentConnector4">
            <a:avLst>
              <a:gd name="adj1" fmla="val -17015"/>
              <a:gd name="adj2" fmla="val 86679"/>
            </a:avLst>
          </a:prstGeom>
          <a:ln w="38160">
            <a:solidFill>
              <a:srgbClr val="ffcc00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129" idx="2"/>
            <a:endCxn id="130" idx="2"/>
          </p:cNvCxnSpPr>
          <p:nvPr/>
        </p:nvCxnSpPr>
        <p:spPr>
          <a:xfrm flipH="1" rot="16200000">
            <a:off x="6244920" y="3686760"/>
            <a:ext cx="45360" cy="2996280"/>
          </a:xfrm>
          <a:prstGeom prst="bentConnector3">
            <a:avLst>
              <a:gd name="adj1" fmla="val 613600"/>
            </a:avLst>
          </a:prstGeom>
          <a:ln w="38160">
            <a:solidFill>
              <a:srgbClr val="ffcc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30" idx="0"/>
            <a:endCxn id="131" idx="2"/>
          </p:cNvCxnSpPr>
          <p:nvPr/>
        </p:nvCxnSpPr>
        <p:spPr>
          <a:xfrm flipV="1" rot="16200000">
            <a:off x="6798600" y="3528360"/>
            <a:ext cx="1270440" cy="664200"/>
          </a:xfrm>
          <a:prstGeom prst="bentConnector3">
            <a:avLst>
              <a:gd name="adj1" fmla="val 50000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179280" y="2006640"/>
            <a:ext cx="4140360" cy="7038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Groupe de Production :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spécifications de cohérences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cxnSp>
        <p:nvCxnSpPr>
          <p:cNvPr id="137" name=""/>
          <p:cNvCxnSpPr>
            <a:stCxn id="136" idx="2"/>
            <a:endCxn id="127" idx="0"/>
          </p:cNvCxnSpPr>
          <p:nvPr/>
        </p:nvCxnSpPr>
        <p:spPr>
          <a:xfrm rot="5400000">
            <a:off x="1440720" y="2792160"/>
            <a:ext cx="883440" cy="734400"/>
          </a:xfrm>
          <a:prstGeom prst="bentConnector3">
            <a:avLst>
              <a:gd name="adj1" fmla="val 49979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Que trouve-t-on actuellement ?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griculture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lieux de détention d’animaux,</a:t>
            </a: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 …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orêt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forêts relevant de la gestion de l’ONF, 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Nature, paysage, biodiversité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ZNIEFF, APPB, 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oncier, sol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unités pastora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isques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zonages des PPR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ménagement et urbanisme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SCOT, Loi Montagne, …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éseau énergie divers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lignes à haute 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ites industriels de production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ICP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ulture, société, services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établissements d’enseignements agrico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Données génériques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EPCI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Fonctionnalités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Gestion du patrimoine de donné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réation et mise à jour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atalogage et description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artographie en lign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sultation dynamique de cart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utilisation des données à distance sans téléchargemen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éléchargement de donné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Fonctionnalités : le catalogue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4295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ccès aux données par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le parcours de l’arborescen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un module de recherche simplifiée ou avancé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rvice de consultation des fich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e description rapide des séries de donné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e métadonnées plus détaillée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mpression des fich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rcRect l="0" t="12508" r="19986" b="2433"/>
          <a:stretch/>
        </p:blipFill>
        <p:spPr>
          <a:xfrm>
            <a:off x="4572000" y="2057400"/>
            <a:ext cx="4572000" cy="36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Fonctionnalités : la cartographie dynamique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4487760" cy="44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uthentification requise pour accéder au module de cartographi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Ouverture de la carte sur la région; accès rapide (département, commune, EPCI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jout de données « distantes »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nctions d’interactivité : interrogation, sélection d’objets, zones tampons, mesures..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Édition de cartes réutilisées comme illustrations dans un docum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4069" r="11654" b="2290"/>
          <a:stretch/>
        </p:blipFill>
        <p:spPr>
          <a:xfrm>
            <a:off x="4648320" y="2057400"/>
            <a:ext cx="4495680" cy="32479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638680" y="4646520"/>
            <a:ext cx="2590920" cy="221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Fonctionnalités : le téléchargement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4295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uthentification requise pour accéder au module de téléchargemen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onction « Ajouter au panier » sur la page de description d’un lot de donné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écupération de données pour alimenter un SIG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13379" r="2001" b="3679"/>
          <a:stretch/>
        </p:blipFill>
        <p:spPr>
          <a:xfrm>
            <a:off x="4648320" y="1981080"/>
            <a:ext cx="4495680" cy="28450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rcRect l="14747" t="24675" r="4153" b="30931"/>
          <a:stretch/>
        </p:blipFill>
        <p:spPr>
          <a:xfrm>
            <a:off x="5105520" y="4876920"/>
            <a:ext cx="3706560" cy="1515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Aspects financiers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nvestissement globa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50 000 € TTC (v1) financés par Rhône-Alp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30 000 € TTC (v2 et divers) financés par 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Pays-de-la-Loir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45 000 € TTC (v3)  financés par le MEEDDM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nctionnement Rhône-Alpes (coûts 2009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maintenance incluse dans la garantie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hébergement sécurisé externalisé : 20 000 € TTC /an en Rhône-Alpes.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Sommaire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bjectifs et enjeux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Historiqu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rganisation - pilotag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onnées et cadre de cohérenc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nctionnalité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spects financier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ditions de réussit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erspectives d’évolution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Conditions de réussite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Le management est plus important que la techniqu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imation et cohérence régionale interministérielle par le SGAR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rise en compte de Prodige par chacun des servic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dès la production des données penser cadre de cohérence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dans l’organisation de son système d’information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dans les moyens humains à y consacrer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Diapo suivante statistiques 2009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86400" y="5486400"/>
            <a:ext cx="533520" cy="304920"/>
          </a:xfrm>
          <a:custGeom>
            <a:avLst/>
            <a:gdLst>
              <a:gd name="textAreaLeft" fmla="*/ 83160 w 533520"/>
              <a:gd name="textAreaRight" fmla="*/ 466920 w 5335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d41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Statistiques de connexion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304920" y="1562040"/>
          <a:ext cx="8610480" cy="503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562040"/>
                    <a:ext cx="8610480" cy="50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Actualités et évolutions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Ouverture partenair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late forme v3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ssaimag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Nouveaux lots de donné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Nouveaux espaces départementaux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space éditorial sur Territoria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a Lettr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Démonstration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Arial"/>
                <a:hlinkClick r:id="rId1"/>
              </a:rPr>
              <a:t>http://prodige.rhone-alpes.gouv.fr/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ogin de consultation: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Mot de passe :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Qu’est ce que Prodige Rhône-Alpes?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tranet pour le partage d’un patrimoine commun de données géographiques,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late-forme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égionale,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nterdépartementale,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nterministérielle,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RODIGE RA s’inscrit parfaitement dans la RGPP en permettant de mutualiser les données, les méthodes et les outils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Finalités, objectifs et enjeux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nalités pour les servic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ieux connaître les territoires et leurs interactions,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ieux gérer, suivre et évaluer les politiques publiques,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nforcer la prise en charge des situations de crise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bjectif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éfinir, construire et partager des outils, des méthodes et un patrimoine de données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njeux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isposer d’un dispositif opérationnel,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ouvoir s’appuyer sur des données à jour, de qualité et cohérentes entre elles,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être capable de mutualiser les moyens et les effor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Historique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003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: décision du préfet de région de développer une plate forme SIG des       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 services de l’État en Rhône Alpe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004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: étude de faisabilité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005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: numérisation des données métiers et consultation pour l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        développement de la plate-forme techniqu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006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: développement de la plate-forme et mise en ligne de la version 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007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: mai – ouverture aux SDI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octobre – circulaire relative à l’essaimage de PRODIG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008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: mise en ligne de la version 2 et ouverture des espaces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départementaux (Ain et Isère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009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: mars - ouverture aux établissement public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mai - élargissement des services de l’État (prise en compte de la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RGPP) et des thématiques (nomenclature COVADIS)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novembre - lancement du développement de la V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Organisation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Niveau de pilotag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au niveau régional : comité de pilotage et CAR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au niveau départemental : comités de pilotage ou collèges des chefs de services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Mise en œuvre des décisions au sein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d’un comité de coordination régional Prodige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et de ses déclinaisons départementales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harte d’adhésion pour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les principes généraux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l’organisation et le fonctionnement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les conditions juridiques d’échange de données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304920"/>
            <a:ext cx="9144000" cy="6172200"/>
          </a:xfrm>
          <a:prstGeom prst="rect">
            <a:avLst/>
          </a:prstGeom>
          <a:solidFill>
            <a:srgbClr val="cbd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Schéma d’organisation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914400" y="946800"/>
            <a:ext cx="7257960" cy="5344920"/>
            <a:chOff x="914400" y="946800"/>
            <a:chExt cx="7257960" cy="5344920"/>
          </a:xfrm>
        </p:grpSpPr>
        <p:sp>
          <p:nvSpPr>
            <p:cNvPr id="88" name=""/>
            <p:cNvSpPr/>
            <p:nvPr/>
          </p:nvSpPr>
          <p:spPr>
            <a:xfrm>
              <a:off x="2490840" y="2037600"/>
              <a:ext cx="5681520" cy="425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PRODIGE Rhône-Alpes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649600" y="3564720"/>
              <a:ext cx="5365800" cy="1528560"/>
            </a:xfrm>
            <a:prstGeom prst="rect">
              <a:avLst/>
            </a:prstGeom>
            <a:solidFill>
              <a:srgbClr val="87a5c3">
                <a:alpha val="2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666880" y="5419080"/>
              <a:ext cx="5365800" cy="761760"/>
            </a:xfrm>
            <a:prstGeom prst="rect">
              <a:avLst/>
            </a:prstGeom>
            <a:solidFill>
              <a:srgbClr val="cbd7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649600" y="2473920"/>
              <a:ext cx="5364000" cy="763560"/>
            </a:xfrm>
            <a:prstGeom prst="rect">
              <a:avLst/>
            </a:prstGeom>
            <a:solidFill>
              <a:srgbClr val="ffd41f">
                <a:alpha val="4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965320" y="2583000"/>
              <a:ext cx="2049480" cy="543600"/>
            </a:xfrm>
            <a:prstGeom prst="rect">
              <a:avLst/>
            </a:prstGeom>
            <a:solidFill>
              <a:srgbClr val="ffd4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Comité de pilotage régional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965320" y="4001040"/>
              <a:ext cx="2049480" cy="543600"/>
            </a:xfrm>
            <a:prstGeom prst="rect">
              <a:avLst/>
            </a:prstGeom>
            <a:solidFill>
              <a:srgbClr val="87a5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CCPR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791320" y="2583000"/>
              <a:ext cx="2047680" cy="545040"/>
            </a:xfrm>
            <a:prstGeom prst="rect">
              <a:avLst/>
            </a:prstGeom>
            <a:solidFill>
              <a:srgbClr val="ffd41f">
                <a:alpha val="4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Pré-CAR/ CAR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67120" y="5526720"/>
              <a:ext cx="2044440" cy="548280"/>
            </a:xfrm>
            <a:prstGeom prst="rect">
              <a:avLst/>
            </a:prstGeom>
            <a:solidFill>
              <a:srgbClr val="cbd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CCPD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05360" y="3673800"/>
              <a:ext cx="2048040" cy="545040"/>
            </a:xfrm>
            <a:prstGeom prst="rect">
              <a:avLst/>
            </a:prstGeom>
            <a:solidFill>
              <a:srgbClr val="87a5c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Groupes pour la production des données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05360" y="4437360"/>
              <a:ext cx="2048040" cy="546840"/>
            </a:xfrm>
            <a:prstGeom prst="rect">
              <a:avLst/>
            </a:prstGeom>
            <a:solidFill>
              <a:srgbClr val="87a5c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Groupe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communication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5016600" y="3889800"/>
              <a:ext cx="788760" cy="32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016600" y="4328280"/>
              <a:ext cx="788760" cy="43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016600" y="2799720"/>
              <a:ext cx="774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754440" y="3237480"/>
              <a:ext cx="473040" cy="326880"/>
            </a:xfrm>
            <a:prstGeom prst="upDownArrow">
              <a:avLst>
                <a:gd name="adj1" fmla="val 38630"/>
                <a:gd name="adj2" fmla="val 23704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54440" y="5091840"/>
              <a:ext cx="474840" cy="327240"/>
            </a:xfrm>
            <a:prstGeom prst="upDownArrow">
              <a:avLst>
                <a:gd name="adj1" fmla="val 42435"/>
                <a:gd name="adj2" fmla="val 1247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963880" y="946800"/>
              <a:ext cx="2049480" cy="545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99"/>
                  </a:solidFill>
                  <a:latin typeface="Arial"/>
                </a:rPr>
                <a:t>MEEDDAT/CGDD/MIG</a:t>
              </a:r>
              <a:endParaRPr b="0" lang="en-US" sz="9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9640" y="946800"/>
              <a:ext cx="2046240" cy="5454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99"/>
                  </a:solidFill>
                  <a:latin typeface="Arial"/>
                </a:rPr>
                <a:t>PEGASE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05360" y="1383120"/>
              <a:ext cx="2048040" cy="545400"/>
            </a:xfrm>
            <a:prstGeom prst="rect">
              <a:avLst/>
            </a:prstGeom>
            <a:solidFill>
              <a:srgbClr val="c0c0c0">
                <a:alpha val="7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99"/>
                  </a:solidFill>
                  <a:latin typeface="Arial"/>
                </a:rPr>
                <a:t>SIGLOIRE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16600" y="1164960"/>
              <a:ext cx="47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016600" y="1274040"/>
              <a:ext cx="788760" cy="43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16600" y="1383120"/>
              <a:ext cx="473040" cy="65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070520" y="1601280"/>
              <a:ext cx="1420560" cy="21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</a:rPr>
                <a:t>Coordination</a:t>
              </a:r>
              <a:endParaRPr b="0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14400" y="1164960"/>
              <a:ext cx="789120" cy="21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99"/>
                  </a:solidFill>
                  <a:latin typeface="Arial"/>
                </a:rPr>
                <a:t>National</a:t>
              </a:r>
              <a:endParaRPr b="0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2473920"/>
              <a:ext cx="1576440" cy="54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99"/>
                  </a:solidFill>
                  <a:latin typeface="Arial"/>
                </a:rPr>
                <a:t>Régional</a:t>
              </a:r>
              <a:br>
                <a:rPr sz="800"/>
              </a:br>
              <a:r>
                <a:rPr b="1" lang="en-US" sz="800" spc="-1" strike="noStrike">
                  <a:solidFill>
                    <a:srgbClr val="000099"/>
                  </a:solidFill>
                  <a:latin typeface="Arial"/>
                </a:rPr>
                <a:t>Inter départemental</a:t>
              </a:r>
              <a:br>
                <a:rPr sz="800"/>
              </a:br>
              <a:r>
                <a:rPr b="1" lang="en-US" sz="800" spc="-1" strike="noStrike">
                  <a:solidFill>
                    <a:srgbClr val="000099"/>
                  </a:solidFill>
                  <a:latin typeface="Arial"/>
                </a:rPr>
                <a:t>Interministériel</a:t>
              </a:r>
              <a:endParaRPr b="0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914400" y="4110120"/>
              <a:ext cx="946080" cy="21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99"/>
                  </a:solidFill>
                  <a:latin typeface="Arial"/>
                </a:rPr>
                <a:t>Régional</a:t>
              </a:r>
              <a:endParaRPr b="0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914400" y="5637240"/>
              <a:ext cx="1262160" cy="21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99"/>
                  </a:solidFill>
                  <a:latin typeface="Arial"/>
                </a:rPr>
                <a:t>Départemental</a:t>
              </a:r>
              <a:endParaRPr b="0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791320" y="5564520"/>
              <a:ext cx="2043000" cy="509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Comité de pilotage départemental ou CAD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029200" y="5782680"/>
              <a:ext cx="7747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Le périmètre des acteurs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rvices de l’Ét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Niveau régional : Préfecture de région,  DRAAF, DREAL, ARS, DRAC, DRJSCS, DIRECCT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Niveau départemental : préfectures de départements,  DDI (DDT, DDPP, DDCS), unités territoriales, antennes locales santé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Établissements public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gence eau RMC, BRGM, EPANI, EPORA, ONF…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iers autorisé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DIS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Données  : cadre de cohérence régional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st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données géographiques de l’État hétérogèn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njeux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maîtriser leur productio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Répons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normalisation=mise en cohéren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ilot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CP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Moyen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Groupes de Productio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13:35:32Z</dcterms:created>
  <dc:creator>catherine.perillat</dc:creator>
  <dc:description/>
  <dc:language>en-US</dc:language>
  <cp:lastModifiedBy>Catherine Perillat</cp:lastModifiedBy>
  <dcterms:modified xsi:type="dcterms:W3CDTF">2009-12-14T15:17:18Z</dcterms:modified>
  <cp:revision>81</cp:revision>
  <dc:subject/>
  <dc:title>PRESENTATION</dc:title>
</cp:coreProperties>
</file>